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2E3E-3E90-4D31-AF39-F83AB2A61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CBB8-062C-4B4C-AB9D-6587B080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EF88E-0ECC-4AA4-8395-6D9FCEB2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74680-7133-4611-A1C3-D61D4C1A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52044-4EAA-4118-B005-364A1B30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91FC9-1A63-4114-91A3-ACAC6A61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CC9B9-7925-4427-9B8C-8AF27A78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58A7A-46A9-408A-BAB2-842C6402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C27CE-472E-43DF-9CD2-7A61E29B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3D291-D1C2-444A-AE43-B55A61D8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9CDB3-8F8B-45BE-8B3E-53C19874B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173A5-AD29-4203-B851-5C868D191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3B2D-CA0A-433E-A43D-01D4E1F19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140139-17BF-4695-8E44-E483D666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1DBC1E-DD7E-40A0-8E5C-4E40A76A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7501F-7BAC-4405-AFDB-AD61EAB8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39625-D344-4D30-BE85-24445598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BC1C0-5AD2-4DA8-A78E-7C879852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28E4A-5FAE-4E7B-856E-CD074F46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1E56A-6E88-4C07-896C-EA7AACCE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83E38-BD6A-4CC2-821A-1A1CD6D2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3DC9E-EC68-4B3B-87F2-E5497C80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3A496-96CE-4E45-9ED9-B49D2470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16F9-954E-478A-B2AA-838E3F799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04B9E-0017-4472-9A7B-6E8A03E31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EB0D7-C60F-464F-87A7-0660852C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211C2-5173-44B3-931D-5672EC6D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C6395-D305-43BE-8104-F6FCEDA3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D668C-CBF7-4D54-8E89-BAB33226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5CA35-7D18-4829-A35E-DF6D245E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02ED5-DABA-46CB-9B54-A04E4435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FF910-8A11-4EF0-8D4D-2E13CFF9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38A26-EE24-4975-9324-D2656AB3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62B48-EEB7-4EDA-AB8E-6A8314CA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0FBF-9991-40D4-8E9B-106ABAA5E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7157D-2BDF-4A1E-BF98-05A999A1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CC889-9777-499C-923B-5A83D676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5874A-8B1D-4973-9D55-8E29471B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E688A-3EB5-48D6-8B43-7FCCFAB1B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666984-8DF6-4B5D-84FF-37033EB5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99C7A-0962-46BD-97FE-E80F4DDA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C7C01-7D21-4371-85CC-13D4917D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AC064A-6A58-4BD4-BBF5-D6AC5D83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CB5168-0260-4F67-8348-385F5BBA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4A6CB-C73C-4DB2-B7F9-B719E422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6C2C-6B91-404D-95D8-70EC4AA8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BFEF6-DA5D-4428-865F-E3BF1287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D369A-C76D-4A45-B715-F43F06A5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DF96F-5C92-4D5A-A223-72DF8205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EAC76-B7FE-43FB-B763-AACB295C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DA6703-9F66-4265-9BDF-415D20611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C97FCB-87F2-4392-BF59-9AD640AC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58B00E-F0CA-47EA-A96A-33C0750A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7641BE-5E27-4BA7-A467-70B9A4B6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7B2D53-9F03-4B0F-9275-678D840C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D298F2-5A52-4AF9-9ECB-F4DEB436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5903-F803-4688-993F-98EC8D97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25CAE3-DA8E-4B4A-9361-0F13F5EF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EC2020-905B-40B0-9137-B51A05C9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89E618-3BF2-4F45-8D44-A63985FC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543F47-BE11-48C9-A04F-C6003115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164124-3997-4644-A42E-7C27CCA6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A77A73-C570-46C5-8F81-9D4D7AD5C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D3F947-E8F5-4BAE-BCC1-EE66F045B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2E879A-55FE-452C-BF7B-D48E9A50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46702F-CC39-4D25-BEEA-A2595104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9C2C96-73FE-4D0C-AF99-7F825A17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811C-6B97-405F-931A-603A5B1E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5B998E-0A37-4E60-AFCC-0AAF8638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B67E35-59B5-423D-A27C-B65A4AF8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0CBEC1-2CAC-4B34-AFF9-015CCFF5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112944-DC85-464D-BD73-E827A713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8E6B75-0B37-41A0-A7CC-A9BDA557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211913-A2EE-4B36-B291-757F6BD4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858840-17DA-4D7B-B027-77BDFF01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C2FF11-0708-424F-851A-0AA481B5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E56D76-F914-463A-898E-6DB76CC7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897FCE-40A3-4FA8-AD12-5B5C4D8B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54F5-FB97-43DC-ADA3-0128DDAA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F8FBF2-25DF-4205-B3F5-EBFD4AA4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EC64CB-0875-4742-AF7B-65E54A74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37481D-0820-4C7E-BCF7-9C16BF59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FDCDB2-BFDF-421C-BAD4-542879FA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7016DF-A1E3-442E-9D69-B1E066F8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E2CBAD-BC4C-4260-933B-A2486007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B41408-8B4B-4CE2-A331-FEAE1875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FA58D0-975B-4A63-81E5-D749A8F1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9C8C62-F01F-459B-A511-375FE8F6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7A5A43-4B69-4947-9EAE-03C502962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44F0-72AA-4D40-A8AE-801F81BD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84CDA5-7974-4E54-A8DC-48E17CF4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ADBC99-CE55-4416-8375-C112CCF9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FB71FD-B468-4093-89FB-EDAB1588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BF09ED-B4B2-49E6-B957-B704DBB7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951557-8BD6-46FE-99B6-22DA6519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132821-0A41-4390-BB8C-D7B7C7B4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93B6F9-94BF-4D5B-80F9-EED7C987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BC7E09-C684-4C4B-9A04-FDC917C6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D832D6-17E7-4569-AECF-784F8F09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F9FF24-C3D0-400A-BA41-7B63546F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3E02-63B1-49E3-91ED-68F4E1D7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E3C957-0B1F-44B3-9844-C7E437B9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1F26C6-2BAD-40BF-8C7D-525D34AB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842ED9-0947-4F01-BB32-24A0FC766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DDBD23-B662-4A42-8FBE-64DE61C22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D04D05-60CC-489C-8277-25A3EC79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7FBA68-A3B3-4257-8C61-012C8EA4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1D8143-19F0-4FD5-81CE-857DC705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EB1A70-703F-455E-ABE4-DF6969AD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C00F91-F1A5-4083-B642-2F9D1BDC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1400F5-110D-4CBA-ADEB-32E1269D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5270-ED26-46B1-B4B2-92DA5D0A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141D-C6A7-4958-9BBF-54CA57F6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A9BF77-8085-4E6E-92D8-48EB0C13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C3F785-C70C-47DF-90FC-1AD1AB0A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F8B6FF-DBAC-4766-AA32-FAA5A285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F75562-B75A-444B-A24E-7127DFB8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0134E0-D806-43F7-A4A3-812AD5A1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F716B8-8BFC-4163-B1EE-66BE8190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B65C62-6CB9-44F8-BFE4-A506E4E4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457508-2CB8-4723-B197-B6E48AFE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40ACF4-436A-4F60-907E-F69F9F41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687C39-A202-469B-8A40-138F0F31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23D2-4B8D-4B89-A40B-83881551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A5F257-93B2-48B0-8128-326C11E5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7A23B8-5ADD-45AC-87B6-7E17F5D6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174EAA-481F-4565-AFCE-E2064B5D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316C28-0E0D-4DC5-AD4D-8AE47FAE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FB738E-73B9-4CEB-B6AA-7094FB0C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762DA7-05BC-4BED-9562-55006CCE0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F17E81-1E09-4CC4-894C-C49E37D14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41CE-F4A4-4358-9C14-6009405F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0E9B-8ABF-4E92-A474-C96C1F08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4A78-AA8B-4BB7-93C1-D13CA1E5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5D526-4B77-493A-B246-045BE7119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0621E-431D-4876-8DFA-72B0D386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C73E1-A3EA-4AB7-AC86-538422CF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9A054-2155-44AF-B3DD-BAD2B314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D48E4-B251-45F2-B909-0249855E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35DB-8B0F-4770-9265-723D3711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AD871-F043-4A49-ACC2-B78DA4CB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258EE-A3C0-44ED-A77F-02104BF3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66AD4-C9C0-4DFF-A29F-0D64756A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4827E-F742-4E03-B5BE-7F37D801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A3A8B-6E75-4376-B764-B0405D9A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C2FFE-A9F3-4249-A8D2-15E5E40B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F70FC-D3F9-48C1-A084-4F28D413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CF059-D601-450A-BEE4-56188C48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0DB37-ECF2-4923-BF51-32CDD3A3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14E1C-D00F-434C-B98A-312D49C5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4593-4EA3-468F-8882-306BC4E3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22C09-B8EF-4C4B-8BE2-5C944AE3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DEB59-4829-4D86-A29E-A40AC78F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94763-6FDC-462B-AFCF-CAE64123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449C9-AB0E-4F06-965A-8EEF9575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A27A6-152D-4F8C-B9E8-67370ACA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80A4C-33FA-4B3C-88FB-3F5A4910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23FDC-1687-42E1-A97A-BCB79BDF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90431-D664-49C9-8E50-54CEBE0D1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38801-FC84-45FB-97EA-E8CAA12C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D36D6-C6F4-4E47-957D-7ADB98F4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AF4F-9D54-44B0-814D-772B02FB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8588E-433E-4494-BA86-AE175F01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5326B-B04F-4873-9D07-14D5EE2E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0A695-E2E1-4CB3-9A62-23390FD6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1514D-5C2A-48EB-A051-D0EAFB7E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9CC61-AB35-4550-A126-A011D24A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A2BF8-13A3-4896-B428-E1AB3F70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AE3F9-B878-4DE1-B794-C69C60B6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A9B0A-5743-4371-BAB9-2E4004A9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D392C-5E3D-4574-981C-E700082F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C3702-C0C6-49DC-B707-90A3B8635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F432-452E-441F-84A3-FCC4575E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2AB72-D496-48B3-933B-6617AB15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350FB-90B9-4C53-94E7-F0B1606E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1457D-FD15-4364-8FC9-CDD14CF4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DD8C8-1A6A-4A56-B706-A0353A00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3CF51-8FAE-4CA3-B574-89C6F1D6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8B8A0-B1DB-4F81-87C8-43030599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15FC9-9BAD-443A-9479-E324A5EE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D5289-A740-4753-A742-BE1E41EE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AD325-6929-420C-9D89-7CE4A967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A5D76-608F-4281-B8DE-B02ECDE5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3DBE-E9FE-4994-8163-FC848750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FBB34-DB86-492B-9F01-FB5CEBA4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745EE-24CC-4284-929C-2C9DFC06C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5BEB1-2191-4D2F-B26F-CDE99665F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796A2-9F8C-480F-BF36-76607AF02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A3949-98AF-4DE3-A222-4B12A6B0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A0AD0-C4F7-4587-BAB0-A4B68294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99F76-B56B-45F5-80B2-BD5A7E11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B0398-DB6B-443E-8978-87E1B8BB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74333-4BC9-46F4-9C0A-FB20A68B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BF071-1A9E-40C2-9B26-13E9CAC5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74F0-4D81-4FFA-A560-C6908686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342B1-D25F-47FB-ACDE-62C4CBC3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67ABE-496A-41FB-9D9A-88E18DDC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77261-E230-477C-B42A-D3DF6BF9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83D1B-624F-4AF1-9A98-3A6E3D311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165F3-1692-4BE5-B0C3-5D77A2A33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2B98D-3A42-4AB1-A74E-8EB5F10B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21515-8A67-4521-B3BF-73A58216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9A47C-C85C-4B0E-8AAA-B2B4D4BF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0C9FB-3669-4864-A413-C442DB9A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26C90-6CF5-47FC-958B-199C8CFF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BBD4-4144-46E7-986C-DD537B8E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91217-37B4-4F26-B10D-D43EBA96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FC6FD-5015-440D-A8D4-92E6E30E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7FBD1-8F80-4AD5-BA21-49EA65B6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88FBE-4C87-4444-8F2F-3FE08EDB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1630D-3E11-4CC8-94A8-900506BC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376B1-286D-4A89-B662-ED5FC8CB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1836D-6538-4FBA-B0BC-373A9242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41115-C682-4421-A192-63D9692C9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9B318-20F2-4786-B6B9-9579A8A1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EE654-DC14-4333-B6EF-589E8588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FE53-A2FF-472E-B214-BA4CB895FCB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C668-D92D-477F-B408-318D082F0BA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96DE-B1B0-4BBF-AFFE-4CCB4A00155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668C-D300-4F2C-BF0C-A68ECCB2641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62C5-B88A-4E23-8997-E0DFC2D8BF0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ADF5-F51D-495D-BCDE-C1928C4A07B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3AFF-C85C-41E2-97FC-DB01F677D50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7088-B26B-4539-A484-0596D6CEB6C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3AF6-C251-4063-9170-A9094C5EE23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EED3-6EDA-4110-A502-E577F9686D7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A7D5-C52B-41B7-80F4-66BD4D144E9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00D1-5422-415C-8542-117B8EA4948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5061-D5F9-4C94-83C1-DBC97BCBA4C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5E85-ED5C-4D17-B6C4-2D72BFFC3A8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6A60-3025-4ACB-843C-AA664494617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4393-3260-4FBB-9F1A-B0D62AB0191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BC74-97C2-4225-B139-A4AFFB66A8D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AE37-C56D-47BB-A9AA-73454FEB1B8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on.gov.ua/" TargetMode="External"/><Relationship Id="rId2" Type="http://schemas.openxmlformats.org/officeDocument/2006/relationships/hyperlink" Target="http://kharkivosvita.net.ua/" TargetMode="External"/><Relationship Id="rId3" Type="http://schemas.openxmlformats.org/officeDocument/2006/relationships/hyperlink" Target="http://www.testportal.gov.ua/" TargetMode="External"/><Relationship Id="rId4" Type="http://schemas.openxmlformats.org/officeDocument/2006/relationships/hyperlink" Target="http://zno-kharkiv.org.ua/" TargetMode="External"/><Relationship Id="rId5" Type="http://schemas.openxmlformats.org/officeDocument/2006/relationships/hyperlink" Target="http://ruodzer.narod.ru/" TargetMode="External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" TargetMode="External"/><Relationship Id="rId2" Type="http://schemas.openxmlformats.org/officeDocument/2006/relationships/hyperlink" Target="http://ostriv.in.ua/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778040" y="3276360"/>
            <a:ext cx="7362720" cy="29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Тема. Призначення і структура мережі Інтернет. Служби Інтернету. Всесвітня павутина. Адресація в Інтернеті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45" name="Рисунок 1" descr=""/>
          <p:cNvPicPr/>
          <p:nvPr/>
        </p:nvPicPr>
        <p:blipFill>
          <a:blip r:embed="rId1"/>
          <a:stretch/>
        </p:blipFill>
        <p:spPr>
          <a:xfrm>
            <a:off x="1784520" y="304920"/>
            <a:ext cx="5715000" cy="28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Якість доступу до мережі Інтернет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8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Потреба у збільшенні швидкості передавання даних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Це можливо шляхом прокладання нових магістральних каналів зв'язку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Адресація в Інтернеті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Century Gothic"/>
              </a:rPr>
              <a:t>ІР-адреси (</a:t>
            </a:r>
            <a:r>
              <a:rPr b="0" lang="en-US" sz="2600" spc="-1" strike="noStrike">
                <a:solidFill>
                  <a:srgbClr val="404040"/>
                </a:solidFill>
                <a:latin typeface="Century Gothic"/>
              </a:rPr>
              <a:t>Internet Protocol Address) – </a:t>
            </a:r>
            <a:r>
              <a:rPr b="0" lang="uk-UA" sz="2600" spc="-1" strike="noStrike">
                <a:solidFill>
                  <a:srgbClr val="404040"/>
                </a:solidFill>
                <a:latin typeface="Century Gothic"/>
              </a:rPr>
              <a:t>адреси комп'ютерів у мережі Інтернет згідно з Інтернет-протоколом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Century Gothic"/>
              </a:rPr>
              <a:t>ІР-адреса складається з 4-х чисел від 0 до 255 кожне, розділене крапками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 u="sng">
                <a:solidFill>
                  <a:srgbClr val="404040"/>
                </a:solidFill>
                <a:uFillTx/>
                <a:latin typeface="Century Gothic"/>
              </a:rPr>
              <a:t>Приклади: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Century Gothic"/>
              </a:rPr>
              <a:t>66.249.93.104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Century Gothic"/>
              </a:rPr>
              <a:t>193.109.248.70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Century Gothic"/>
              </a:rPr>
              <a:t>82.144.233.61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Стандарти ІР-адресації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IPv4</a:t>
            </a: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 (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Internet Protocol version 4)</a:t>
            </a: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 – стандарт, у якому використовуються 4 цілих числа від 0 до 255, розділених крапками (протокол Інтернету версії 4)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Можливість використання понад 4 млрд. унікальних адрес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Стандарти ІР-адресації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4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IPv6 </a:t>
            </a:r>
            <a:r>
              <a:rPr b="0" lang="uk-UA" sz="2000" spc="-1" strike="noStrike">
                <a:solidFill>
                  <a:srgbClr val="404040"/>
                </a:solidFill>
                <a:latin typeface="Century Gothic"/>
              </a:rPr>
              <a:t> (</a:t>
            </a: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Internet Protocol version 6)</a:t>
            </a:r>
            <a:r>
              <a:rPr b="0" lang="uk-UA" sz="2000" spc="-1" strike="noStrike">
                <a:solidFill>
                  <a:srgbClr val="404040"/>
                </a:solidFill>
                <a:latin typeface="Century Gothic"/>
              </a:rPr>
              <a:t> – новий стандарт, у зв'язку із стрімким ростом користувачів Інтернету задля унеможливлення завершення вільних ІР-адрес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000" spc="-1" strike="noStrike">
                <a:solidFill>
                  <a:srgbClr val="404040"/>
                </a:solidFill>
                <a:latin typeface="Century Gothic"/>
              </a:rPr>
              <a:t>Цей стандарт передбачає для запису ІР-адрес 8 цілих чисел від 0 до 65 535, розділених двокрапками (протокол Інтернету версії 6)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IPv6 </a:t>
            </a:r>
            <a:r>
              <a:rPr b="0" lang="uk-UA" sz="2000" spc="-1" strike="noStrike">
                <a:solidFill>
                  <a:srgbClr val="404040"/>
                </a:solidFill>
                <a:latin typeface="Century Gothic"/>
              </a:rPr>
              <a:t>адреси показуються як вісім груп по чотири шістнадцяткові цифри, розділених двокрапками. Приклад адреси: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000" spc="-1" strike="noStrike">
                <a:solidFill>
                  <a:srgbClr val="404040"/>
                </a:solidFill>
                <a:latin typeface="Century Gothic"/>
              </a:rPr>
              <a:t>      </a:t>
            </a:r>
            <a:r>
              <a:rPr b="1" lang="uk-UA" sz="2000" spc="-1" strike="noStrike">
                <a:solidFill>
                  <a:srgbClr val="404040"/>
                </a:solidFill>
                <a:latin typeface="Century Gothic"/>
              </a:rPr>
              <a:t>2001:0</a:t>
            </a:r>
            <a:r>
              <a:rPr b="1" lang="en-US" sz="2000" spc="-1" strike="noStrike">
                <a:solidFill>
                  <a:srgbClr val="404040"/>
                </a:solidFill>
                <a:latin typeface="Century Gothic"/>
              </a:rPr>
              <a:t>db8:11a3:09d7:1f34:8a2e:07a0:765d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900" spc="-1" strike="noStrike">
                <a:solidFill>
                  <a:srgbClr val="262626"/>
                </a:solidFill>
                <a:latin typeface="Century Gothic"/>
              </a:rPr>
              <a:t>Практична робота. Алгоритм перегляду </a:t>
            </a:r>
            <a:r>
              <a:rPr b="0" lang="en-US" sz="2900" spc="-1" strike="noStrike">
                <a:solidFill>
                  <a:srgbClr val="262626"/>
                </a:solidFill>
                <a:latin typeface="Century Gothic"/>
              </a:rPr>
              <a:t>IP-</a:t>
            </a:r>
            <a:r>
              <a:rPr b="0" lang="uk-UA" sz="2900" spc="-1" strike="noStrike">
                <a:solidFill>
                  <a:srgbClr val="262626"/>
                </a:solidFill>
                <a:latin typeface="Century Gothic"/>
              </a:rPr>
              <a:t>адреси комп'ютера 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Відкрити вікно Мережне оточенн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Вибрати команду Показати мережні підключення у списку Мережні завданн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Відкрити вікно Підключення локальною мережею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Обрати команду Підтримк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Обрати кнопку закрити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Вигляд вікна перегляду ІР-адрес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78" name="Рисунок 3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7227720" cy="43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Доменні адреси в мережі Інтернет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0" name=""/>
          <p:cNvSpPr txBox="1"/>
          <p:nvPr/>
        </p:nvSpPr>
        <p:spPr>
          <a:xfrm>
            <a:off x="1828440" y="19047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ІР-адреса веб-ресурсу – 193.293.159.109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Доменна адреса –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photographers.com.u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81" name="Рисунок 2" descr=""/>
          <p:cNvPicPr/>
          <p:nvPr/>
        </p:nvPicPr>
        <p:blipFill>
          <a:blip r:embed="rId1"/>
          <a:stretch/>
        </p:blipFill>
        <p:spPr>
          <a:xfrm>
            <a:off x="1219320" y="2819520"/>
            <a:ext cx="7113600" cy="38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Доменні адрес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Адреса ресурсу в мережі, яка записана з використанням слів або їх скорочень, що розділені крапкою, називається доменним іменем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Доменн</a:t>
            </a: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і імена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5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Century Gothic"/>
              </a:rPr>
              <a:t>Міністерство освіти і науки України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 u="sng">
                <a:solidFill>
                  <a:srgbClr val="fb4a18"/>
                </a:solidFill>
                <a:uFillTx/>
                <a:latin typeface="Century Gothic"/>
                <a:hlinkClick r:id="rId1"/>
              </a:rPr>
              <a:t>http://www.mon.gov.ua/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Century Gothic"/>
              </a:rPr>
              <a:t>Управління освіти Харківської міської ради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 u="sng">
                <a:solidFill>
                  <a:srgbClr val="fb4a18"/>
                </a:solidFill>
                <a:uFillTx/>
                <a:latin typeface="Century Gothic"/>
                <a:hlinkClick r:id="rId2"/>
              </a:rPr>
              <a:t>http://kharkivosvita.net.ua/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Century Gothic"/>
              </a:rPr>
              <a:t>Український центр оцінювання якості освіти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 u="sng">
                <a:solidFill>
                  <a:srgbClr val="fb4a18"/>
                </a:solidFill>
                <a:uFillTx/>
                <a:latin typeface="Century Gothic"/>
                <a:hlinkClick r:id="rId3"/>
              </a:rPr>
              <a:t>http://www.testportal.gov.ua/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Century Gothic"/>
              </a:rPr>
              <a:t>Харківський регіональний центр оцінювання якості освіти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 u="sng">
                <a:solidFill>
                  <a:srgbClr val="fb4a18"/>
                </a:solidFill>
                <a:uFillTx/>
                <a:latin typeface="Century Gothic"/>
                <a:hlinkClick r:id="rId4"/>
              </a:rPr>
              <a:t>http://zno-kharkiv.org.ua/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Century Gothic"/>
              </a:rPr>
              <a:t>Управління освіти Дзержинської районної у м. Харкові ради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 u="sng">
                <a:solidFill>
                  <a:srgbClr val="fb4a18"/>
                </a:solidFill>
                <a:uFillTx/>
                <a:latin typeface="Century Gothic"/>
                <a:hlinkClick r:id="rId5"/>
              </a:rPr>
              <a:t>http://ruodzer.narod.ru/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Доменн</a:t>
            </a: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і імена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 u="sng">
                <a:solidFill>
                  <a:srgbClr val="404040"/>
                </a:solidFill>
                <a:uFillTx/>
                <a:latin typeface="Century Gothic"/>
              </a:rPr>
              <a:t>Вікіпедія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Century Gothic"/>
              </a:rPr>
              <a:t>Проект зі створення повноцінної і точної енциклопедії для дорослих та дітей - </a:t>
            </a:r>
            <a:r>
              <a:rPr b="0" lang="ru-RU" sz="1900" spc="-1" strike="noStrike" u="sng">
                <a:solidFill>
                  <a:srgbClr val="fb4a18"/>
                </a:solidFill>
                <a:uFillTx/>
                <a:latin typeface="Century Gothic"/>
                <a:hlinkClick r:id="rId1"/>
              </a:rPr>
              <a:t>http://ru.wikipedia.org/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 u="sng">
                <a:solidFill>
                  <a:srgbClr val="404040"/>
                </a:solidFill>
                <a:uFillTx/>
                <a:latin typeface="Century Gothic"/>
              </a:rPr>
              <a:t>Острів знань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Century Gothic"/>
              </a:rPr>
              <a:t>Шкільний Інтернет-портал, де все для навчання і не тільки: багато корисного як для учнів і батьків, так і для вчителів - </a:t>
            </a:r>
            <a:r>
              <a:rPr b="0" lang="ru-RU" sz="1900" spc="-1" strike="noStrike" u="sng">
                <a:solidFill>
                  <a:srgbClr val="fb4a18"/>
                </a:solidFill>
                <a:uFillTx/>
                <a:latin typeface="Century Gothic"/>
                <a:hlinkClick r:id="rId2"/>
              </a:rPr>
              <a:t>http://ostriv.in.ua/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 u="sng">
                <a:solidFill>
                  <a:srgbClr val="404040"/>
                </a:solidFill>
                <a:uFillTx/>
                <a:latin typeface="Century Gothic"/>
              </a:rPr>
              <a:t>Шкільна Інтернет-бібліотека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Century Gothic"/>
              </a:rPr>
              <a:t>Проект організовано управлінням освіти Харківської міської ради. Цікаві програми вільного використання, корисні посилання на Інтернет-ресурси, повнотекстові літературні архіви - http://kharkivosvita.net.ua/content/4/40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Розгляд питань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Призначення й структура мережі Інтернет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Адресація в Інтернеті, поняття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IP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-</a:t>
            </a: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адреси, доменного імені та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URL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-</a:t>
            </a: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адреси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Протоколи Інтернету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Способи підключення до Інтернету, функції провайдера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Система доменних імен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2133720" y="1600200"/>
            <a:ext cx="6705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У системі доменних імен визначені зони – домен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Власниками доменних імен можуть бути країни, регіони, організації або окремі особ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Частина доменного імені, що записана після останньої крапки, є доменом верхнього рівня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Домени верхнього рівня визначені міжнародною угодою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Домени верхнього рівня поділяють на два види – функціональні (за сферою діяльності) та національні (за приналежністю до країни)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Види доменів верхнього рівня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1676160" y="1914480"/>
            <a:ext cx="314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 u="sng">
                <a:solidFill>
                  <a:srgbClr val="404040"/>
                </a:solidFill>
                <a:uFillTx/>
                <a:latin typeface="Century Gothic"/>
              </a:rPr>
              <a:t>Функціональні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edu 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– 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освітні організації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с</a:t>
            </a: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om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 – комерційні організації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net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 – організації, повязані з мережею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gov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 – урядові організації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org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 – некомерційні організації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5638320" y="2057400"/>
            <a:ext cx="314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 u="sng">
                <a:solidFill>
                  <a:srgbClr val="404040"/>
                </a:solidFill>
                <a:uFillTx/>
                <a:latin typeface="Century Gothic"/>
              </a:rPr>
              <a:t>Національні домени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ua - 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Україна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ru 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- Росія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eu 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- Європа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us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 - США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de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 - Німеччина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DNS</a:t>
            </a: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 (</a:t>
            </a: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Domain Name System) </a:t>
            </a: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– система доменних імен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Зіставлення доменних імен і ІР-адрес виконується автоматично спеціальною мережнею службою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DNS</a:t>
            </a: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95" name="Рисунок 1" descr=""/>
          <p:cNvPicPr/>
          <p:nvPr/>
        </p:nvPicPr>
        <p:blipFill>
          <a:blip r:embed="rId1"/>
          <a:stretch/>
        </p:blipFill>
        <p:spPr>
          <a:xfrm>
            <a:off x="4724280" y="3200400"/>
            <a:ext cx="3229200" cy="3067200"/>
          </a:xfrm>
          <a:prstGeom prst="rect">
            <a:avLst/>
          </a:prstGeom>
          <a:ln w="0">
            <a:noFill/>
          </a:ln>
        </p:spPr>
      </p:pic>
      <p:pic>
        <p:nvPicPr>
          <p:cNvPr id="1296" name="Рисунок 2" descr=""/>
          <p:cNvPicPr/>
          <p:nvPr/>
        </p:nvPicPr>
        <p:blipFill>
          <a:blip r:embed="rId2"/>
          <a:stretch/>
        </p:blipFill>
        <p:spPr>
          <a:xfrm>
            <a:off x="1495440" y="3200400"/>
            <a:ext cx="3228840" cy="30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Адресація інформаційних ресурсів у мережі Інтернет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8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Адреса інформаційного ресурсу в мережі Інтернет називається його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URL</a:t>
            </a: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-адресою (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Uniform (Universal) Resource Locator </a:t>
            </a: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– фіксований (універсальний) вказник місцезнаходження ресурсу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Запис </a:t>
            </a: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URL</a:t>
            </a: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-адрес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У записі </a:t>
            </a: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URL</a:t>
            </a: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-адреси вказують назву протоколу, за правилами якого буде передаватися файл мережею, і шлях до ресурсу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Century Gothic"/>
              </a:rPr>
              <a:t>Шлях до ресурсу буде включати доменне ім'я або ІР-адресу, шлях до файлу на самому комп'ютері та ім'я файлу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Запис </a:t>
            </a: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URL</a:t>
            </a: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-адрес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45720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Протокол:</a:t>
            </a: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//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 доменне ім'я </a:t>
            </a: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/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шлях до файлу </a:t>
            </a: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/</a:t>
            </a:r>
            <a:r>
              <a:rPr b="0" lang="uk-UA" sz="2400" spc="-1" strike="noStrike">
                <a:solidFill>
                  <a:srgbClr val="404040"/>
                </a:solidFill>
                <a:latin typeface="Century Gothic"/>
              </a:rPr>
              <a:t> ім'я файлу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03" name="Рисунок 1" descr=""/>
          <p:cNvPicPr/>
          <p:nvPr/>
        </p:nvPicPr>
        <p:blipFill>
          <a:blip r:embed="rId1"/>
          <a:stretch/>
        </p:blipFill>
        <p:spPr>
          <a:xfrm>
            <a:off x="76320" y="1981080"/>
            <a:ext cx="9144000" cy="49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Способи підключення до мережі Інтернет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2438280" y="1978200"/>
            <a:ext cx="6400800" cy="41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 u="sng">
                <a:solidFill>
                  <a:srgbClr val="404040"/>
                </a:solidFill>
                <a:uFillTx/>
                <a:latin typeface="Century Gothic"/>
              </a:rPr>
              <a:t>Канали підключення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Телефонні канали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Кабельні канали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Канали радіозв'язку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Закріплення набутих знань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609120" y="1599840"/>
            <a:ext cx="38862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1800" spc="-1" strike="noStrike">
                <a:solidFill>
                  <a:srgbClr val="404040"/>
                </a:solidFill>
                <a:latin typeface="Century Gothic"/>
              </a:rPr>
              <a:t>Зазначити помилкові ІР-адреси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195.11.134.178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123.256.123.1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166-166-166-166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191.191.191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76.78.189.189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8" name="Rectangle 3"/>
          <p:cNvSpPr/>
          <p:nvPr/>
        </p:nvSpPr>
        <p:spPr>
          <a:xfrm>
            <a:off x="4343400" y="1600200"/>
            <a:ext cx="38862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1800" spc="-1" strike="noStrike">
                <a:solidFill>
                  <a:srgbClr val="404040"/>
                </a:solidFill>
                <a:latin typeface="Century Gothic"/>
              </a:rPr>
              <a:t>Зазначити помилкові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web </a:t>
            </a:r>
            <a:r>
              <a:rPr b="1" lang="uk-UA" sz="1800" spc="-1" strike="noStrike">
                <a:solidFill>
                  <a:srgbClr val="404040"/>
                </a:solidFill>
                <a:latin typeface="Century Gothic"/>
              </a:rPr>
              <a:t>адрес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entury Gothic"/>
              </a:rPr>
              <a:t>http://shumsk.at.u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entury Gothic"/>
              </a:rPr>
              <a:t>http:/zhnyborody.te.ua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entury Gothic"/>
              </a:rPr>
              <a:t>http://photographers.com.u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entury Gothic"/>
              </a:rPr>
              <a:t>http://photographers.com.ua/topic//fotograf-weerapong-chaipuck-4559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Мережа Інтернет </a:t>
            </a:r>
            <a:br>
              <a:rPr sz="2400"/>
            </a:b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(</a:t>
            </a:r>
            <a:r>
              <a:rPr b="0" lang="en-US" sz="2400" spc="-1" strike="noStrike">
                <a:solidFill>
                  <a:srgbClr val="262626"/>
                </a:solidFill>
                <a:latin typeface="Century Gothic"/>
              </a:rPr>
              <a:t>inter – </a:t>
            </a:r>
            <a:r>
              <a:rPr b="0" lang="uk-UA" sz="2400" spc="-1" strike="noStrike">
                <a:solidFill>
                  <a:srgbClr val="262626"/>
                </a:solidFill>
                <a:latin typeface="Century Gothic"/>
              </a:rPr>
              <a:t>між, </a:t>
            </a:r>
            <a:r>
              <a:rPr b="0" lang="en-US" sz="2400" spc="-1" strike="noStrike">
                <a:solidFill>
                  <a:srgbClr val="262626"/>
                </a:solidFill>
                <a:latin typeface="Century Gothic"/>
              </a:rPr>
              <a:t>network</a:t>
            </a:r>
            <a:r>
              <a:rPr b="0" lang="uk-UA" sz="2400" spc="-1" strike="noStrike">
                <a:solidFill>
                  <a:srgbClr val="262626"/>
                </a:solidFill>
                <a:latin typeface="Century Gothic"/>
              </a:rPr>
              <a:t> мережа; </a:t>
            </a:r>
            <a:br>
              <a:rPr sz="2400"/>
            </a:br>
            <a:r>
              <a:rPr b="0" lang="uk-UA" sz="2400" spc="-1" strike="noStrike">
                <a:solidFill>
                  <a:srgbClr val="262626"/>
                </a:solidFill>
                <a:latin typeface="Century Gothic"/>
              </a:rPr>
              <a:t>об'єднана мережа</a:t>
            </a:r>
            <a:r>
              <a:rPr b="0" lang="en-US" sz="2400" spc="-1" strike="noStrike">
                <a:solidFill>
                  <a:srgbClr val="262626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Найбільша та найвідоміша з глобальних мереж, що об'єднує комп'ютери та комп'ютерні мережі на основі протоколів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CP/IP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а даними ООН </a:t>
            </a: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кількість світових користувачів складає понад 1 млрд., в Україні – понад 8 млн. населенн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Мережні протокол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Century Gothic"/>
              </a:rPr>
              <a:t>Мережний протокол </a:t>
            </a: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— це заснований на стандартах набір правил, що визначає принципи взаємодії комп'ютерів в мережі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Протокол також задає загальні правила взаємодії різноманітних програм, мережевих вузлів чи систем і створює таким чином єдиний простір передачі даних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Хост - будь-який вузол мережі, що відправляє або приймає дані через мережу (host)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Хости взаємодіють між собою також за певними протоколами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Зауваження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Для того, щоб прийняти і обробити відповідним чином повідомлення, необхідно знати як сформовані повідомлення і що вони означають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Прикладами використання різних форматів повідомлень в різних протоколах можуть бути встановлення з'єднання з віддаленою машиною, відправка повідомлень електронною поштою, передача файлів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Зрозуміло, що різні служби використовують різні формати повідомлень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Основа апаратної структури мережі Інтернет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2133360" y="2286000"/>
            <a:ext cx="5808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Backbone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або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vBNS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(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very-high-performance Backbone Network Service – </a:t>
            </a:r>
            <a:r>
              <a:rPr b="0" lang="uk-UA" sz="1800" spc="-1" strike="noStrike">
                <a:solidFill>
                  <a:srgbClr val="404040"/>
                </a:solidFill>
                <a:latin typeface="Century Gothic"/>
              </a:rPr>
              <a:t>найшвидкісна опорна мережна послуга) – високошвидкісні магістральні канали передавання даних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Основа апаратної структури мережі Інтернет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Century Gothic"/>
              </a:rPr>
              <a:t>Передаванням даних цими каналами керують потужні суперкомп'ютери, які утворюють перший рівень доступу до мережі Інтернет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Century Gothic"/>
              </a:rPr>
              <a:t>Організації, що обслуговують ці суперкомп'ютери  є первинними провайдерами (постачальниками) послуг Інтернету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262626"/>
                </a:solidFill>
                <a:latin typeface="Century Gothic"/>
              </a:rPr>
              <a:t>Провайдер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Century Gothic"/>
              </a:rPr>
              <a:t>До первинних провайдерів приєднуються провайдери наступних рівнів, які у свою чергу, забезпечують доступ до каналів Інтернету своїм клієнтам – користувачам, мережам і провайдерам нижчого рівня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600" spc="-1" strike="noStrike">
                <a:solidFill>
                  <a:srgbClr val="404040"/>
                </a:solidFill>
                <a:latin typeface="Century Gothic"/>
              </a:rPr>
              <a:t>За отриманням доступу до мережі Інтернет (підключенням) користувачі звертаються до місцевих Інтернет-провайдрів.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900" spc="-1" strike="noStrike">
                <a:solidFill>
                  <a:srgbClr val="262626"/>
                </a:solidFill>
                <a:latin typeface="Century Gothic"/>
              </a:rPr>
              <a:t>Схема приєднання провайдерів до мережі Інтернет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grpSp>
        <p:nvGrpSpPr>
          <p:cNvPr id="1261" name="Diagram 5"/>
          <p:cNvGrpSpPr/>
          <p:nvPr/>
        </p:nvGrpSpPr>
        <p:grpSpPr>
          <a:xfrm>
            <a:off x="2799000" y="1775520"/>
            <a:ext cx="5300280" cy="4449600"/>
            <a:chOff x="2799000" y="1775520"/>
            <a:chExt cx="5300280" cy="4449600"/>
          </a:xfrm>
        </p:grpSpPr>
        <p:sp>
          <p:nvSpPr>
            <p:cNvPr id="1262" name="_s1028"/>
            <p:cNvSpPr/>
            <p:nvPr/>
          </p:nvSpPr>
          <p:spPr>
            <a:xfrm flipV="1">
              <a:off x="4918680" y="1775520"/>
              <a:ext cx="1060560" cy="889920"/>
            </a:xfrm>
            <a:custGeom>
              <a:avLst/>
              <a:gdLst>
                <a:gd name="textAreaLeft" fmla="*/ 380520 w 1060560"/>
                <a:gd name="textAreaRight" fmla="*/ 680040 w 1060560"/>
                <a:gd name="textAreaTop" fmla="*/ 319320 h 889920"/>
                <a:gd name="textAreaBottom" fmla="*/ 570600 h 88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3eacf">
                <a:alpha val="50000"/>
              </a:srgbClr>
            </a:solidFill>
            <a:ln w="57240">
              <a:solidFill>
                <a:srgbClr val="e3ea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600" spc="-1" strike="noStrike">
                  <a:solidFill>
                    <a:srgbClr val="766f54"/>
                  </a:solidFill>
                  <a:latin typeface="Arial"/>
                </a:rPr>
                <a:t>Первинні провайдер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_s1029"/>
            <p:cNvSpPr/>
            <p:nvPr/>
          </p:nvSpPr>
          <p:spPr>
            <a:xfrm flipV="1">
              <a:off x="4388400" y="2665440"/>
              <a:ext cx="2121480" cy="889920"/>
            </a:xfrm>
            <a:custGeom>
              <a:avLst/>
              <a:gdLst>
                <a:gd name="textAreaLeft" fmla="*/ 466560 w 2121480"/>
                <a:gd name="textAreaRight" fmla="*/ 1654920 w 2121480"/>
                <a:gd name="textAreaTop" fmla="*/ 195480 h 889920"/>
                <a:gd name="textAreaBottom" fmla="*/ 694440 h 88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b9318">
                <a:alpha val="50000"/>
              </a:srgbClr>
            </a:solidFill>
            <a:ln w="57240">
              <a:solidFill>
                <a:srgbClr val="fb93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600" spc="-1" strike="noStrike">
                  <a:solidFill>
                    <a:srgbClr val="766f54"/>
                  </a:solidFill>
                  <a:latin typeface="Arial"/>
                </a:rPr>
                <a:t>Вторинні провайдер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_s1030"/>
            <p:cNvSpPr/>
            <p:nvPr/>
          </p:nvSpPr>
          <p:spPr>
            <a:xfrm flipV="1">
              <a:off x="3859560" y="3555360"/>
              <a:ext cx="3178080" cy="889920"/>
            </a:xfrm>
            <a:custGeom>
              <a:avLst/>
              <a:gdLst>
                <a:gd name="textAreaLeft" fmla="*/ 551520 w 3178080"/>
                <a:gd name="textAreaRight" fmla="*/ 2626560 w 3178080"/>
                <a:gd name="textAreaTop" fmla="*/ 154440 h 889920"/>
                <a:gd name="textAreaBottom" fmla="*/ 735480 h 88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b4a18">
                <a:alpha val="50000"/>
              </a:srgbClr>
            </a:solidFill>
            <a:ln w="57240">
              <a:solidFill>
                <a:srgbClr val="fb4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600" spc="-1" strike="noStrike">
                  <a:solidFill>
                    <a:srgbClr val="766f54"/>
                  </a:solidFill>
                  <a:latin typeface="Arial"/>
                </a:rPr>
                <a:t>Провайдери</a:t>
              </a:r>
              <a:r>
                <a:rPr b="1" lang="en-US" sz="2600" spc="-1" strike="noStrike">
                  <a:solidFill>
                    <a:srgbClr val="766f54"/>
                  </a:solidFill>
                  <a:latin typeface="Arial"/>
                </a:rPr>
                <a:t> </a:t>
              </a:r>
              <a:r>
                <a:rPr b="1" lang="uk-UA" sz="2600" spc="-1" strike="noStrike">
                  <a:solidFill>
                    <a:srgbClr val="766f54"/>
                  </a:solidFill>
                  <a:latin typeface="Arial"/>
                </a:rPr>
                <a:t>інших рівні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_s1031"/>
            <p:cNvSpPr/>
            <p:nvPr/>
          </p:nvSpPr>
          <p:spPr>
            <a:xfrm flipV="1">
              <a:off x="3329280" y="4445280"/>
              <a:ext cx="4239000" cy="889920"/>
            </a:xfrm>
            <a:custGeom>
              <a:avLst/>
              <a:gdLst>
                <a:gd name="textAreaLeft" fmla="*/ 637560 w 4239000"/>
                <a:gd name="textAreaRight" fmla="*/ 3601440 w 4239000"/>
                <a:gd name="textAreaTop" fmla="*/ 133920 h 889920"/>
                <a:gd name="textAreaBottom" fmla="*/ 756000 h 88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a53010">
                <a:alpha val="50000"/>
              </a:srgbClr>
            </a:solidFill>
            <a:ln w="57240">
              <a:solidFill>
                <a:srgbClr val="a530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600" spc="-1" strike="noStrike">
                  <a:solidFill>
                    <a:srgbClr val="766f54"/>
                  </a:solidFill>
                  <a:latin typeface="Arial"/>
                </a:rPr>
                <a:t>Індивідуальні клієнт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_s1032"/>
            <p:cNvSpPr/>
            <p:nvPr/>
          </p:nvSpPr>
          <p:spPr>
            <a:xfrm flipV="1">
              <a:off x="2799000" y="5334480"/>
              <a:ext cx="5300280" cy="890280"/>
            </a:xfrm>
            <a:custGeom>
              <a:avLst/>
              <a:gdLst>
                <a:gd name="textAreaLeft" fmla="*/ 723600 w 5300280"/>
                <a:gd name="textAreaRight" fmla="*/ 4576680 w 5300280"/>
                <a:gd name="textAreaTop" fmla="*/ 121320 h 890280"/>
                <a:gd name="textAreaBottom" fmla="*/ 768960 h 89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de7e18">
                <a:alpha val="50000"/>
              </a:srgbClr>
            </a:solidFill>
            <a:ln w="57240">
              <a:solidFill>
                <a:srgbClr val="de7e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600" spc="-1" strike="noStrike">
                  <a:solidFill>
                    <a:srgbClr val="766f54"/>
                  </a:solidFill>
                  <a:latin typeface="Arial"/>
                </a:rPr>
                <a:t>Мережі-клієнт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іктор Смоляк</dc:creator>
  <dc:description/>
  <dc:language>en-US</dc:language>
  <cp:lastModifiedBy>Смоляк Віктор</cp:lastModifiedBy>
  <dcterms:modified xsi:type="dcterms:W3CDTF">2014-03-07T11:55:03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