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339-E852-4560-8DF1-A0398DF8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1EE-936D-48D9-9677-04512F1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571CE-C03A-45BD-A611-5510DF1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B7EE9-0EF9-49F8-A4D4-30BA3142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2B7B1-FBD5-47A9-80F6-3D055F71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53038-76B1-4B93-B42D-85418787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5B125-1053-4ADF-9D80-B90F69C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FF33D-7863-48C8-A5A5-E241FB5A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77EE4-6990-4644-875C-D7291D59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7EB46-6233-42E2-BA23-16503581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F3C85-664F-4B82-BB58-21F79B8E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15240-F12C-4E2D-9B7D-650FA5F7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113-9A8D-45C9-A1BB-850511DF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9361F-2ABD-4E4D-967A-F381A5B6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42891-05B3-4BC7-B16F-31C4C758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013A9-2A12-492B-8737-22B76555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7DA79-4166-46F7-B6E7-01AACF8F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23879-3A0C-4F04-8F30-0DFE31A1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AE60B-AD2D-4EE9-B985-EB02D5E4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21BDE-9F3C-48A0-8DD7-4586867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D12AE-E66F-445A-B768-F214DFF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EA330-CD38-4C7A-9988-5FFEBC46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BE266-336E-40D1-AB33-48594C61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BDD-B9AC-49A6-9FC4-27D1656A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7F650-BE0C-4330-9A6B-6DD5E5B6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9BC0E-92DE-47BB-8A7B-CB6416B3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609A2-C638-47EE-856D-2BBD7AB9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1F534-03B1-4D8E-9543-9BB6B5F4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69C31-53B9-45A0-85F5-472DE153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32DD4-C9E8-4778-9086-269A893B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AC3E6-E265-490C-8BC8-EA32195B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ECF5B-6CC2-4E12-8D02-8B9E74E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154CA-1A7B-4456-A771-859E74D0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60F81-3EF9-483B-8005-D261F738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48BD-2BEF-45F0-AA47-F240F4D6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DE5D0-91EC-4B42-A1EC-5EB444B0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87FA1-A31F-411B-8F75-8D029256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20500-551D-43E2-BFBB-50903D9D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3A465-53BA-4B32-9D07-5A6353F6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7F095-5E46-4E19-BCD5-C1C13593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D4D60-A9D7-452D-98BC-1864118C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87D46-D407-4B77-9218-10373AE1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5BD44-20E3-49A6-AB3D-35820162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E028F-5DFE-41E9-90BD-2179C6BD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E5D97-FD12-4A55-999C-D2403E67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1449-05AA-46CA-BB70-D2542E39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840CF-0645-44E5-8547-18A370E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BAA49-510A-44C2-AF2B-CBEFAB94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D2B00-2D12-4249-8D0E-1DF71B69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FE681-C5A6-46D2-BA6D-1BE790B8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ACB7D-CCAF-4EF4-B40C-B1F5FF0D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6B23E-CFA5-4DF9-845D-46B685FA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631D9-FCF1-4172-94F5-B7DC9B65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BA59A-F515-49CB-B691-6CED2E1E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1C034-FC67-4A4A-B67E-E96D4AF3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CCABD-68F5-494B-A729-3BBB2C64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2407-B7DE-49D7-AA04-D2B693BA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D8C05-BDAF-4545-B36A-3B4C5EE2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63F0E-CAB9-4C1E-B379-D8277C7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EAE66-E956-4FF1-A27B-62DE9FF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A6FA4-FC35-4A8C-B89C-2B70F97C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B6574-0129-485F-97CB-220551FD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9B159-2E02-43B0-8975-AE82B913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70B1B-C311-4B9B-84CB-FAC99B6E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4140A-7916-42C8-8ABA-9AC0BCA4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1C87C-91CB-4105-8F36-772DD9AF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4321D-91E6-4E76-843B-19D564D0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1193-1CE0-454C-97A9-56A12039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D0AEA-E52A-408E-AF9A-C4E86B92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CECA9-78E7-432D-AD1E-6B825DA3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442B8-2531-4CDD-B2F1-B0E39358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9829E-3C00-473B-AA13-7BCA4A8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CB09B-766F-4300-AD6E-405B5E1C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89790-4860-436C-9671-30E08EFB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0CBFD-983C-4688-8D08-2995CB0F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2A718-EF9C-4A2B-8856-CAF866A4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8B66B-D92F-4E65-B4A5-97AEB3D1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2CED2-CA6C-4031-A939-CB6E5FE0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1701-96D9-40E9-88AA-173942C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A696A-2DA5-405E-896D-ED410EAB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BF92A-BE44-4E20-8769-B958347F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0F214-ECB0-4037-8B5E-FA7FFC21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164D0-9139-41B0-8EC2-4E061E2C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3E494-8850-4A69-B881-3D106B66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F7AF1-86D5-4BB4-AD75-772B14BD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F2242-438D-44CA-8A17-EE9718F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C8CFF-21E3-4DE2-B3C7-CBFAE3AE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8B23D-8478-44FF-8B22-38629B53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8A748-A7E1-43D9-A8DB-A67BB6E5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0807-2AD8-498F-9DAC-673EFA2F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19373-39B8-47AA-9EAF-2FF0E954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3BE272-18E7-4256-B51D-CB2B083C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DB942-8BEB-4174-8FFD-8CE003C8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60E16-C5F2-4655-9D9D-79E21399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DF44D-CAE6-4D6A-82EC-E1F51E38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8AA66-CB2C-4BE4-B7F4-9D61DC8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FE6AF-7AC2-4323-8855-A2E87D67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5B770-6466-4368-8680-EE0AAEF3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18585-CE26-41A3-9CB1-7C071E70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EC31B3-5499-459E-9B10-E6B4A11D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CC1F-CE17-4B7D-946D-BD555F9D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A6C42-6A35-4720-B8CE-2533BF4F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A3057-BD05-40AD-AA54-CE5DDBDF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38DA5-2C36-4BD5-9D49-E9BF99B9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B9605-42D2-4275-9ACB-75B1136D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6F100-731F-4370-AE76-BB1D0CD8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1F766-4684-4245-8ADC-E0DADC7E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2360C-16E4-4D5C-BEA0-23DD4A65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E2322-E353-43A8-8290-324E5736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36212-2151-4D1A-BE1D-F25732C6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CA73A-78AA-46C3-9CC2-41EDB7A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C3B-5E7E-487B-A2FE-F1E06311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BDB9-E857-4413-BEB6-5AF12B8D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2FA6F-5E8D-423D-B26A-076AAE61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C591E-CB63-401A-9767-8E5CFD5F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048D0-8D65-4758-82B9-C8787AB4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C52D98-C0F5-4016-80C0-2FDC71E3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42024-FF93-47D2-AAC2-D8ACFB14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88F3C-0BD2-41D2-9103-27936E31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C546E7-4BB2-4F15-BCDA-1B6F80F4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4433D-8E20-448F-B1B8-D218ABC8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4F85A-5E83-40BD-ABCB-A12C56E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4F82F-8F51-4674-BA7D-73BE94C4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606B-4BB9-4459-BB11-DCBA8F87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5422D-30A9-4475-8B4E-E32CBBCE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C8B2F-56B7-4E5D-8A55-0B758241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DEBB7-DF7F-47E5-AB48-CDEF862F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E6E32-28EB-492A-ABC3-ED7E6D7D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E81FB-0647-4014-8EE3-3E77E391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AE8E6-950E-4921-AC9F-15172D59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8BD1E-4991-41E1-A472-A4FAD216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9DD7-B57B-4EAB-BDC4-D365632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A6C1-DA6A-4781-94F0-AF3D2B64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D74-FDF6-4D30-921C-DD2411DC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4A36-8BB1-41A2-802A-4DB0FC4E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8AC0-6D52-4FB0-BCB7-38B06C26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92DA-95A2-410E-8FDD-CAC4BE12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B377D-8D4E-4D17-A3E6-E765D7C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DF97-A72D-459E-AB69-A28D3417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4D1-41C6-4B5D-894A-9BF630C1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986C-3BDD-4A2A-AD1A-2E7AF24F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2FC9-D2DE-4F7C-9B8B-4E9C588E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6C87-E89B-4CEA-A16A-426FD3A9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6DD2-0897-4D22-8F4C-7086414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2AA1-DBC7-47E3-B18D-14C8BE04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AC12-8497-4A11-B1BF-2947F031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433C2-A416-4D8F-926B-9E51EEB8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5C277-4EFF-470F-BB3F-5FE29D33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46C7-FA02-493E-A2BA-8B51BFE4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E2C7-13D1-4C57-8E9B-201FB79F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061-1FDC-4620-9B14-9DBF5FB7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BAB6-1373-4FA9-ACC5-E8F8E1F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0F1C-00CF-42B5-BA3C-64C5CD2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EF0D-2013-4BB8-B18B-8DBDD2BD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D55B6-0380-4271-AC08-88275C0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AA12F-8B3A-4A81-9F42-F4DD49F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99F5-8359-4CDF-907B-174139D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BC320-3E72-4B12-B0BC-B2C4614A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7C35-AAA0-44CE-BE0B-68C0FEF7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409F-FAD3-47E6-AC7C-AE5B0379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E18EA-E0A7-4660-B658-866B942C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79C-F7BF-40F2-854A-4C0675CB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87E9-F0D7-4ECB-8016-3E9942E4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BA956-A0C7-4A86-8331-41F43C2C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159A8-AD30-4833-93B1-21D56C47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7ED0-B66F-4C6A-8668-E2F0F7A5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62D7-66C7-4B6E-B8B5-C575F168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F717E-3F23-4476-9370-ABD6D7E6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F1C9-B12E-4AF1-8ADA-308BA460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FF4A-F742-4873-ADDA-30DDC35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6F27-714F-4F51-822C-8F73C533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B4A1-9FC9-47A6-BCBF-3FB304B2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1F1-F5EC-4A19-B739-41D3EA5F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2272C-89F7-49A9-BECA-E03E7A77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A9AF1-88A2-4248-A277-EAFCB05D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0FCF3-19FE-429D-8002-F4333C13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05DD6-4C02-4F86-BB0E-17D0103C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573C6-F768-4117-9F4D-CF6F5CBA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4B2C-C557-4F71-B53E-F92473BD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880CC-534B-4698-AB9D-2E06AC27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2AFE-DCE5-4BB1-AC97-EB8C1C4A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6A3D-388B-4A37-BE95-097DB925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1E9E0-EB8F-4E4B-B1B4-8E31C9F1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79D-8423-4B7A-B3C9-E38907B1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5AA38-5A75-47CF-A7F4-213B9851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F90C-1FB4-4508-BC44-E93D2054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A492C-51DE-47D6-A998-52F753A8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E1292-C5CD-4E48-96AF-F49B69D0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76AC2-056F-4F0A-AE3E-7077A4A6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ECAEA-128A-4736-8DEC-1C65CD37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D78A2-DB3C-495F-822B-BD33813F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76C6C-5E14-49D2-97FE-36F3509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553C8-B65B-4F54-B460-5101A0A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865F-A37A-48A2-9418-A6111F8B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53A-A4E0-42B8-AAA5-69AA20E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AC566-BE08-44E6-A843-36FBECB5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431D3-5005-4F62-A683-5B742CD2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98D58-C78C-424E-8E13-0A3B3000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F4088-9030-4227-B204-F196F91C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9318-F784-41CC-BE75-B7176D90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39D24-1791-49C8-9675-F422E92A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332EF-B7BC-4D4F-928B-26A2809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D09A-1070-4C36-80D6-5252206D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20B20-909E-4EBE-83C2-C1D09B79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C150C-23C6-4A8B-8517-63D7487C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2E5-E85F-4BA9-A674-73016CBF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A8EF1-A23E-4CAA-A290-4CA926E1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C9E58-4A03-4850-A923-1BA8DDE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910EE-C73F-497A-B39F-D027D843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AA411-678F-4ED6-81DC-27F145D3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4FC05-63A5-4CAE-AB04-1FA38312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C5055-3159-4639-A24C-01F4896B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CAD15-6FDD-4E8E-9BA1-9C96FD23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CFF65-0AB7-42E2-A874-C137D72E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8EBA7-1FEC-4DF8-83A3-4973B25D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9F172-BEB6-49A1-AB7B-9D134959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0395-79EE-42DA-B61B-349BEABCAF8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6BCE-C8D9-408D-B866-4D91154F3D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2192-D868-4DA6-BEFA-31CC5F596B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5F59-E2BC-4B4B-894D-98215BA381B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858D-1A8F-401D-86DC-DF540FDC7C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157E-703E-4765-B52A-3C27213F452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B003-BB06-4022-A130-5C86EC44FA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CBFD-E906-48DE-A239-C42E82C832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8B6A-DCE4-47EA-BD48-24664C0439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ED90-A1D2-47C5-A452-F249B1D69E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BC07-6457-4CFD-853D-78EE052AFB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B0AE-9165-4B49-9374-860F671A2C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0D97-AECC-4B8F-B898-A41FCF0293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EE9-23BB-4D4E-8C8F-3C91714016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D338-4857-494A-BB7C-F0CF6CB759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38FC-FDA5-4B1F-96F9-3EF84FBF38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28A2-A8A5-4B27-8127-1DC04F5774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2CAD-69BF-4188-80F3-0B1114A926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on.gov.ua/" TargetMode="External"/><Relationship Id="rId2" Type="http://schemas.openxmlformats.org/officeDocument/2006/relationships/hyperlink" Target="http://kharkivosvita.net.ua/" TargetMode="External"/><Relationship Id="rId3" Type="http://schemas.openxmlformats.org/officeDocument/2006/relationships/hyperlink" Target="http://www.testportal.gov.ua/" TargetMode="External"/><Relationship Id="rId4" Type="http://schemas.openxmlformats.org/officeDocument/2006/relationships/hyperlink" Target="http://zno-kharkiv.org.ua/" TargetMode="External"/><Relationship Id="rId5" Type="http://schemas.openxmlformats.org/officeDocument/2006/relationships/hyperlink" Target="http://ruodzer.narod.ru/" TargetMode="External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ostriv.in.ua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778040" y="3276360"/>
            <a:ext cx="73627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ема. Призначення і структура мережі Інтернет. Служби Інтернету. Всесвітня павутина. Адресація в Інтернеті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45" name="Рисунок 1" descr=""/>
          <p:cNvPicPr/>
          <p:nvPr/>
        </p:nvPicPr>
        <p:blipFill>
          <a:blip r:embed="rId1"/>
          <a:stretch/>
        </p:blipFill>
        <p:spPr>
          <a:xfrm>
            <a:off x="1784520" y="304920"/>
            <a:ext cx="57150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Якість доступу до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отреба у збільшенні швидкості передавання дан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Це можливо шляхом прокладання нових магістральних каналів зв'яз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Адресація в Інтернеті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ІР-адреси (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nternet Protocol Address) – </a:t>
            </a: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адреси комп'ютерів у мережі Інтернет згідно з Інтернет-протоколом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ІР-адреса складається з 4-х чисел від 0 до 255 кожне, розділене крапками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 u="sng">
                <a:solidFill>
                  <a:srgbClr val="404040"/>
                </a:solidFill>
                <a:uFillTx/>
                <a:latin typeface="Century Gothic"/>
              </a:rPr>
              <a:t>Приклади: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66.249.93.104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193.109.248.70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82.144.233.61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тандарти ІР-адресації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Pv4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ternet Protocol version 4)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 – стандарт, у якому використовуються 4 цілих числа від 0 до 255, розділених крапками (протокол Інтернету версії 4)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Можливість використання понад 4 млрд. унікальних адрес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тандарти ІР-адресації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Pv6 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nternet Protocol version 6)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– новий стандарт, у зв'язку із стрімким ростом користувачів Інтернету задля унеможливлення завершення вільних ІР-адрес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Цей стандарт передбачає для запису ІР-адрес 8 цілих чисел від 0 до 65 535, розділених двокрапками (протокол Інтернету версії 6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Pv6 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адреси показуються як вісім груп по чотири шістнадцяткові цифри, розділених двокрапками. Приклад адреси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1" lang="uk-UA" sz="2000" spc="-1" strike="noStrike">
                <a:solidFill>
                  <a:srgbClr val="404040"/>
                </a:solidFill>
                <a:latin typeface="Century Gothic"/>
              </a:rPr>
              <a:t>2001:0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db8:11a3:09d7:1f34:8a2e:07a0:765d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Практична робота. Алгоритм перегляду </a:t>
            </a:r>
            <a:r>
              <a:rPr b="0" lang="en-US" sz="2900" spc="-1" strike="noStrike">
                <a:solidFill>
                  <a:srgbClr val="262626"/>
                </a:solidFill>
                <a:latin typeface="Century Gothic"/>
              </a:rPr>
              <a:t>IP-</a:t>
            </a: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адреси комп'ютера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ідкрити вікно Мережне оточе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ибрати команду Показати мережні підключення у списку Мережні завда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ідкрити вікно Підключення локальною мережею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Обрати команду Підтрим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Обрати кнопку закрит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Вигляд вікна перегляду ІР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8" name="Рисунок 3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22772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Доменні адреси в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1828440" y="19047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ІР-адреса веб-ресурсу – 193.293.159.109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Доменна адреса –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hotographers.com.u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1" name="Рисунок 2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1136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Доменні 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 ресурсу в мережі, яка записана з використанням слів або їх скорочень, що розділені крапкою, називається доменним імене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менн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і імен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Міністерство освіти і науки Україн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www.mon.gov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правління освіти Харківської міської рад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http://kharkivosvita.net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країнський центр оцінювання якості осві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3"/>
              </a:rPr>
              <a:t>http://www.testportal.gov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Харківський регіональний центр оцінювання якості осві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4"/>
              </a:rPr>
              <a:t>http://zno-kharkiv.org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правління освіти Дзержинської районної у м. Харкові рад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5"/>
              </a:rPr>
              <a:t>http://ruodzer.narod.ru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менн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і імен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Вікіпеді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Проект зі створення повноцінної і точної енциклопедії для дорослих та дітей -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ru.wikipedia.org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Острів знань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Шкільний Інтернет-портал, де все для навчання і не тільки: багато корисного як для учнів і батьків, так і для вчителів -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http://ostriv.in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Шкільна Інтернет-бібліотек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Проект організовано управлінням освіти Харківської міської ради. Цікаві програми вільного використання, корисні посилання на Інтернет-ресурси, повнотекстові літературні архіви - http://kharkivosvita.net.ua/content/4/40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Розгляд пита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ризначення й структура мережі Інтернет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ція в Інтернеті, поняття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P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и, доменного імені та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ротоколи Інтернет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Способи підключення до Інтернету, функції провайдера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истема доменних імен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 системі доменних імен визначені зони – домен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ласниками доменних імен можуть бути країни, регіони, організації або окремі особ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Частина доменного імені, що записана після останньої крапки, є доменом верхнього рівн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омени верхнього рівня визначені міжнародною угодо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омени верхнього рівня поділяють на два види – функціональні (за сферою діяльності) та національні (за приналежністю до країни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Види доменів верхнього рівн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1676160" y="191448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 u="sng">
                <a:solidFill>
                  <a:srgbClr val="404040"/>
                </a:solidFill>
                <a:uFillTx/>
                <a:latin typeface="Century Gothic"/>
              </a:rPr>
              <a:t>Функціональні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du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освіт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с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m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комерцій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net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організації, повязані з мережею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gov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урядов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rg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некомерцій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638320" y="20574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 u="sng">
                <a:solidFill>
                  <a:srgbClr val="404040"/>
                </a:solidFill>
                <a:uFillTx/>
                <a:latin typeface="Century Gothic"/>
              </a:rPr>
              <a:t>Національні домен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ua -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країн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ru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- Росі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u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- Європ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us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- СШ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e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- Німеччин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NS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 (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omain Name System) 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– система доменних імен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Зіставлення доменних імен і ІР-адрес виконується автоматично спеціальною мережнею службою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NS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95" name="Рисунок 1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3229200" cy="3067200"/>
          </a:xfrm>
          <a:prstGeom prst="rect">
            <a:avLst/>
          </a:prstGeom>
          <a:ln w="0">
            <a:noFill/>
          </a:ln>
        </p:spPr>
      </p:pic>
      <p:pic>
        <p:nvPicPr>
          <p:cNvPr id="1296" name="Рисунок 2" descr=""/>
          <p:cNvPicPr/>
          <p:nvPr/>
        </p:nvPicPr>
        <p:blipFill>
          <a:blip r:embed="rId2"/>
          <a:stretch/>
        </p:blipFill>
        <p:spPr>
          <a:xfrm>
            <a:off x="1495440" y="320040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Адресація інформаційних ресурсів у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 інформаційного ресурсу в мережі Інтернет називається йог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-адресою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niform (Universal) Resource Locator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– фіксований (універсальний) вказник місцезнаходження ресурсу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пис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URL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У записі 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-адреси вказують назву протоколу, за правилами якого буде передаватися файл мережею, і шлях до ресурс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Шлях до ресурсу буде включати доменне ім'я або ІР-адресу, шлях до файлу на самому комп'ютері та ім'я файл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пис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URL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ротокол: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доменне ім'я 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шлях до файлу 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ім'я файл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03" name="Рисунок 1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91440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пособи підключення до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2438280" y="1978200"/>
            <a:ext cx="640080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 u="sng">
                <a:solidFill>
                  <a:srgbClr val="404040"/>
                </a:solidFill>
                <a:uFillTx/>
                <a:latin typeface="Century Gothic"/>
              </a:rPr>
              <a:t>Канали підключення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Телефонні канал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абельні канал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анали радіозв'яз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кріплення набутих зна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609120" y="1599840"/>
            <a:ext cx="3886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Зазначити помилкові ІР-адрес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95.11.134.178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23.256.123.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66-166-166-166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91.191.19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76.78.189.189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Rectangle 3"/>
          <p:cNvSpPr/>
          <p:nvPr/>
        </p:nvSpPr>
        <p:spPr>
          <a:xfrm>
            <a:off x="4343400" y="1600200"/>
            <a:ext cx="3886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Зазначити помилкові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web </a:t>
            </a: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адре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shumsk.at.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zhnyborody.te.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photographers.com.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photographers.com.ua/topic//fotograf-weerapong-chaipuck-455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Мережа Інтернет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(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inter – </a:t>
            </a: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між, 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network</a:t>
            </a: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 мережа; </a:t>
            </a:r>
            <a:br>
              <a:rPr sz="2400"/>
            </a:b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об'єднана мережа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Найбільша та найвідоміша з глобальних мереж, що об'єднує комп'ютери та комп'ютерні мережі на основі протоколів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CP/IP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 даними ООН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ількість світових користувачів складає понад 1 млрд., в Україні – понад 8 млн. населе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Мережні протокол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Мережний протокол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— це заснований на стандартах набір правил, що визначає принципи взаємодії комп'ютерів в мережі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отокол також задає загальні правила взаємодії різноманітних програм, мережевих вузлів чи систем і створює таким чином єдиний простір передачі даних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Хост - будь-який вузол мережі, що відправляє або приймає дані через мережу (host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Хости взаємодіють між собою також за певними протоколам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уваженн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ля того, щоб прийняти і обробити відповідним чином повідомлення, необхідно знати як сформовані повідомлення і що вони означають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икладами використання різних форматів повідомлень в різних протоколах можуть бути встановлення з'єднання з віддаленою машиною, відправка повідомлень електронною поштою, передача файлі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розуміло, що різні служби використовують різні формати повідомлен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Основа апаратної структури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133360" y="2286000"/>
            <a:ext cx="5808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ackbone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аб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vBNS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very-high-performance Backbone Network Service –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найшвидкісна опорна мережна послуга) – високошвидкісні магістральні канали передавання дан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Основа апаратної структури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Передаванням даних цими каналами керують потужні суперкомп'ютери, які утворюють перший рівень доступу до мережі Інтернет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Організації, що обслуговують ці суперкомп'ютери  є первинними провайдерами (постачальниками) послуг Інтернету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Провайдер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До первинних провайдерів приєднуються провайдери наступних рівнів, які у свою чергу, забезпечують доступ до каналів Інтернету своїм клієнтам – користувачам, мережам і провайдерам нижчого рівня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За отриманням доступу до мережі Інтернет (підключенням) користувачі звертаються до місцевих Інтернет-провайдрів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Схема приєднання провайдерів до мережі Інтернет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261" name="Diagram 5"/>
          <p:cNvGrpSpPr/>
          <p:nvPr/>
        </p:nvGrpSpPr>
        <p:grpSpPr>
          <a:xfrm>
            <a:off x="2799000" y="1775520"/>
            <a:ext cx="5300280" cy="4449600"/>
            <a:chOff x="2799000" y="1775520"/>
            <a:chExt cx="5300280" cy="4449600"/>
          </a:xfrm>
        </p:grpSpPr>
        <p:sp>
          <p:nvSpPr>
            <p:cNvPr id="1262" name="_s1028"/>
            <p:cNvSpPr/>
            <p:nvPr/>
          </p:nvSpPr>
          <p:spPr>
            <a:xfrm flipV="1">
              <a:off x="4918680" y="1775520"/>
              <a:ext cx="1060560" cy="889920"/>
            </a:xfrm>
            <a:custGeom>
              <a:avLst/>
              <a:gdLst>
                <a:gd name="textAreaLeft" fmla="*/ 380520 w 1060560"/>
                <a:gd name="textAreaRight" fmla="*/ 680040 w 1060560"/>
                <a:gd name="textAreaTop" fmla="*/ 319320 h 889920"/>
                <a:gd name="textAreaBottom" fmla="*/ 57060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3eacf">
                <a:alpha val="50000"/>
              </a:srgbClr>
            </a:solidFill>
            <a:ln w="57240">
              <a:solidFill>
                <a:srgbClr val="e3e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Первинні провайдер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_s1029"/>
            <p:cNvSpPr/>
            <p:nvPr/>
          </p:nvSpPr>
          <p:spPr>
            <a:xfrm flipV="1">
              <a:off x="4388400" y="2665440"/>
              <a:ext cx="2121480" cy="889920"/>
            </a:xfrm>
            <a:custGeom>
              <a:avLst/>
              <a:gdLst>
                <a:gd name="textAreaLeft" fmla="*/ 466560 w 2121480"/>
                <a:gd name="textAreaRight" fmla="*/ 1654920 w 2121480"/>
                <a:gd name="textAreaTop" fmla="*/ 195480 h 889920"/>
                <a:gd name="textAreaBottom" fmla="*/ 69444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b9318">
                <a:alpha val="50000"/>
              </a:srgbClr>
            </a:solidFill>
            <a:ln w="57240">
              <a:solidFill>
                <a:srgbClr val="fb93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Вторинні провайдер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_s1030"/>
            <p:cNvSpPr/>
            <p:nvPr/>
          </p:nvSpPr>
          <p:spPr>
            <a:xfrm flipV="1">
              <a:off x="3859560" y="3555360"/>
              <a:ext cx="3178080" cy="889920"/>
            </a:xfrm>
            <a:custGeom>
              <a:avLst/>
              <a:gdLst>
                <a:gd name="textAreaLeft" fmla="*/ 551520 w 3178080"/>
                <a:gd name="textAreaRight" fmla="*/ 2626560 w 3178080"/>
                <a:gd name="textAreaTop" fmla="*/ 154440 h 889920"/>
                <a:gd name="textAreaBottom" fmla="*/ 73548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b4a18">
                <a:alpha val="50000"/>
              </a:srgbClr>
            </a:solidFill>
            <a:ln w="57240">
              <a:solidFill>
                <a:srgbClr val="fb4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Провайдери</a:t>
              </a:r>
              <a:r>
                <a:rPr b="1" lang="en-US" sz="2600" spc="-1" strike="noStrike">
                  <a:solidFill>
                    <a:srgbClr val="766f54"/>
                  </a:solidFill>
                  <a:latin typeface="Arial"/>
                </a:rPr>
                <a:t> </a:t>
              </a: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інших рівні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_s1031"/>
            <p:cNvSpPr/>
            <p:nvPr/>
          </p:nvSpPr>
          <p:spPr>
            <a:xfrm flipV="1">
              <a:off x="3329280" y="4445280"/>
              <a:ext cx="4239000" cy="889920"/>
            </a:xfrm>
            <a:custGeom>
              <a:avLst/>
              <a:gdLst>
                <a:gd name="textAreaLeft" fmla="*/ 637560 w 4239000"/>
                <a:gd name="textAreaRight" fmla="*/ 3601440 w 4239000"/>
                <a:gd name="textAreaTop" fmla="*/ 133920 h 889920"/>
                <a:gd name="textAreaBottom" fmla="*/ 75600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a53010">
                <a:alpha val="50000"/>
              </a:srgbClr>
            </a:solidFill>
            <a:ln w="57240">
              <a:solidFill>
                <a:srgbClr val="a53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Індивідуальні клієн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_s1032"/>
            <p:cNvSpPr/>
            <p:nvPr/>
          </p:nvSpPr>
          <p:spPr>
            <a:xfrm flipV="1">
              <a:off x="2799000" y="5334480"/>
              <a:ext cx="5300280" cy="890280"/>
            </a:xfrm>
            <a:custGeom>
              <a:avLst/>
              <a:gdLst>
                <a:gd name="textAreaLeft" fmla="*/ 723600 w 5300280"/>
                <a:gd name="textAreaRight" fmla="*/ 4576680 w 5300280"/>
                <a:gd name="textAreaTop" fmla="*/ 121320 h 890280"/>
                <a:gd name="textAreaBottom" fmla="*/ 768960 h 89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de7e18">
                <a:alpha val="50000"/>
              </a:srgbClr>
            </a:solidFill>
            <a:ln w="57240">
              <a:solidFill>
                <a:srgbClr val="de7e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Мережі-клієн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іктор Смоляк</dc:creator>
  <dc:description/>
  <dc:language>en-US</dc:language>
  <cp:lastModifiedBy>Смоляк Віктор</cp:lastModifiedBy>
  <dcterms:modified xsi:type="dcterms:W3CDTF">2014-03-07T11:55:0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