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5BDF-4D6B-482E-85C7-5F4C9E7342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FEF3-D208-4E75-8B37-6F7A3A7E3A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B576-2013-4AD6-A13A-9FEC91EC0D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3539-422B-4D9E-8B48-6F4FD608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882C-D2D8-44F1-B5AF-6C496A3D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939-BAD6-4840-AE39-3398342E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A5F1-77C6-4DF6-814A-7D896411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8776-C1A5-43C0-8708-AF9CA8F1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3246-6AE3-4994-A74A-0D128054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45B1-BA20-4CC4-8EC4-A8AADF68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2542-F6FD-4E25-9A8A-EC0005EE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7884-9787-4F7F-9E05-7954B41A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79F3-3698-44D4-8A76-56CCEA83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66B7-271B-4EC4-A147-68974FBC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9D5-B3DD-4CF9-891B-F2C673DB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5395-6423-4E62-B2DE-45F44C01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EAF3-DA3D-4E6C-A4F0-B7CE4E53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CD7B-C19E-4378-8304-974201F2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3450-4509-4804-9372-61EF191C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8994-D108-4866-AF61-0D62515C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C5F-933D-403A-BCA9-86CF0FD5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69F-0EB9-4D4F-B8F9-CB7058EB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DA7C-4C40-48CE-AD5C-A111E69A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133-5100-4D69-80CD-04647CDB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C42-9AE3-4CF3-B61F-9A0EA70D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6368-2350-4AFD-AB82-8C949B46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D6A3-6A46-4088-B0E3-5DB334EF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A1A6-E0C8-428E-9868-9298B2EB8150}" type="datetime">
              <a:rPr b="0" lang="uk-UA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Інформатика 11 клас Кравчук Г.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BB7F-8E0A-4A47-89AA-D34683D180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09C9-3339-4DCE-8360-71A45811D6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олилиния 3"/>
          <p:cNvSpPr/>
          <p:nvPr/>
        </p:nvSpPr>
        <p:spPr>
          <a:xfrm>
            <a:off x="0" y="2214720"/>
            <a:ext cx="9164520" cy="2403360"/>
          </a:xfrm>
          <a:custGeom>
            <a:avLst/>
            <a:gdLst/>
            <a:ahLst/>
            <a:rect l="l" t="t" r="r" b="b"/>
            <a:pathLst>
              <a:path w="9164782" h="1714500">
                <a:moveTo>
                  <a:pt x="0" y="644236"/>
                </a:moveTo>
                <a:lnTo>
                  <a:pt x="3917373" y="644236"/>
                </a:lnTo>
                <a:lnTo>
                  <a:pt x="4384964" y="0"/>
                </a:lnTo>
                <a:lnTo>
                  <a:pt x="7377546" y="0"/>
                </a:lnTo>
                <a:lnTo>
                  <a:pt x="7876309" y="280554"/>
                </a:lnTo>
                <a:lnTo>
                  <a:pt x="9154391" y="280554"/>
                </a:lnTo>
                <a:lnTo>
                  <a:pt x="9164782" y="1163782"/>
                </a:lnTo>
                <a:lnTo>
                  <a:pt x="7024255" y="1132609"/>
                </a:lnTo>
                <a:lnTo>
                  <a:pt x="6463146" y="1714500"/>
                </a:lnTo>
                <a:lnTo>
                  <a:pt x="0" y="1714500"/>
                </a:lnTo>
                <a:cubicBezTo>
                  <a:pt x="3464" y="1354282"/>
                  <a:pt x="6927" y="994063"/>
                  <a:pt x="0" y="644236"/>
                </a:cubicBezTo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Подзаголовок 2" descr=""/>
          <p:cNvPicPr/>
          <p:nvPr/>
        </p:nvPicPr>
        <p:blipFill>
          <a:blip r:embed="rId2"/>
          <a:stretch/>
        </p:blipFill>
        <p:spPr>
          <a:xfrm>
            <a:off x="152280" y="3633840"/>
            <a:ext cx="6400800" cy="901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71960" y="2499840"/>
            <a:ext cx="35719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Розділ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 Бази даних. Системи управління базами дан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-23760" y="2000160"/>
            <a:ext cx="9175680" cy="1214640"/>
          </a:xfrm>
          <a:custGeom>
            <a:avLst/>
            <a:gdLst/>
            <a:ahLst/>
            <a:rect l="l" t="t" r="r" b="b"/>
            <a:pathLst>
              <a:path w="9175898" h="1041991">
                <a:moveTo>
                  <a:pt x="0" y="1041991"/>
                </a:moveTo>
                <a:lnTo>
                  <a:pt x="3902149" y="1041991"/>
                </a:lnTo>
                <a:lnTo>
                  <a:pt x="4401879" y="372140"/>
                </a:lnTo>
                <a:lnTo>
                  <a:pt x="7368363" y="372140"/>
                </a:lnTo>
                <a:lnTo>
                  <a:pt x="7899991" y="669852"/>
                </a:lnTo>
                <a:lnTo>
                  <a:pt x="9165265" y="680484"/>
                </a:lnTo>
                <a:lnTo>
                  <a:pt x="9175898" y="308345"/>
                </a:lnTo>
                <a:lnTo>
                  <a:pt x="8027581" y="308345"/>
                </a:lnTo>
                <a:lnTo>
                  <a:pt x="7453423" y="42531"/>
                </a:lnTo>
                <a:lnTo>
                  <a:pt x="4391246" y="0"/>
                </a:lnTo>
                <a:lnTo>
                  <a:pt x="3732028" y="861238"/>
                </a:lnTo>
                <a:lnTo>
                  <a:pt x="0" y="871870"/>
                </a:lnTo>
                <a:lnTo>
                  <a:pt x="0" y="1041991"/>
                </a:lnTo>
                <a:close/>
              </a:path>
            </a:pathLst>
          </a:custGeom>
          <a:gradFill rotWithShape="0">
            <a:gsLst>
              <a:gs pos="0">
                <a:srgbClr val="fae3b7"/>
              </a:gs>
              <a:gs pos="100000">
                <a:srgbClr val="a28949"/>
              </a:gs>
            </a:gsLst>
            <a:lin ang="5400000"/>
          </a:gradFill>
          <a:ln w="0">
            <a:noFill/>
          </a:ln>
          <a:effectLst>
            <a:outerShdw dist="633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лилиния 8"/>
          <p:cNvSpPr/>
          <p:nvPr/>
        </p:nvSpPr>
        <p:spPr>
          <a:xfrm>
            <a:off x="-12600" y="3714840"/>
            <a:ext cx="9207360" cy="1136520"/>
          </a:xfrm>
          <a:custGeom>
            <a:avLst/>
            <a:gdLst/>
            <a:ahLst/>
            <a:rect l="l" t="t" r="r" b="b"/>
            <a:pathLst>
              <a:path w="9207795" h="839972">
                <a:moveTo>
                  <a:pt x="0" y="595423"/>
                </a:moveTo>
                <a:lnTo>
                  <a:pt x="6485860" y="606056"/>
                </a:lnTo>
                <a:lnTo>
                  <a:pt x="7049386" y="0"/>
                </a:lnTo>
                <a:lnTo>
                  <a:pt x="9207795" y="42530"/>
                </a:lnTo>
                <a:lnTo>
                  <a:pt x="9175898" y="244549"/>
                </a:lnTo>
                <a:lnTo>
                  <a:pt x="7145079" y="233916"/>
                </a:lnTo>
                <a:lnTo>
                  <a:pt x="6507125" y="839972"/>
                </a:lnTo>
                <a:lnTo>
                  <a:pt x="10632" y="797442"/>
                </a:lnTo>
                <a:lnTo>
                  <a:pt x="0" y="595423"/>
                </a:lnTo>
                <a:close/>
              </a:path>
            </a:pathLst>
          </a:custGeom>
          <a:gradFill rotWithShape="0">
            <a:gsLst>
              <a:gs pos="0">
                <a:srgbClr val="fae3b7"/>
              </a:gs>
              <a:gs pos="100000">
                <a:srgbClr val="a28949"/>
              </a:gs>
            </a:gsLst>
            <a:lin ang="16200000"/>
          </a:gradFill>
          <a:ln w="0">
            <a:noFill/>
          </a:ln>
          <a:effectLst>
            <a:outerShdw dist="50842" dir="1681176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Стрелка вправо с вырезом 6"/>
          <p:cNvGrpSpPr/>
          <p:nvPr/>
        </p:nvGrpSpPr>
        <p:grpSpPr>
          <a:xfrm>
            <a:off x="8058240" y="6126120"/>
            <a:ext cx="531720" cy="603360"/>
            <a:chOff x="8058240" y="6126120"/>
            <a:chExt cx="531720" cy="603360"/>
          </a:xfrm>
        </p:grpSpPr>
        <p:pic>
          <p:nvPicPr>
            <p:cNvPr id="95" name="Стрелка вправо с вырезом 6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8058240" y="6126120"/>
              <a:ext cx="53172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8261280" y="6321600"/>
              <a:ext cx="12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Стрелка вправо с вырезом 9"/>
          <p:cNvGrpSpPr/>
          <p:nvPr/>
        </p:nvGrpSpPr>
        <p:grpSpPr>
          <a:xfrm>
            <a:off x="7559640" y="6126120"/>
            <a:ext cx="530280" cy="603360"/>
            <a:chOff x="7559640" y="6126120"/>
            <a:chExt cx="530280" cy="603360"/>
          </a:xfrm>
        </p:grpSpPr>
        <p:pic>
          <p:nvPicPr>
            <p:cNvPr id="98" name="Стрелка вправо с вырезом 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559640" y="6126120"/>
              <a:ext cx="5302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0800000">
              <a:off x="7761240" y="6321240"/>
              <a:ext cx="12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Прямоугольник 10"/>
          <p:cNvGrpSpPr/>
          <p:nvPr/>
        </p:nvGrpSpPr>
        <p:grpSpPr>
          <a:xfrm>
            <a:off x="841320" y="6272280"/>
            <a:ext cx="390600" cy="384120"/>
            <a:chOff x="841320" y="6272280"/>
            <a:chExt cx="390600" cy="384120"/>
          </a:xfrm>
        </p:grpSpPr>
        <p:pic>
          <p:nvPicPr>
            <p:cNvPr id="101" name="Прямоугольник 10" descr="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1320" y="6272280"/>
              <a:ext cx="3906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857160" y="62866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Picture 16" descr=""/>
          <p:cNvPicPr/>
          <p:nvPr/>
        </p:nvPicPr>
        <p:blipFill>
          <a:blip r:embed="rId6"/>
          <a:stretch/>
        </p:blipFill>
        <p:spPr>
          <a:xfrm>
            <a:off x="179280" y="104760"/>
            <a:ext cx="24098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олилиния 3"/>
          <p:cNvSpPr/>
          <p:nvPr/>
        </p:nvSpPr>
        <p:spPr>
          <a:xfrm>
            <a:off x="0" y="2214720"/>
            <a:ext cx="9164520" cy="2403360"/>
          </a:xfrm>
          <a:custGeom>
            <a:avLst/>
            <a:gdLst/>
            <a:ahLst/>
            <a:rect l="l" t="t" r="r" b="b"/>
            <a:pathLst>
              <a:path w="9164782" h="1714500">
                <a:moveTo>
                  <a:pt x="0" y="644236"/>
                </a:moveTo>
                <a:lnTo>
                  <a:pt x="3917373" y="644236"/>
                </a:lnTo>
                <a:lnTo>
                  <a:pt x="4384964" y="0"/>
                </a:lnTo>
                <a:lnTo>
                  <a:pt x="7377546" y="0"/>
                </a:lnTo>
                <a:lnTo>
                  <a:pt x="7876309" y="280554"/>
                </a:lnTo>
                <a:lnTo>
                  <a:pt x="9154391" y="280554"/>
                </a:lnTo>
                <a:lnTo>
                  <a:pt x="9164782" y="1163782"/>
                </a:lnTo>
                <a:lnTo>
                  <a:pt x="7024255" y="1132609"/>
                </a:lnTo>
                <a:lnTo>
                  <a:pt x="6463146" y="1714500"/>
                </a:lnTo>
                <a:lnTo>
                  <a:pt x="0" y="1714500"/>
                </a:lnTo>
                <a:cubicBezTo>
                  <a:pt x="3464" y="1354282"/>
                  <a:pt x="6927" y="994063"/>
                  <a:pt x="0" y="644236"/>
                </a:cubicBezTo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олилиния 7"/>
          <p:cNvSpPr/>
          <p:nvPr/>
        </p:nvSpPr>
        <p:spPr>
          <a:xfrm>
            <a:off x="0" y="2133720"/>
            <a:ext cx="9175680" cy="1214280"/>
          </a:xfrm>
          <a:custGeom>
            <a:avLst/>
            <a:gdLst/>
            <a:ahLst/>
            <a:rect l="l" t="t" r="r" b="b"/>
            <a:pathLst>
              <a:path w="9175898" h="1041991">
                <a:moveTo>
                  <a:pt x="0" y="1041991"/>
                </a:moveTo>
                <a:lnTo>
                  <a:pt x="3902149" y="1041991"/>
                </a:lnTo>
                <a:lnTo>
                  <a:pt x="4401879" y="372140"/>
                </a:lnTo>
                <a:lnTo>
                  <a:pt x="7368363" y="372140"/>
                </a:lnTo>
                <a:lnTo>
                  <a:pt x="7899991" y="669852"/>
                </a:lnTo>
                <a:lnTo>
                  <a:pt x="9165265" y="680484"/>
                </a:lnTo>
                <a:lnTo>
                  <a:pt x="9175898" y="308345"/>
                </a:lnTo>
                <a:lnTo>
                  <a:pt x="8027581" y="308345"/>
                </a:lnTo>
                <a:lnTo>
                  <a:pt x="7453423" y="42531"/>
                </a:lnTo>
                <a:lnTo>
                  <a:pt x="4391246" y="0"/>
                </a:lnTo>
                <a:lnTo>
                  <a:pt x="3732028" y="861238"/>
                </a:lnTo>
                <a:lnTo>
                  <a:pt x="0" y="871870"/>
                </a:lnTo>
                <a:lnTo>
                  <a:pt x="0" y="1041991"/>
                </a:lnTo>
                <a:close/>
              </a:path>
            </a:pathLst>
          </a:custGeom>
          <a:gradFill rotWithShape="0">
            <a:gsLst>
              <a:gs pos="0">
                <a:srgbClr val="fae3b7"/>
              </a:gs>
              <a:gs pos="100000">
                <a:srgbClr val="a28949"/>
              </a:gs>
            </a:gsLst>
            <a:lin ang="5400000"/>
          </a:gradFill>
          <a:ln w="0">
            <a:noFill/>
          </a:ln>
          <a:effectLst>
            <a:outerShdw dist="633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олилиния 8"/>
          <p:cNvSpPr/>
          <p:nvPr/>
        </p:nvSpPr>
        <p:spPr>
          <a:xfrm>
            <a:off x="-12600" y="3714840"/>
            <a:ext cx="9207360" cy="1136520"/>
          </a:xfrm>
          <a:custGeom>
            <a:avLst/>
            <a:gdLst/>
            <a:ahLst/>
            <a:rect l="l" t="t" r="r" b="b"/>
            <a:pathLst>
              <a:path w="9207795" h="839972">
                <a:moveTo>
                  <a:pt x="0" y="595423"/>
                </a:moveTo>
                <a:lnTo>
                  <a:pt x="6485860" y="606056"/>
                </a:lnTo>
                <a:lnTo>
                  <a:pt x="7049386" y="0"/>
                </a:lnTo>
                <a:lnTo>
                  <a:pt x="9207795" y="42530"/>
                </a:lnTo>
                <a:lnTo>
                  <a:pt x="9175898" y="244549"/>
                </a:lnTo>
                <a:lnTo>
                  <a:pt x="7145079" y="233916"/>
                </a:lnTo>
                <a:lnTo>
                  <a:pt x="6507125" y="839972"/>
                </a:lnTo>
                <a:lnTo>
                  <a:pt x="10632" y="797442"/>
                </a:lnTo>
                <a:lnTo>
                  <a:pt x="0" y="595423"/>
                </a:lnTo>
                <a:close/>
              </a:path>
            </a:pathLst>
          </a:custGeom>
          <a:gradFill rotWithShape="0">
            <a:gsLst>
              <a:gs pos="0">
                <a:srgbClr val="fae3b7"/>
              </a:gs>
              <a:gs pos="100000">
                <a:srgbClr val="a28949"/>
              </a:gs>
            </a:gsLst>
            <a:lin ang="16200000"/>
          </a:gradFill>
          <a:ln w="0">
            <a:noFill/>
          </a:ln>
          <a:effectLst>
            <a:outerShdw dist="50842" dir="1681176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1979640" y="3575160"/>
            <a:ext cx="42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48a54"/>
                </a:solidFill>
                <a:latin typeface="Calibri"/>
              </a:rPr>
              <a:t>Системи управління базами дан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Стрелка вправо с вырезом 10"/>
          <p:cNvGrpSpPr/>
          <p:nvPr/>
        </p:nvGrpSpPr>
        <p:grpSpPr>
          <a:xfrm>
            <a:off x="8058240" y="6126120"/>
            <a:ext cx="531720" cy="603360"/>
            <a:chOff x="8058240" y="6126120"/>
            <a:chExt cx="531720" cy="603360"/>
          </a:xfrm>
        </p:grpSpPr>
        <p:pic>
          <p:nvPicPr>
            <p:cNvPr id="109" name="Стрелка вправо с вырезом 10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058240" y="6126120"/>
              <a:ext cx="53172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8261280" y="6321600"/>
              <a:ext cx="12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Стрелка вправо с вырезом 11"/>
          <p:cNvGrpSpPr/>
          <p:nvPr/>
        </p:nvGrpSpPr>
        <p:grpSpPr>
          <a:xfrm>
            <a:off x="7559640" y="6126120"/>
            <a:ext cx="530280" cy="603360"/>
            <a:chOff x="7559640" y="6126120"/>
            <a:chExt cx="530280" cy="603360"/>
          </a:xfrm>
        </p:grpSpPr>
        <p:pic>
          <p:nvPicPr>
            <p:cNvPr id="112" name="Стрелка вправо с вырезом 11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559640" y="6126120"/>
              <a:ext cx="5302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 rot="10800000">
              <a:off x="7761240" y="6321240"/>
              <a:ext cx="12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Прямоугольник 12"/>
          <p:cNvGrpSpPr/>
          <p:nvPr/>
        </p:nvGrpSpPr>
        <p:grpSpPr>
          <a:xfrm>
            <a:off x="378000" y="6235560"/>
            <a:ext cx="390240" cy="384480"/>
            <a:chOff x="378000" y="6235560"/>
            <a:chExt cx="390240" cy="384480"/>
          </a:xfrm>
        </p:grpSpPr>
        <p:pic>
          <p:nvPicPr>
            <p:cNvPr id="115" name="Прямоугольник 12" descr="">
              <a:hlinkClick r:id="" action="ppaction://hlinkshowjump?jump=endshow"/>
            </p:cNvPr>
            <p:cNvPicPr/>
            <p:nvPr/>
          </p:nvPicPr>
          <p:blipFill>
            <a:blip r:embed="rId4"/>
            <a:stretch/>
          </p:blipFill>
          <p:spPr>
            <a:xfrm>
              <a:off x="378000" y="6235560"/>
              <a:ext cx="390240" cy="3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95280" y="6251400"/>
              <a:ext cx="3571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7" name="Схема 1" descr=""/>
          <p:cNvPicPr/>
          <p:nvPr/>
        </p:nvPicPr>
        <p:blipFill>
          <a:blip r:embed="rId5"/>
          <a:stretch/>
        </p:blipFill>
        <p:spPr>
          <a:xfrm>
            <a:off x="122400" y="5084640"/>
            <a:ext cx="8869320" cy="1140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"/>
          <p:cNvPicPr/>
          <p:nvPr/>
        </p:nvPicPr>
        <p:blipFill>
          <a:blip r:embed="rId6"/>
          <a:stretch/>
        </p:blipFill>
        <p:spPr>
          <a:xfrm>
            <a:off x="395280" y="237960"/>
            <a:ext cx="24098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олилиния 3"/>
          <p:cNvSpPr/>
          <p:nvPr/>
        </p:nvSpPr>
        <p:spPr>
          <a:xfrm>
            <a:off x="0" y="77760"/>
            <a:ext cx="9164520" cy="1143000"/>
          </a:xfrm>
          <a:custGeom>
            <a:avLst/>
            <a:gdLst/>
            <a:ahLst/>
            <a:rect l="l" t="t" r="r" b="b"/>
            <a:pathLst>
              <a:path w="9164782" h="1714500">
                <a:moveTo>
                  <a:pt x="0" y="322725"/>
                </a:moveTo>
                <a:lnTo>
                  <a:pt x="3703027" y="322725"/>
                </a:lnTo>
                <a:lnTo>
                  <a:pt x="4384964" y="0"/>
                </a:lnTo>
                <a:lnTo>
                  <a:pt x="7377546" y="0"/>
                </a:lnTo>
                <a:lnTo>
                  <a:pt x="8019153" y="66202"/>
                </a:lnTo>
                <a:lnTo>
                  <a:pt x="9154391" y="66202"/>
                </a:lnTo>
                <a:cubicBezTo>
                  <a:pt x="9157855" y="432062"/>
                  <a:pt x="9161318" y="797922"/>
                  <a:pt x="9164782" y="1163782"/>
                </a:cubicBezTo>
                <a:lnTo>
                  <a:pt x="7024255" y="1132609"/>
                </a:lnTo>
                <a:lnTo>
                  <a:pt x="6463146" y="1714500"/>
                </a:lnTo>
                <a:lnTo>
                  <a:pt x="0" y="1714500"/>
                </a:lnTo>
                <a:cubicBezTo>
                  <a:pt x="3464" y="1354282"/>
                  <a:pt x="6927" y="672552"/>
                  <a:pt x="0" y="322725"/>
                </a:cubicBezTo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Заголовок 1" descr=""/>
          <p:cNvPicPr/>
          <p:nvPr/>
        </p:nvPicPr>
        <p:blipFill>
          <a:blip r:embed="rId2"/>
          <a:stretch/>
        </p:blipFill>
        <p:spPr>
          <a:xfrm>
            <a:off x="139680" y="291960"/>
            <a:ext cx="6291360" cy="854280"/>
          </a:xfrm>
          <a:prstGeom prst="rect">
            <a:avLst/>
          </a:prstGeom>
          <a:ln w="0">
            <a:noFill/>
          </a:ln>
        </p:spPr>
      </p:pic>
      <p:grpSp>
        <p:nvGrpSpPr>
          <p:cNvPr id="121" name="Подзаголовок 2"/>
          <p:cNvGrpSpPr/>
          <p:nvPr/>
        </p:nvGrpSpPr>
        <p:grpSpPr>
          <a:xfrm>
            <a:off x="66600" y="1420920"/>
            <a:ext cx="9028080" cy="1170000"/>
            <a:chOff x="66600" y="1420920"/>
            <a:chExt cx="9028080" cy="1170000"/>
          </a:xfrm>
        </p:grpSpPr>
        <p:pic>
          <p:nvPicPr>
            <p:cNvPr id="122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66600" y="1420920"/>
              <a:ext cx="90280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92240" y="1496880"/>
              <a:ext cx="8759520" cy="91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000000"/>
                  </a:solidFill>
                  <a:latin typeface="Calibri"/>
                </a:rPr>
                <a:t>У процесі роботи з БД введення даних здійснюється в довільному порядку.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Полилиния 7"/>
          <p:cNvSpPr/>
          <p:nvPr/>
        </p:nvSpPr>
        <p:spPr>
          <a:xfrm>
            <a:off x="-31680" y="6480"/>
            <a:ext cx="9175680" cy="357120"/>
          </a:xfrm>
          <a:custGeom>
            <a:avLst/>
            <a:gdLst/>
            <a:ahLst/>
            <a:rect l="l" t="t" r="r" b="b"/>
            <a:pathLst>
              <a:path w="9175898" h="1041991">
                <a:moveTo>
                  <a:pt x="0" y="1041991"/>
                </a:moveTo>
                <a:lnTo>
                  <a:pt x="3902149" y="1041991"/>
                </a:lnTo>
                <a:lnTo>
                  <a:pt x="4401879" y="372140"/>
                </a:lnTo>
                <a:lnTo>
                  <a:pt x="7368363" y="372140"/>
                </a:lnTo>
                <a:lnTo>
                  <a:pt x="7899991" y="669852"/>
                </a:lnTo>
                <a:lnTo>
                  <a:pt x="9165265" y="680484"/>
                </a:lnTo>
                <a:lnTo>
                  <a:pt x="9175898" y="308345"/>
                </a:lnTo>
                <a:lnTo>
                  <a:pt x="8027581" y="308345"/>
                </a:lnTo>
                <a:lnTo>
                  <a:pt x="7453423" y="42531"/>
                </a:lnTo>
                <a:lnTo>
                  <a:pt x="4391246" y="0"/>
                </a:lnTo>
                <a:lnTo>
                  <a:pt x="3732028" y="444344"/>
                </a:lnTo>
                <a:lnTo>
                  <a:pt x="0" y="454975"/>
                </a:lnTo>
                <a:lnTo>
                  <a:pt x="0" y="1041991"/>
                </a:lnTo>
                <a:close/>
              </a:path>
            </a:pathLst>
          </a:custGeom>
          <a:gradFill rotWithShape="0">
            <a:gsLst>
              <a:gs pos="0">
                <a:srgbClr val="fae3b7"/>
              </a:gs>
              <a:gs pos="100000">
                <a:srgbClr val="a28949"/>
              </a:gs>
            </a:gsLst>
            <a:lin ang="5400000"/>
          </a:gradFill>
          <a:ln w="0">
            <a:noFill/>
          </a:ln>
          <a:effectLst>
            <a:outerShdw dist="633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олилиния 8"/>
          <p:cNvSpPr/>
          <p:nvPr/>
        </p:nvSpPr>
        <p:spPr>
          <a:xfrm>
            <a:off x="0" y="792000"/>
            <a:ext cx="9207360" cy="493920"/>
          </a:xfrm>
          <a:custGeom>
            <a:avLst/>
            <a:gdLst/>
            <a:ahLst/>
            <a:rect l="l" t="t" r="r" b="b"/>
            <a:pathLst>
              <a:path w="9207795" h="839972">
                <a:moveTo>
                  <a:pt x="0" y="595423"/>
                </a:moveTo>
                <a:lnTo>
                  <a:pt x="6485860" y="606056"/>
                </a:lnTo>
                <a:lnTo>
                  <a:pt x="7049386" y="0"/>
                </a:lnTo>
                <a:lnTo>
                  <a:pt x="9207795" y="42530"/>
                </a:lnTo>
                <a:lnTo>
                  <a:pt x="9175898" y="244549"/>
                </a:lnTo>
                <a:lnTo>
                  <a:pt x="7145079" y="233916"/>
                </a:lnTo>
                <a:lnTo>
                  <a:pt x="6507125" y="839972"/>
                </a:lnTo>
                <a:lnTo>
                  <a:pt x="10632" y="797442"/>
                </a:lnTo>
                <a:lnTo>
                  <a:pt x="0" y="595423"/>
                </a:lnTo>
                <a:close/>
              </a:path>
            </a:pathLst>
          </a:custGeom>
          <a:gradFill rotWithShape="0">
            <a:gsLst>
              <a:gs pos="0">
                <a:srgbClr val="fae3b7"/>
              </a:gs>
              <a:gs pos="100000">
                <a:srgbClr val="a28949"/>
              </a:gs>
            </a:gsLst>
            <a:lin ang="16200000"/>
          </a:gradFill>
          <a:ln w="0">
            <a:noFill/>
          </a:ln>
          <a:effectLst>
            <a:outerShdw dist="50842" dir="1681176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Стрелка вправо с вырезом 6"/>
          <p:cNvGrpSpPr/>
          <p:nvPr/>
        </p:nvGrpSpPr>
        <p:grpSpPr>
          <a:xfrm>
            <a:off x="8058240" y="6126120"/>
            <a:ext cx="531720" cy="603360"/>
            <a:chOff x="8058240" y="6126120"/>
            <a:chExt cx="531720" cy="603360"/>
          </a:xfrm>
        </p:grpSpPr>
        <p:pic>
          <p:nvPicPr>
            <p:cNvPr id="127" name="Стрелка вправо с вырезом 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058240" y="6126120"/>
              <a:ext cx="53172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8261280" y="6321600"/>
              <a:ext cx="12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Стрелка вправо с вырезом 9"/>
          <p:cNvGrpSpPr/>
          <p:nvPr/>
        </p:nvGrpSpPr>
        <p:grpSpPr>
          <a:xfrm>
            <a:off x="7559640" y="6126120"/>
            <a:ext cx="530280" cy="603360"/>
            <a:chOff x="7559640" y="6126120"/>
            <a:chExt cx="530280" cy="603360"/>
          </a:xfrm>
        </p:grpSpPr>
        <p:pic>
          <p:nvPicPr>
            <p:cNvPr id="130" name="Стрелка вправо с вырезом 9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559640" y="6126120"/>
              <a:ext cx="5302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 rot="10800000">
              <a:off x="7761240" y="6321240"/>
              <a:ext cx="12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Прямоугольник 10"/>
          <p:cNvGrpSpPr/>
          <p:nvPr/>
        </p:nvGrpSpPr>
        <p:grpSpPr>
          <a:xfrm>
            <a:off x="165240" y="6291360"/>
            <a:ext cx="388800" cy="390600"/>
            <a:chOff x="165240" y="6291360"/>
            <a:chExt cx="388800" cy="390600"/>
          </a:xfrm>
        </p:grpSpPr>
        <p:pic>
          <p:nvPicPr>
            <p:cNvPr id="133" name="Прямоугольник 10" descr="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165240" y="6291360"/>
              <a:ext cx="38880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79280" y="630864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Дата 11"/>
          <p:cNvSpPr/>
          <p:nvPr/>
        </p:nvSpPr>
        <p:spPr>
          <a:xfrm>
            <a:off x="611280" y="6381720"/>
            <a:ext cx="93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A815-FF95-4166-865D-CF5B64CF5FD6}" type="datetime">
              <a:rPr b="0" lang="uk-UA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12"/>
          <p:cNvSpPr/>
          <p:nvPr/>
        </p:nvSpPr>
        <p:spPr>
          <a:xfrm>
            <a:off x="8604360" y="6308640"/>
            <a:ext cx="404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A2FF-7F41-427B-9658-4C02A84217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Схема 5" descr=""/>
          <p:cNvPicPr/>
          <p:nvPr/>
        </p:nvPicPr>
        <p:blipFill>
          <a:blip r:embed="rId7"/>
          <a:stretch/>
        </p:blipFill>
        <p:spPr>
          <a:xfrm>
            <a:off x="480960" y="2730600"/>
            <a:ext cx="8139240" cy="1785960"/>
          </a:xfrm>
          <a:prstGeom prst="rect">
            <a:avLst/>
          </a:prstGeom>
          <a:ln w="0">
            <a:noFill/>
          </a:ln>
        </p:spPr>
      </p:pic>
      <p:pic>
        <p:nvPicPr>
          <p:cNvPr id="138" name="Схема 15" descr=""/>
          <p:cNvPicPr/>
          <p:nvPr/>
        </p:nvPicPr>
        <p:blipFill>
          <a:blip r:embed="rId8"/>
          <a:stretch/>
        </p:blipFill>
        <p:spPr>
          <a:xfrm>
            <a:off x="755640" y="4578480"/>
            <a:ext cx="73152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Схема 1" descr=""/>
          <p:cNvPicPr/>
          <p:nvPr/>
        </p:nvPicPr>
        <p:blipFill>
          <a:blip r:embed="rId2"/>
          <a:stretch/>
        </p:blipFill>
        <p:spPr>
          <a:xfrm>
            <a:off x="609480" y="73080"/>
            <a:ext cx="7772400" cy="1542960"/>
          </a:xfrm>
          <a:prstGeom prst="rect">
            <a:avLst/>
          </a:prstGeom>
          <a:ln w="0">
            <a:noFill/>
          </a:ln>
        </p:spPr>
      </p:pic>
      <p:pic>
        <p:nvPicPr>
          <p:cNvPr id="140" name="Схема 2" descr=""/>
          <p:cNvPicPr/>
          <p:nvPr/>
        </p:nvPicPr>
        <p:blipFill>
          <a:blip r:embed="rId3"/>
          <a:stretch/>
        </p:blipFill>
        <p:spPr>
          <a:xfrm>
            <a:off x="12600" y="1176480"/>
            <a:ext cx="938052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хема 1" descr=""/>
          <p:cNvPicPr/>
          <p:nvPr/>
        </p:nvPicPr>
        <p:blipFill>
          <a:blip r:embed="rId2"/>
          <a:stretch/>
        </p:blipFill>
        <p:spPr>
          <a:xfrm>
            <a:off x="457200" y="212760"/>
            <a:ext cx="8236080" cy="1378080"/>
          </a:xfrm>
          <a:prstGeom prst="rect">
            <a:avLst/>
          </a:prstGeom>
          <a:ln w="0">
            <a:noFill/>
          </a:ln>
        </p:spPr>
      </p:pic>
      <p:pic>
        <p:nvPicPr>
          <p:cNvPr id="142" name="Схема 2" descr=""/>
          <p:cNvPicPr/>
          <p:nvPr/>
        </p:nvPicPr>
        <p:blipFill>
          <a:blip r:embed="rId3"/>
          <a:stretch/>
        </p:blipFill>
        <p:spPr>
          <a:xfrm>
            <a:off x="-152280" y="1517760"/>
            <a:ext cx="944856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Схема 2" descr=""/>
          <p:cNvPicPr/>
          <p:nvPr/>
        </p:nvPicPr>
        <p:blipFill>
          <a:blip r:embed="rId2"/>
          <a:stretch/>
        </p:blipFill>
        <p:spPr>
          <a:xfrm>
            <a:off x="317520" y="165240"/>
            <a:ext cx="8508960" cy="1541160"/>
          </a:xfrm>
          <a:prstGeom prst="rect">
            <a:avLst/>
          </a:prstGeom>
          <a:ln w="0">
            <a:noFill/>
          </a:ln>
        </p:spPr>
      </p:pic>
      <p:pic>
        <p:nvPicPr>
          <p:cNvPr id="144" name="Схема 4" descr=""/>
          <p:cNvPicPr/>
          <p:nvPr/>
        </p:nvPicPr>
        <p:blipFill>
          <a:blip r:embed="rId3"/>
          <a:stretch/>
        </p:blipFill>
        <p:spPr>
          <a:xfrm>
            <a:off x="291960" y="1390680"/>
            <a:ext cx="8255160" cy="981000"/>
          </a:xfrm>
          <a:prstGeom prst="rect">
            <a:avLst/>
          </a:prstGeom>
          <a:ln w="0">
            <a:noFill/>
          </a:ln>
        </p:spPr>
      </p:pic>
      <p:pic>
        <p:nvPicPr>
          <p:cNvPr id="145" name="Схема 8" descr=""/>
          <p:cNvPicPr/>
          <p:nvPr/>
        </p:nvPicPr>
        <p:blipFill>
          <a:blip r:embed="rId4"/>
          <a:stretch/>
        </p:blipFill>
        <p:spPr>
          <a:xfrm>
            <a:off x="-12600" y="2322360"/>
            <a:ext cx="930276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Схема 1" descr=""/>
          <p:cNvPicPr/>
          <p:nvPr/>
        </p:nvPicPr>
        <p:blipFill>
          <a:blip r:embed="rId2"/>
          <a:stretch/>
        </p:blipFill>
        <p:spPr>
          <a:xfrm>
            <a:off x="401760" y="237960"/>
            <a:ext cx="8340480" cy="1371600"/>
          </a:xfrm>
          <a:prstGeom prst="rect">
            <a:avLst/>
          </a:prstGeom>
          <a:ln w="0">
            <a:noFill/>
          </a:ln>
        </p:spPr>
      </p:pic>
      <p:pic>
        <p:nvPicPr>
          <p:cNvPr id="147" name="Схема 2" descr=""/>
          <p:cNvPicPr/>
          <p:nvPr/>
        </p:nvPicPr>
        <p:blipFill>
          <a:blip r:embed="rId3"/>
          <a:stretch/>
        </p:blipFill>
        <p:spPr>
          <a:xfrm>
            <a:off x="407880" y="1573200"/>
            <a:ext cx="832824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Схема 2" descr=""/>
          <p:cNvPicPr/>
          <p:nvPr/>
        </p:nvPicPr>
        <p:blipFill>
          <a:blip r:embed="rId2"/>
          <a:stretch/>
        </p:blipFill>
        <p:spPr>
          <a:xfrm>
            <a:off x="438120" y="268200"/>
            <a:ext cx="8261280" cy="1268640"/>
          </a:xfrm>
          <a:prstGeom prst="rect">
            <a:avLst/>
          </a:prstGeom>
          <a:ln w="0">
            <a:noFill/>
          </a:ln>
        </p:spPr>
      </p:pic>
      <p:pic>
        <p:nvPicPr>
          <p:cNvPr id="149" name="Схема 1" descr=""/>
          <p:cNvPicPr/>
          <p:nvPr/>
        </p:nvPicPr>
        <p:blipFill>
          <a:blip r:embed="rId3"/>
          <a:stretch/>
        </p:blipFill>
        <p:spPr>
          <a:xfrm>
            <a:off x="420840" y="1590840"/>
            <a:ext cx="827856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15:43:20Z</dcterms:created>
  <dc:creator>KEK$</dc:creator>
  <dc:description/>
  <dc:language>en-US</dc:language>
  <cp:lastModifiedBy>Мар'яна</cp:lastModifiedBy>
  <dcterms:modified xsi:type="dcterms:W3CDTF">2014-02-26T21:01:40Z</dcterms:modified>
  <cp:revision>65</cp:revision>
  <dc:subject/>
  <dc:title>GOL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9345</vt:lpwstr>
  </property>
</Properties>
</file>