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9033-2219-4B25-A06C-5B09BC5201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1D2C-6C58-4050-83E3-A6060A23C3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5203-146C-477F-9561-BE36F142C5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6A33-B7C3-43C7-B147-67484814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A909-64E9-4D0D-8739-B778B9FF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5B2C-CBA9-4ABD-9C4F-5B2C565F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39A0-CA2C-4276-AA61-D46F35FE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C5BA-886A-4F23-A1A0-5A030255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4EC0-AB8C-4BA8-BD3C-F104E2F7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2B3B-534C-4A7D-BE43-A4A20EF4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569D-3C96-45DF-8A51-CDCF2895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BC26-857B-49D3-A072-BBD39494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E679-B27F-4589-ADAD-ADE8294F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965E-CC47-40C7-AE05-8B810A68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02AF-C69F-4F0A-B8A1-7495C2E9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0E15-1A22-4B71-957C-86ED7C44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BD67-DA14-4F97-80B4-78438377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11EE-BBE0-4611-856A-FC38E1D3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35F9-19A7-46DC-A026-41120728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1C13-9FB8-4F26-BE8C-88BEDF42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2553-BD51-4398-836E-FF7F6A00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A7AB-1F7D-4E7E-9FBB-2C0FEA26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1356-3BD0-4BD2-9569-7E524322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3D70-585C-4354-AB66-719B8AF5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7DDE-2980-48E2-9245-65A86226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0126-469F-4ACE-8016-0242915B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5B06-5127-41F8-A918-96480BC4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1AE3-F1FE-442A-AC9E-6ACF5B594CF8}" type="datetime">
              <a:rPr b="0" lang="uk-UA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Інформатика 11 клас Кравчук Г.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645D-429D-434E-84BE-E1A96178A7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82D1-D638-4D0F-8AF9-4BE60F603E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олилиния 3"/>
          <p:cNvSpPr/>
          <p:nvPr/>
        </p:nvSpPr>
        <p:spPr>
          <a:xfrm>
            <a:off x="0" y="2214720"/>
            <a:ext cx="9164520" cy="2403360"/>
          </a:xfrm>
          <a:custGeom>
            <a:avLst/>
            <a:gdLst/>
            <a:ahLst/>
            <a:rect l="l" t="t" r="r" b="b"/>
            <a:pathLst>
              <a:path w="9164782" h="1714500">
                <a:moveTo>
                  <a:pt x="0" y="644236"/>
                </a:moveTo>
                <a:lnTo>
                  <a:pt x="3917373" y="644236"/>
                </a:lnTo>
                <a:lnTo>
                  <a:pt x="4384964" y="0"/>
                </a:lnTo>
                <a:lnTo>
                  <a:pt x="7377546" y="0"/>
                </a:lnTo>
                <a:lnTo>
                  <a:pt x="7876309" y="280554"/>
                </a:lnTo>
                <a:lnTo>
                  <a:pt x="9154391" y="280554"/>
                </a:lnTo>
                <a:lnTo>
                  <a:pt x="9164782" y="1163782"/>
                </a:lnTo>
                <a:lnTo>
                  <a:pt x="7024255" y="1132609"/>
                </a:lnTo>
                <a:lnTo>
                  <a:pt x="6463146" y="1714500"/>
                </a:lnTo>
                <a:lnTo>
                  <a:pt x="0" y="1714500"/>
                </a:lnTo>
                <a:cubicBezTo>
                  <a:pt x="3464" y="1354282"/>
                  <a:pt x="6927" y="994063"/>
                  <a:pt x="0" y="644236"/>
                </a:cubicBezTo>
                <a:close/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Подзаголовок 2" descr=""/>
          <p:cNvPicPr/>
          <p:nvPr/>
        </p:nvPicPr>
        <p:blipFill>
          <a:blip r:embed="rId2"/>
          <a:stretch/>
        </p:blipFill>
        <p:spPr>
          <a:xfrm>
            <a:off x="152280" y="3633840"/>
            <a:ext cx="6400800" cy="901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71960" y="2499840"/>
            <a:ext cx="357192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Розділ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. Бази даних. Системи управління базами дан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-23760" y="2000160"/>
            <a:ext cx="9175680" cy="1214640"/>
          </a:xfrm>
          <a:custGeom>
            <a:avLst/>
            <a:gdLst/>
            <a:ahLst/>
            <a:rect l="l" t="t" r="r" b="b"/>
            <a:pathLst>
              <a:path w="9175898" h="1041991">
                <a:moveTo>
                  <a:pt x="0" y="1041991"/>
                </a:moveTo>
                <a:lnTo>
                  <a:pt x="3902149" y="1041991"/>
                </a:lnTo>
                <a:lnTo>
                  <a:pt x="4401879" y="372140"/>
                </a:lnTo>
                <a:lnTo>
                  <a:pt x="7368363" y="372140"/>
                </a:lnTo>
                <a:lnTo>
                  <a:pt x="7899991" y="669852"/>
                </a:lnTo>
                <a:lnTo>
                  <a:pt x="9165265" y="680484"/>
                </a:lnTo>
                <a:lnTo>
                  <a:pt x="9175898" y="308345"/>
                </a:lnTo>
                <a:lnTo>
                  <a:pt x="8027581" y="308345"/>
                </a:lnTo>
                <a:lnTo>
                  <a:pt x="7453423" y="42531"/>
                </a:lnTo>
                <a:lnTo>
                  <a:pt x="4391246" y="0"/>
                </a:lnTo>
                <a:lnTo>
                  <a:pt x="3732028" y="861238"/>
                </a:lnTo>
                <a:lnTo>
                  <a:pt x="0" y="871870"/>
                </a:lnTo>
                <a:lnTo>
                  <a:pt x="0" y="1041991"/>
                </a:lnTo>
                <a:close/>
              </a:path>
            </a:pathLst>
          </a:custGeom>
          <a:gradFill rotWithShape="0">
            <a:gsLst>
              <a:gs pos="0">
                <a:srgbClr val="fae3b7"/>
              </a:gs>
              <a:gs pos="100000">
                <a:srgbClr val="a28949"/>
              </a:gs>
            </a:gsLst>
            <a:lin ang="5400000"/>
          </a:gradFill>
          <a:ln w="0">
            <a:noFill/>
          </a:ln>
          <a:effectLst>
            <a:outerShdw dist="633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олилиния 8"/>
          <p:cNvSpPr/>
          <p:nvPr/>
        </p:nvSpPr>
        <p:spPr>
          <a:xfrm>
            <a:off x="-12600" y="3714840"/>
            <a:ext cx="9207360" cy="1136520"/>
          </a:xfrm>
          <a:custGeom>
            <a:avLst/>
            <a:gdLst/>
            <a:ahLst/>
            <a:rect l="l" t="t" r="r" b="b"/>
            <a:pathLst>
              <a:path w="9207795" h="839972">
                <a:moveTo>
                  <a:pt x="0" y="595423"/>
                </a:moveTo>
                <a:lnTo>
                  <a:pt x="6485860" y="606056"/>
                </a:lnTo>
                <a:lnTo>
                  <a:pt x="7049386" y="0"/>
                </a:lnTo>
                <a:lnTo>
                  <a:pt x="9207795" y="42530"/>
                </a:lnTo>
                <a:lnTo>
                  <a:pt x="9175898" y="244549"/>
                </a:lnTo>
                <a:lnTo>
                  <a:pt x="7145079" y="233916"/>
                </a:lnTo>
                <a:lnTo>
                  <a:pt x="6507125" y="839972"/>
                </a:lnTo>
                <a:lnTo>
                  <a:pt x="10632" y="797442"/>
                </a:lnTo>
                <a:lnTo>
                  <a:pt x="0" y="595423"/>
                </a:lnTo>
                <a:close/>
              </a:path>
            </a:pathLst>
          </a:custGeom>
          <a:gradFill rotWithShape="0">
            <a:gsLst>
              <a:gs pos="0">
                <a:srgbClr val="fae3b7"/>
              </a:gs>
              <a:gs pos="100000">
                <a:srgbClr val="a28949"/>
              </a:gs>
            </a:gsLst>
            <a:lin ang="16200000"/>
          </a:gradFill>
          <a:ln w="0">
            <a:noFill/>
          </a:ln>
          <a:effectLst>
            <a:outerShdw dist="50842" dir="1681176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Стрелка вправо с вырезом 6"/>
          <p:cNvGrpSpPr/>
          <p:nvPr/>
        </p:nvGrpSpPr>
        <p:grpSpPr>
          <a:xfrm>
            <a:off x="8058240" y="6126120"/>
            <a:ext cx="531720" cy="603360"/>
            <a:chOff x="8058240" y="6126120"/>
            <a:chExt cx="531720" cy="603360"/>
          </a:xfrm>
        </p:grpSpPr>
        <p:pic>
          <p:nvPicPr>
            <p:cNvPr id="95" name="Стрелка вправо с вырезом 6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8058240" y="6126120"/>
              <a:ext cx="53172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8261280" y="6321600"/>
              <a:ext cx="12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Стрелка вправо с вырезом 9"/>
          <p:cNvGrpSpPr/>
          <p:nvPr/>
        </p:nvGrpSpPr>
        <p:grpSpPr>
          <a:xfrm>
            <a:off x="7559640" y="6126120"/>
            <a:ext cx="530280" cy="603360"/>
            <a:chOff x="7559640" y="6126120"/>
            <a:chExt cx="530280" cy="603360"/>
          </a:xfrm>
        </p:grpSpPr>
        <p:pic>
          <p:nvPicPr>
            <p:cNvPr id="98" name="Стрелка вправо с вырезом 9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559640" y="6126120"/>
              <a:ext cx="5302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0800000">
              <a:off x="7761240" y="6321240"/>
              <a:ext cx="12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Прямоугольник 10"/>
          <p:cNvGrpSpPr/>
          <p:nvPr/>
        </p:nvGrpSpPr>
        <p:grpSpPr>
          <a:xfrm>
            <a:off x="841320" y="6272280"/>
            <a:ext cx="390600" cy="384120"/>
            <a:chOff x="841320" y="6272280"/>
            <a:chExt cx="390600" cy="384120"/>
          </a:xfrm>
        </p:grpSpPr>
        <p:pic>
          <p:nvPicPr>
            <p:cNvPr id="101" name="Прямоугольник 10" descr="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1320" y="6272280"/>
              <a:ext cx="39060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857160" y="62866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" name="Picture 16" descr=""/>
          <p:cNvPicPr/>
          <p:nvPr/>
        </p:nvPicPr>
        <p:blipFill>
          <a:blip r:embed="rId6"/>
          <a:stretch/>
        </p:blipFill>
        <p:spPr>
          <a:xfrm>
            <a:off x="179280" y="104760"/>
            <a:ext cx="24098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олилиния 3"/>
          <p:cNvSpPr/>
          <p:nvPr/>
        </p:nvSpPr>
        <p:spPr>
          <a:xfrm>
            <a:off x="0" y="2214720"/>
            <a:ext cx="9164520" cy="2403360"/>
          </a:xfrm>
          <a:custGeom>
            <a:avLst/>
            <a:gdLst/>
            <a:ahLst/>
            <a:rect l="l" t="t" r="r" b="b"/>
            <a:pathLst>
              <a:path w="9164782" h="1714500">
                <a:moveTo>
                  <a:pt x="0" y="644236"/>
                </a:moveTo>
                <a:lnTo>
                  <a:pt x="3917373" y="644236"/>
                </a:lnTo>
                <a:lnTo>
                  <a:pt x="4384964" y="0"/>
                </a:lnTo>
                <a:lnTo>
                  <a:pt x="7377546" y="0"/>
                </a:lnTo>
                <a:lnTo>
                  <a:pt x="7876309" y="280554"/>
                </a:lnTo>
                <a:lnTo>
                  <a:pt x="9154391" y="280554"/>
                </a:lnTo>
                <a:lnTo>
                  <a:pt x="9164782" y="1163782"/>
                </a:lnTo>
                <a:lnTo>
                  <a:pt x="7024255" y="1132609"/>
                </a:lnTo>
                <a:lnTo>
                  <a:pt x="6463146" y="1714500"/>
                </a:lnTo>
                <a:lnTo>
                  <a:pt x="0" y="1714500"/>
                </a:lnTo>
                <a:cubicBezTo>
                  <a:pt x="3464" y="1354282"/>
                  <a:pt x="6927" y="994063"/>
                  <a:pt x="0" y="644236"/>
                </a:cubicBezTo>
                <a:close/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олилиния 7"/>
          <p:cNvSpPr/>
          <p:nvPr/>
        </p:nvSpPr>
        <p:spPr>
          <a:xfrm>
            <a:off x="0" y="2133720"/>
            <a:ext cx="9175680" cy="1214280"/>
          </a:xfrm>
          <a:custGeom>
            <a:avLst/>
            <a:gdLst/>
            <a:ahLst/>
            <a:rect l="l" t="t" r="r" b="b"/>
            <a:pathLst>
              <a:path w="9175898" h="1041991">
                <a:moveTo>
                  <a:pt x="0" y="1041991"/>
                </a:moveTo>
                <a:lnTo>
                  <a:pt x="3902149" y="1041991"/>
                </a:lnTo>
                <a:lnTo>
                  <a:pt x="4401879" y="372140"/>
                </a:lnTo>
                <a:lnTo>
                  <a:pt x="7368363" y="372140"/>
                </a:lnTo>
                <a:lnTo>
                  <a:pt x="7899991" y="669852"/>
                </a:lnTo>
                <a:lnTo>
                  <a:pt x="9165265" y="680484"/>
                </a:lnTo>
                <a:lnTo>
                  <a:pt x="9175898" y="308345"/>
                </a:lnTo>
                <a:lnTo>
                  <a:pt x="8027581" y="308345"/>
                </a:lnTo>
                <a:lnTo>
                  <a:pt x="7453423" y="42531"/>
                </a:lnTo>
                <a:lnTo>
                  <a:pt x="4391246" y="0"/>
                </a:lnTo>
                <a:lnTo>
                  <a:pt x="3732028" y="861238"/>
                </a:lnTo>
                <a:lnTo>
                  <a:pt x="0" y="871870"/>
                </a:lnTo>
                <a:lnTo>
                  <a:pt x="0" y="1041991"/>
                </a:lnTo>
                <a:close/>
              </a:path>
            </a:pathLst>
          </a:custGeom>
          <a:gradFill rotWithShape="0">
            <a:gsLst>
              <a:gs pos="0">
                <a:srgbClr val="fae3b7"/>
              </a:gs>
              <a:gs pos="100000">
                <a:srgbClr val="a28949"/>
              </a:gs>
            </a:gsLst>
            <a:lin ang="5400000"/>
          </a:gradFill>
          <a:ln w="0">
            <a:noFill/>
          </a:ln>
          <a:effectLst>
            <a:outerShdw dist="633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олилиния 8"/>
          <p:cNvSpPr/>
          <p:nvPr/>
        </p:nvSpPr>
        <p:spPr>
          <a:xfrm>
            <a:off x="-12600" y="3714840"/>
            <a:ext cx="9207360" cy="1136520"/>
          </a:xfrm>
          <a:custGeom>
            <a:avLst/>
            <a:gdLst/>
            <a:ahLst/>
            <a:rect l="l" t="t" r="r" b="b"/>
            <a:pathLst>
              <a:path w="9207795" h="839972">
                <a:moveTo>
                  <a:pt x="0" y="595423"/>
                </a:moveTo>
                <a:lnTo>
                  <a:pt x="6485860" y="606056"/>
                </a:lnTo>
                <a:lnTo>
                  <a:pt x="7049386" y="0"/>
                </a:lnTo>
                <a:lnTo>
                  <a:pt x="9207795" y="42530"/>
                </a:lnTo>
                <a:lnTo>
                  <a:pt x="9175898" y="244549"/>
                </a:lnTo>
                <a:lnTo>
                  <a:pt x="7145079" y="233916"/>
                </a:lnTo>
                <a:lnTo>
                  <a:pt x="6507125" y="839972"/>
                </a:lnTo>
                <a:lnTo>
                  <a:pt x="10632" y="797442"/>
                </a:lnTo>
                <a:lnTo>
                  <a:pt x="0" y="595423"/>
                </a:lnTo>
                <a:close/>
              </a:path>
            </a:pathLst>
          </a:custGeom>
          <a:gradFill rotWithShape="0">
            <a:gsLst>
              <a:gs pos="0">
                <a:srgbClr val="fae3b7"/>
              </a:gs>
              <a:gs pos="100000">
                <a:srgbClr val="a28949"/>
              </a:gs>
            </a:gsLst>
            <a:lin ang="16200000"/>
          </a:gradFill>
          <a:ln w="0">
            <a:noFill/>
          </a:ln>
          <a:effectLst>
            <a:outerShdw dist="50842" dir="1681176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1979640" y="3575160"/>
            <a:ext cx="42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48a54"/>
                </a:solidFill>
                <a:latin typeface="Calibri"/>
              </a:rPr>
              <a:t>Системи управління базами дан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Стрелка вправо с вырезом 10"/>
          <p:cNvGrpSpPr/>
          <p:nvPr/>
        </p:nvGrpSpPr>
        <p:grpSpPr>
          <a:xfrm>
            <a:off x="8058240" y="6126120"/>
            <a:ext cx="531720" cy="603360"/>
            <a:chOff x="8058240" y="6126120"/>
            <a:chExt cx="531720" cy="603360"/>
          </a:xfrm>
        </p:grpSpPr>
        <p:pic>
          <p:nvPicPr>
            <p:cNvPr id="109" name="Стрелка вправо с вырезом 10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058240" y="6126120"/>
              <a:ext cx="53172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8261280" y="6321600"/>
              <a:ext cx="12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Стрелка вправо с вырезом 11"/>
          <p:cNvGrpSpPr/>
          <p:nvPr/>
        </p:nvGrpSpPr>
        <p:grpSpPr>
          <a:xfrm>
            <a:off x="7559640" y="6126120"/>
            <a:ext cx="530280" cy="603360"/>
            <a:chOff x="7559640" y="6126120"/>
            <a:chExt cx="530280" cy="603360"/>
          </a:xfrm>
        </p:grpSpPr>
        <p:pic>
          <p:nvPicPr>
            <p:cNvPr id="112" name="Стрелка вправо с вырезом 11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559640" y="6126120"/>
              <a:ext cx="5302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 rot="10800000">
              <a:off x="7761240" y="6321240"/>
              <a:ext cx="12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Прямоугольник 12"/>
          <p:cNvGrpSpPr/>
          <p:nvPr/>
        </p:nvGrpSpPr>
        <p:grpSpPr>
          <a:xfrm>
            <a:off x="378000" y="6235560"/>
            <a:ext cx="390240" cy="384480"/>
            <a:chOff x="378000" y="6235560"/>
            <a:chExt cx="390240" cy="384480"/>
          </a:xfrm>
        </p:grpSpPr>
        <p:pic>
          <p:nvPicPr>
            <p:cNvPr id="115" name="Прямоугольник 12" descr="">
              <a:hlinkClick r:id="" action="ppaction://hlinkshowjump?jump=endshow"/>
            </p:cNvPr>
            <p:cNvPicPr/>
            <p:nvPr/>
          </p:nvPicPr>
          <p:blipFill>
            <a:blip r:embed="rId4"/>
            <a:stretch/>
          </p:blipFill>
          <p:spPr>
            <a:xfrm>
              <a:off x="378000" y="6235560"/>
              <a:ext cx="390240" cy="3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95280" y="6251400"/>
              <a:ext cx="35712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7" name="Схема 1" descr=""/>
          <p:cNvPicPr/>
          <p:nvPr/>
        </p:nvPicPr>
        <p:blipFill>
          <a:blip r:embed="rId5"/>
          <a:stretch/>
        </p:blipFill>
        <p:spPr>
          <a:xfrm>
            <a:off x="122400" y="5084640"/>
            <a:ext cx="8869320" cy="1140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"/>
          <p:cNvPicPr/>
          <p:nvPr/>
        </p:nvPicPr>
        <p:blipFill>
          <a:blip r:embed="rId6"/>
          <a:stretch/>
        </p:blipFill>
        <p:spPr>
          <a:xfrm>
            <a:off x="395280" y="237960"/>
            <a:ext cx="24098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олилиния 3"/>
          <p:cNvSpPr/>
          <p:nvPr/>
        </p:nvSpPr>
        <p:spPr>
          <a:xfrm>
            <a:off x="0" y="77760"/>
            <a:ext cx="9164520" cy="1143000"/>
          </a:xfrm>
          <a:custGeom>
            <a:avLst/>
            <a:gdLst/>
            <a:ahLst/>
            <a:rect l="l" t="t" r="r" b="b"/>
            <a:pathLst>
              <a:path w="9164782" h="1714500">
                <a:moveTo>
                  <a:pt x="0" y="322725"/>
                </a:moveTo>
                <a:lnTo>
                  <a:pt x="3703027" y="322725"/>
                </a:lnTo>
                <a:lnTo>
                  <a:pt x="4384964" y="0"/>
                </a:lnTo>
                <a:lnTo>
                  <a:pt x="7377546" y="0"/>
                </a:lnTo>
                <a:lnTo>
                  <a:pt x="8019153" y="66202"/>
                </a:lnTo>
                <a:lnTo>
                  <a:pt x="9154391" y="66202"/>
                </a:lnTo>
                <a:cubicBezTo>
                  <a:pt x="9157855" y="432062"/>
                  <a:pt x="9161318" y="797922"/>
                  <a:pt x="9164782" y="1163782"/>
                </a:cubicBezTo>
                <a:lnTo>
                  <a:pt x="7024255" y="1132609"/>
                </a:lnTo>
                <a:lnTo>
                  <a:pt x="6463146" y="1714500"/>
                </a:lnTo>
                <a:lnTo>
                  <a:pt x="0" y="1714500"/>
                </a:lnTo>
                <a:cubicBezTo>
                  <a:pt x="3464" y="1354282"/>
                  <a:pt x="6927" y="672552"/>
                  <a:pt x="0" y="322725"/>
                </a:cubicBezTo>
                <a:close/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Заголовок 1" descr=""/>
          <p:cNvPicPr/>
          <p:nvPr/>
        </p:nvPicPr>
        <p:blipFill>
          <a:blip r:embed="rId2"/>
          <a:stretch/>
        </p:blipFill>
        <p:spPr>
          <a:xfrm>
            <a:off x="139680" y="291960"/>
            <a:ext cx="6291360" cy="854280"/>
          </a:xfrm>
          <a:prstGeom prst="rect">
            <a:avLst/>
          </a:prstGeom>
          <a:ln w="0">
            <a:noFill/>
          </a:ln>
        </p:spPr>
      </p:pic>
      <p:grpSp>
        <p:nvGrpSpPr>
          <p:cNvPr id="121" name="Подзаголовок 2"/>
          <p:cNvGrpSpPr/>
          <p:nvPr/>
        </p:nvGrpSpPr>
        <p:grpSpPr>
          <a:xfrm>
            <a:off x="66600" y="1420920"/>
            <a:ext cx="9028080" cy="1170000"/>
            <a:chOff x="66600" y="1420920"/>
            <a:chExt cx="9028080" cy="1170000"/>
          </a:xfrm>
        </p:grpSpPr>
        <p:pic>
          <p:nvPicPr>
            <p:cNvPr id="122" name="Подзаголовок 2" descr=""/>
            <p:cNvPicPr/>
            <p:nvPr/>
          </p:nvPicPr>
          <p:blipFill>
            <a:blip r:embed="rId3"/>
            <a:stretch/>
          </p:blipFill>
          <p:spPr>
            <a:xfrm>
              <a:off x="66600" y="1420920"/>
              <a:ext cx="902808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92240" y="1496880"/>
              <a:ext cx="8759520" cy="91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000000"/>
                  </a:solidFill>
                  <a:latin typeface="Calibri"/>
                </a:rPr>
                <a:t>У процесі роботи з БД введення даних здійснюється в довільному порядку. 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Полилиния 7"/>
          <p:cNvSpPr/>
          <p:nvPr/>
        </p:nvSpPr>
        <p:spPr>
          <a:xfrm>
            <a:off x="-31680" y="6480"/>
            <a:ext cx="9175680" cy="357120"/>
          </a:xfrm>
          <a:custGeom>
            <a:avLst/>
            <a:gdLst/>
            <a:ahLst/>
            <a:rect l="l" t="t" r="r" b="b"/>
            <a:pathLst>
              <a:path w="9175898" h="1041991">
                <a:moveTo>
                  <a:pt x="0" y="1041991"/>
                </a:moveTo>
                <a:lnTo>
                  <a:pt x="3902149" y="1041991"/>
                </a:lnTo>
                <a:lnTo>
                  <a:pt x="4401879" y="372140"/>
                </a:lnTo>
                <a:lnTo>
                  <a:pt x="7368363" y="372140"/>
                </a:lnTo>
                <a:lnTo>
                  <a:pt x="7899991" y="669852"/>
                </a:lnTo>
                <a:lnTo>
                  <a:pt x="9165265" y="680484"/>
                </a:lnTo>
                <a:lnTo>
                  <a:pt x="9175898" y="308345"/>
                </a:lnTo>
                <a:lnTo>
                  <a:pt x="8027581" y="308345"/>
                </a:lnTo>
                <a:lnTo>
                  <a:pt x="7453423" y="42531"/>
                </a:lnTo>
                <a:lnTo>
                  <a:pt x="4391246" y="0"/>
                </a:lnTo>
                <a:lnTo>
                  <a:pt x="3732028" y="444344"/>
                </a:lnTo>
                <a:lnTo>
                  <a:pt x="0" y="454975"/>
                </a:lnTo>
                <a:lnTo>
                  <a:pt x="0" y="1041991"/>
                </a:lnTo>
                <a:close/>
              </a:path>
            </a:pathLst>
          </a:custGeom>
          <a:gradFill rotWithShape="0">
            <a:gsLst>
              <a:gs pos="0">
                <a:srgbClr val="fae3b7"/>
              </a:gs>
              <a:gs pos="100000">
                <a:srgbClr val="a28949"/>
              </a:gs>
            </a:gsLst>
            <a:lin ang="5400000"/>
          </a:gradFill>
          <a:ln w="0">
            <a:noFill/>
          </a:ln>
          <a:effectLst>
            <a:outerShdw dist="633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олилиния 8"/>
          <p:cNvSpPr/>
          <p:nvPr/>
        </p:nvSpPr>
        <p:spPr>
          <a:xfrm>
            <a:off x="0" y="792000"/>
            <a:ext cx="9207360" cy="493920"/>
          </a:xfrm>
          <a:custGeom>
            <a:avLst/>
            <a:gdLst/>
            <a:ahLst/>
            <a:rect l="l" t="t" r="r" b="b"/>
            <a:pathLst>
              <a:path w="9207795" h="839972">
                <a:moveTo>
                  <a:pt x="0" y="595423"/>
                </a:moveTo>
                <a:lnTo>
                  <a:pt x="6485860" y="606056"/>
                </a:lnTo>
                <a:lnTo>
                  <a:pt x="7049386" y="0"/>
                </a:lnTo>
                <a:lnTo>
                  <a:pt x="9207795" y="42530"/>
                </a:lnTo>
                <a:lnTo>
                  <a:pt x="9175898" y="244549"/>
                </a:lnTo>
                <a:lnTo>
                  <a:pt x="7145079" y="233916"/>
                </a:lnTo>
                <a:lnTo>
                  <a:pt x="6507125" y="839972"/>
                </a:lnTo>
                <a:lnTo>
                  <a:pt x="10632" y="797442"/>
                </a:lnTo>
                <a:lnTo>
                  <a:pt x="0" y="595423"/>
                </a:lnTo>
                <a:close/>
              </a:path>
            </a:pathLst>
          </a:custGeom>
          <a:gradFill rotWithShape="0">
            <a:gsLst>
              <a:gs pos="0">
                <a:srgbClr val="fae3b7"/>
              </a:gs>
              <a:gs pos="100000">
                <a:srgbClr val="a28949"/>
              </a:gs>
            </a:gsLst>
            <a:lin ang="16200000"/>
          </a:gradFill>
          <a:ln w="0">
            <a:noFill/>
          </a:ln>
          <a:effectLst>
            <a:outerShdw dist="50842" dir="1681176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Стрелка вправо с вырезом 6"/>
          <p:cNvGrpSpPr/>
          <p:nvPr/>
        </p:nvGrpSpPr>
        <p:grpSpPr>
          <a:xfrm>
            <a:off x="8058240" y="6126120"/>
            <a:ext cx="531720" cy="603360"/>
            <a:chOff x="8058240" y="6126120"/>
            <a:chExt cx="531720" cy="603360"/>
          </a:xfrm>
        </p:grpSpPr>
        <p:pic>
          <p:nvPicPr>
            <p:cNvPr id="127" name="Стрелка вправо с вырезом 6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058240" y="6126120"/>
              <a:ext cx="53172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8261280" y="6321600"/>
              <a:ext cx="12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Стрелка вправо с вырезом 9"/>
          <p:cNvGrpSpPr/>
          <p:nvPr/>
        </p:nvGrpSpPr>
        <p:grpSpPr>
          <a:xfrm>
            <a:off x="7559640" y="6126120"/>
            <a:ext cx="530280" cy="603360"/>
            <a:chOff x="7559640" y="6126120"/>
            <a:chExt cx="530280" cy="603360"/>
          </a:xfrm>
        </p:grpSpPr>
        <p:pic>
          <p:nvPicPr>
            <p:cNvPr id="130" name="Стрелка вправо с вырезом 9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7559640" y="6126120"/>
              <a:ext cx="5302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 rot="10800000">
              <a:off x="7761240" y="6321240"/>
              <a:ext cx="12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Прямоугольник 10"/>
          <p:cNvGrpSpPr/>
          <p:nvPr/>
        </p:nvGrpSpPr>
        <p:grpSpPr>
          <a:xfrm>
            <a:off x="165240" y="6291360"/>
            <a:ext cx="388800" cy="390600"/>
            <a:chOff x="165240" y="6291360"/>
            <a:chExt cx="388800" cy="390600"/>
          </a:xfrm>
        </p:grpSpPr>
        <p:pic>
          <p:nvPicPr>
            <p:cNvPr id="133" name="Прямоугольник 10" descr="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165240" y="6291360"/>
              <a:ext cx="38880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79280" y="630864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Дата 11"/>
          <p:cNvSpPr/>
          <p:nvPr/>
        </p:nvSpPr>
        <p:spPr>
          <a:xfrm>
            <a:off x="611280" y="6381720"/>
            <a:ext cx="93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3381-C717-4732-AEA9-9455A70EA383}" type="datetime">
              <a:rPr b="0" lang="uk-UA" sz="1200" spc="-1" strike="noStrike">
                <a:solidFill>
                  <a:srgbClr val="000000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12"/>
          <p:cNvSpPr/>
          <p:nvPr/>
        </p:nvSpPr>
        <p:spPr>
          <a:xfrm>
            <a:off x="8604360" y="6308640"/>
            <a:ext cx="404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D59B-0B10-439C-B010-6EB24B1527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Схема 5" descr=""/>
          <p:cNvPicPr/>
          <p:nvPr/>
        </p:nvPicPr>
        <p:blipFill>
          <a:blip r:embed="rId7"/>
          <a:stretch/>
        </p:blipFill>
        <p:spPr>
          <a:xfrm>
            <a:off x="480960" y="2730600"/>
            <a:ext cx="8139240" cy="1785960"/>
          </a:xfrm>
          <a:prstGeom prst="rect">
            <a:avLst/>
          </a:prstGeom>
          <a:ln w="0">
            <a:noFill/>
          </a:ln>
        </p:spPr>
      </p:pic>
      <p:pic>
        <p:nvPicPr>
          <p:cNvPr id="138" name="Схема 15" descr=""/>
          <p:cNvPicPr/>
          <p:nvPr/>
        </p:nvPicPr>
        <p:blipFill>
          <a:blip r:embed="rId8"/>
          <a:stretch/>
        </p:blipFill>
        <p:spPr>
          <a:xfrm>
            <a:off x="755640" y="4578480"/>
            <a:ext cx="73152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Схема 1" descr=""/>
          <p:cNvPicPr/>
          <p:nvPr/>
        </p:nvPicPr>
        <p:blipFill>
          <a:blip r:embed="rId2"/>
          <a:stretch/>
        </p:blipFill>
        <p:spPr>
          <a:xfrm>
            <a:off x="609480" y="73080"/>
            <a:ext cx="7772400" cy="1542960"/>
          </a:xfrm>
          <a:prstGeom prst="rect">
            <a:avLst/>
          </a:prstGeom>
          <a:ln w="0">
            <a:noFill/>
          </a:ln>
        </p:spPr>
      </p:pic>
      <p:pic>
        <p:nvPicPr>
          <p:cNvPr id="140" name="Схема 2" descr=""/>
          <p:cNvPicPr/>
          <p:nvPr/>
        </p:nvPicPr>
        <p:blipFill>
          <a:blip r:embed="rId3"/>
          <a:stretch/>
        </p:blipFill>
        <p:spPr>
          <a:xfrm>
            <a:off x="12600" y="1176480"/>
            <a:ext cx="9380520" cy="56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Схема 1" descr=""/>
          <p:cNvPicPr/>
          <p:nvPr/>
        </p:nvPicPr>
        <p:blipFill>
          <a:blip r:embed="rId2"/>
          <a:stretch/>
        </p:blipFill>
        <p:spPr>
          <a:xfrm>
            <a:off x="457200" y="212760"/>
            <a:ext cx="8236080" cy="1378080"/>
          </a:xfrm>
          <a:prstGeom prst="rect">
            <a:avLst/>
          </a:prstGeom>
          <a:ln w="0">
            <a:noFill/>
          </a:ln>
        </p:spPr>
      </p:pic>
      <p:pic>
        <p:nvPicPr>
          <p:cNvPr id="142" name="Схема 2" descr=""/>
          <p:cNvPicPr/>
          <p:nvPr/>
        </p:nvPicPr>
        <p:blipFill>
          <a:blip r:embed="rId3"/>
          <a:stretch/>
        </p:blipFill>
        <p:spPr>
          <a:xfrm>
            <a:off x="-152280" y="1517760"/>
            <a:ext cx="944856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Схема 2" descr=""/>
          <p:cNvPicPr/>
          <p:nvPr/>
        </p:nvPicPr>
        <p:blipFill>
          <a:blip r:embed="rId2"/>
          <a:stretch/>
        </p:blipFill>
        <p:spPr>
          <a:xfrm>
            <a:off x="317520" y="165240"/>
            <a:ext cx="8508960" cy="1541160"/>
          </a:xfrm>
          <a:prstGeom prst="rect">
            <a:avLst/>
          </a:prstGeom>
          <a:ln w="0">
            <a:noFill/>
          </a:ln>
        </p:spPr>
      </p:pic>
      <p:pic>
        <p:nvPicPr>
          <p:cNvPr id="144" name="Схема 4" descr=""/>
          <p:cNvPicPr/>
          <p:nvPr/>
        </p:nvPicPr>
        <p:blipFill>
          <a:blip r:embed="rId3"/>
          <a:stretch/>
        </p:blipFill>
        <p:spPr>
          <a:xfrm>
            <a:off x="291960" y="1390680"/>
            <a:ext cx="8255160" cy="981000"/>
          </a:xfrm>
          <a:prstGeom prst="rect">
            <a:avLst/>
          </a:prstGeom>
          <a:ln w="0">
            <a:noFill/>
          </a:ln>
        </p:spPr>
      </p:pic>
      <p:pic>
        <p:nvPicPr>
          <p:cNvPr id="145" name="Схема 8" descr=""/>
          <p:cNvPicPr/>
          <p:nvPr/>
        </p:nvPicPr>
        <p:blipFill>
          <a:blip r:embed="rId4"/>
          <a:stretch/>
        </p:blipFill>
        <p:spPr>
          <a:xfrm>
            <a:off x="-12600" y="2322360"/>
            <a:ext cx="930276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Схема 1" descr=""/>
          <p:cNvPicPr/>
          <p:nvPr/>
        </p:nvPicPr>
        <p:blipFill>
          <a:blip r:embed="rId2"/>
          <a:stretch/>
        </p:blipFill>
        <p:spPr>
          <a:xfrm>
            <a:off x="401760" y="237960"/>
            <a:ext cx="8340480" cy="1371600"/>
          </a:xfrm>
          <a:prstGeom prst="rect">
            <a:avLst/>
          </a:prstGeom>
          <a:ln w="0">
            <a:noFill/>
          </a:ln>
        </p:spPr>
      </p:pic>
      <p:pic>
        <p:nvPicPr>
          <p:cNvPr id="147" name="Схема 2" descr=""/>
          <p:cNvPicPr/>
          <p:nvPr/>
        </p:nvPicPr>
        <p:blipFill>
          <a:blip r:embed="rId3"/>
          <a:stretch/>
        </p:blipFill>
        <p:spPr>
          <a:xfrm>
            <a:off x="407880" y="1573200"/>
            <a:ext cx="832824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Схема 2" descr=""/>
          <p:cNvPicPr/>
          <p:nvPr/>
        </p:nvPicPr>
        <p:blipFill>
          <a:blip r:embed="rId2"/>
          <a:stretch/>
        </p:blipFill>
        <p:spPr>
          <a:xfrm>
            <a:off x="438120" y="268200"/>
            <a:ext cx="8261280" cy="1268640"/>
          </a:xfrm>
          <a:prstGeom prst="rect">
            <a:avLst/>
          </a:prstGeom>
          <a:ln w="0">
            <a:noFill/>
          </a:ln>
        </p:spPr>
      </p:pic>
      <p:pic>
        <p:nvPicPr>
          <p:cNvPr id="149" name="Схема 1" descr=""/>
          <p:cNvPicPr/>
          <p:nvPr/>
        </p:nvPicPr>
        <p:blipFill>
          <a:blip r:embed="rId3"/>
          <a:stretch/>
        </p:blipFill>
        <p:spPr>
          <a:xfrm>
            <a:off x="420840" y="1590840"/>
            <a:ext cx="827856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15:43:20Z</dcterms:created>
  <dc:creator>KEK$</dc:creator>
  <dc:description/>
  <dc:language>en-US</dc:language>
  <cp:lastModifiedBy>Мар'яна</cp:lastModifiedBy>
  <dcterms:modified xsi:type="dcterms:W3CDTF">2014-02-26T21:01:40Z</dcterms:modified>
  <cp:revision>65</cp:revision>
  <dc:subject/>
  <dc:title>GOL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0009345</vt:lpwstr>
  </property>
</Properties>
</file>