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257-11DB-4532-BBD3-ABEEA405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824-7C48-486E-BC4E-A22D91C7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1CF-0F44-4306-940D-14F14C86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4C0-E7E1-4783-9241-E81A0539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0E5C-698F-4CD9-B787-31836C19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13E-E643-412A-A406-2F4F115F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097-8188-49F0-A69C-FDD246B0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82A8-B8C5-4ADF-B091-06367A4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394-7CD1-4A01-A82D-753BB92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6E5E-2286-4C2D-8D50-E48CEA3A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9410-0F61-4278-BFC4-DEC0456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018-F91E-45C1-8A79-99CC620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E8A-02A4-4311-9B7D-1FFBF67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0AD-A0E1-454A-BE8B-87FE263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AB75-618A-49DE-9B4E-996A796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898-2D17-4463-8C99-A87FA0A2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1155-AA6C-4999-9A21-EC686ED4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BEC-9229-407E-9E5B-3EC39B1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CF5-CB2B-48D5-A04B-C3883062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E9A-8C72-44E4-B405-4527214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5EC-F148-4CDE-8BA4-3081D9E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97F-2F2F-4849-A1DF-43662FF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0A0-ECF2-4C66-9BEB-AFEA4BB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157-CDE6-4D7B-8280-59A04789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AA0-5421-4EEE-8DD3-7A6ECD1B3B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FC6C-7FF8-403D-9F23-0DD1B26C3A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666699"/>
                </a:solidFill>
                <a:latin typeface="Tahoma"/>
              </a:rPr>
              <a:t>Призначення, можливості і класифікація систем обробки текстів.Основи роботи з текстовим процесором.</a:t>
            </a:r>
            <a:r>
              <a:rPr b="0" lang="uk-UA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створити новий текстовий документ 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Файл /Созда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піктограми, що знаходиться на панелі зада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зберегти документ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Файл/ Сохрани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Файл/ Сохранить к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нопка на панелі швидкого доступ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омбінація клавіш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934b"/>
                </a:solidFill>
                <a:latin typeface="Tahoma"/>
              </a:rPr>
              <a:t>Переміщення в тексті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оme - у початок поточної стріч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End - у кінець поточної стріч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Page up - на екранну сторінку вгор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Page down - на екранну сторінку дониз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Ctrl + Ноme - у початок текс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Ctrl + End - у кінець текс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3046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34b"/>
                </a:solidFill>
                <a:latin typeface="Tahoma"/>
              </a:rPr>
              <a:t>Налаштування панелі швидкого доступу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700360" y="1206360"/>
            <a:ext cx="62103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5"/>
          <p:cNvSpPr/>
          <p:nvPr/>
        </p:nvSpPr>
        <p:spPr>
          <a:xfrm>
            <a:off x="3492360" y="5013360"/>
            <a:ext cx="5430960" cy="1655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а для </a:t>
            </a:r>
            <a:r>
              <a:rPr b="0" lang="uk-UA" sz="2400" spc="-1" strike="noStrike">
                <a:solidFill>
                  <a:srgbClr val="660033"/>
                </a:solidFill>
                <a:latin typeface="Calibri"/>
              </a:rPr>
              <a:t>створення макетів, що містять текст і графічні зображення для тиражування в друкар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obe PageMarket , Corel Ventura, Publisher, Quark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3"/>
          <p:cNvSpPr/>
          <p:nvPr/>
        </p:nvSpPr>
        <p:spPr>
          <a:xfrm>
            <a:off x="3492360" y="2565360"/>
            <a:ext cx="5430960" cy="2303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, форматування тексту, вставлення графічних об’єктів і діаграм  та збереження у фай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soft Word, Word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fect, OpenOffice,Word-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3492360" y="981000"/>
            <a:ext cx="5400720" cy="1494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 та збереження у файлах неформатованого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-Edit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трелка вправо 10"/>
          <p:cNvSpPr/>
          <p:nvPr/>
        </p:nvSpPr>
        <p:spPr>
          <a:xfrm>
            <a:off x="2916360" y="551664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право 9"/>
          <p:cNvSpPr/>
          <p:nvPr/>
        </p:nvSpPr>
        <p:spPr>
          <a:xfrm>
            <a:off x="2892600" y="3589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право 7"/>
          <p:cNvSpPr/>
          <p:nvPr/>
        </p:nvSpPr>
        <p:spPr>
          <a:xfrm>
            <a:off x="2892600" y="1573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с двумя скругленными противолежащими углами 5"/>
          <p:cNvSpPr/>
          <p:nvPr/>
        </p:nvSpPr>
        <p:spPr>
          <a:xfrm>
            <a:off x="179280" y="5300640"/>
            <a:ext cx="2643120" cy="102240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авничі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с двумя скругленными противолежащими углами 4"/>
          <p:cNvSpPr/>
          <p:nvPr/>
        </p:nvSpPr>
        <p:spPr>
          <a:xfrm>
            <a:off x="179280" y="1341360"/>
            <a:ext cx="2571840" cy="1019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ред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с двумя скругленными противолежащими углами 6"/>
          <p:cNvSpPr/>
          <p:nvPr/>
        </p:nvSpPr>
        <p:spPr>
          <a:xfrm>
            <a:off x="179280" y="3141720"/>
            <a:ext cx="2643120" cy="1073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процес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89000"/>
            <a:ext cx="7920000" cy="718920"/>
          </a:xfrm>
          <a:prstGeom prst="roundRect">
            <a:avLst>
              <a:gd name="adj" fmla="val 16667"/>
            </a:avLst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34b"/>
                </a:solidFill>
                <a:latin typeface="Arial"/>
              </a:rPr>
              <a:t>Програми для роботи з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Tahoma"/>
              </a:rPr>
              <a:t>Формати файлів документів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500868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зширенн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18720">
                      <a:solidFill>
                        <a:srgbClr val="dddcc5"/>
                      </a:solidFill>
                    </a:lnB>
                    <a:solidFill>
                      <a:srgbClr val="9db0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18720">
                      <a:solidFill>
                        <a:srgbClr val="dddcc5"/>
                      </a:solidFill>
                    </a:lnB>
                    <a:solidFill>
                      <a:srgbClr val="9db0b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1872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ичайн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1872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атований текст у формат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торі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Tahoma"/>
              </a:rPr>
              <a:t>Знайомство з </a:t>
            </a:r>
            <a:r>
              <a:rPr b="1" lang="en-US" sz="3200" spc="-1" strike="noStrike">
                <a:solidFill>
                  <a:srgbClr val="0099cc"/>
                </a:solidFill>
                <a:latin typeface="Tw Cen MT"/>
              </a:rPr>
              <a:t>Microsoft Word 2007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6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85716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07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9"/>
          <p:cNvSpPr/>
          <p:nvPr/>
        </p:nvSpPr>
        <p:spPr>
          <a:xfrm>
            <a:off x="205092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лево 16"/>
          <p:cNvSpPr/>
          <p:nvPr/>
        </p:nvSpPr>
        <p:spPr>
          <a:xfrm rot="16200000">
            <a:off x="4969440" y="5694840"/>
            <a:ext cx="928800" cy="42876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лево 17"/>
          <p:cNvSpPr/>
          <p:nvPr/>
        </p:nvSpPr>
        <p:spPr>
          <a:xfrm rot="10800000">
            <a:off x="6659640" y="5157360"/>
            <a:ext cx="1533600" cy="4986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8"/>
          <p:cNvSpPr/>
          <p:nvPr/>
        </p:nvSpPr>
        <p:spPr>
          <a:xfrm>
            <a:off x="2973240" y="5234040"/>
            <a:ext cx="4071960" cy="35568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5"/>
          <p:cNvSpPr/>
          <p:nvPr/>
        </p:nvSpPr>
        <p:spPr>
          <a:xfrm>
            <a:off x="2484360" y="3789360"/>
            <a:ext cx="350064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трелка влево 11"/>
          <p:cNvSpPr/>
          <p:nvPr/>
        </p:nvSpPr>
        <p:spPr>
          <a:xfrm>
            <a:off x="0" y="287352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лево 12"/>
          <p:cNvSpPr/>
          <p:nvPr/>
        </p:nvSpPr>
        <p:spPr>
          <a:xfrm rot="5400000">
            <a:off x="1370160" y="2326320"/>
            <a:ext cx="928800" cy="42876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3"/>
          <p:cNvSpPr/>
          <p:nvPr/>
        </p:nvSpPr>
        <p:spPr>
          <a:xfrm>
            <a:off x="900000" y="2852640"/>
            <a:ext cx="21430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трелка влево 7"/>
          <p:cNvSpPr/>
          <p:nvPr/>
        </p:nvSpPr>
        <p:spPr>
          <a:xfrm>
            <a:off x="5148360" y="907920"/>
            <a:ext cx="1500120" cy="42876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ІНТЕРФЕЙС ПРОГРАМИ MICROSOFT WORD 2010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нопка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ffice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і панель швидкого доступу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26" name="Рисунок 3" descr="02_02.png"/>
          <p:cNvPicPr/>
          <p:nvPr/>
        </p:nvPicPr>
        <p:blipFill>
          <a:blip r:embed="rId1"/>
          <a:stretch/>
        </p:blipFill>
        <p:spPr>
          <a:xfrm>
            <a:off x="250920" y="1700280"/>
            <a:ext cx="4429080" cy="4476600"/>
          </a:xfrm>
          <a:prstGeom prst="rect">
            <a:avLst/>
          </a:prstGeom>
          <a:ln w="0">
            <a:noFill/>
          </a:ln>
        </p:spPr>
      </p:pic>
      <p:grpSp>
        <p:nvGrpSpPr>
          <p:cNvPr id="427" name="Группа 7"/>
          <p:cNvGrpSpPr/>
          <p:nvPr/>
        </p:nvGrpSpPr>
        <p:grpSpPr>
          <a:xfrm>
            <a:off x="4716360" y="1989000"/>
            <a:ext cx="4286520" cy="3965760"/>
            <a:chOff x="4716360" y="1989000"/>
            <a:chExt cx="4286520" cy="3965760"/>
          </a:xfrm>
        </p:grpSpPr>
        <p:pic>
          <p:nvPicPr>
            <p:cNvPr id="428" name="Рисунок 4" descr="быстрый запуск.bmp"/>
            <p:cNvPicPr/>
            <p:nvPr/>
          </p:nvPicPr>
          <p:blipFill>
            <a:blip r:embed="rId2"/>
            <a:stretch/>
          </p:blipFill>
          <p:spPr>
            <a:xfrm>
              <a:off x="4716360" y="1989000"/>
              <a:ext cx="4215240" cy="39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Прямоугольник 5"/>
            <p:cNvSpPr/>
            <p:nvPr/>
          </p:nvSpPr>
          <p:spPr>
            <a:xfrm>
              <a:off x="6216480" y="1989000"/>
              <a:ext cx="2786400" cy="39294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934b"/>
                </a:solidFill>
                <a:latin typeface="Tahoma"/>
              </a:rPr>
              <a:t>Як запустити програму </a:t>
            </a: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Word</a:t>
            </a:r>
            <a:r>
              <a:rPr b="1" lang="uk-UA" sz="4000" spc="-1" strike="noStrike">
                <a:solidFill>
                  <a:srgbClr val="95934b"/>
                </a:solidFill>
                <a:latin typeface="Tahom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 допомогою ярлика програми чи докум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уск/Всі програми/MICRO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/ MICRO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Файл/Відкрити, якщо одне вікно вже відкри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закрити вікно документа 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омбінація клавіш Alt+F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кнопки (хрестик) в панелі керування вікн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основного меню Файл/Закри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4:53:53Z</dcterms:created>
  <dc:creator>Marsik</dc:creator>
  <dc:description/>
  <dc:language>en-US</dc:language>
  <cp:lastModifiedBy>Marsik</cp:lastModifiedBy>
  <dcterms:modified xsi:type="dcterms:W3CDTF">2014-03-24T20:29:48Z</dcterms:modified>
  <cp:revision>4</cp:revision>
  <dc:subject/>
  <dc:title>Призначення, можливості і класифікація систем обробки текстів.Основи роботи з текстовим процесором. </dc:title>
</cp:coreProperties>
</file>