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7B9-EFA7-451C-B191-B24BCC97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40F-31F4-47EB-AC8B-B326FF60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5AD-AE47-4D88-9DA9-5FBCD151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7F8-5605-47DB-8853-BEBFFB17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4E37-3567-4A68-BF43-BEC6B623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E818-A25B-4591-914A-5B5BACC4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BECD-71A8-4DE0-A70A-7EFF09F3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ED60-C815-4332-B09D-22B694F3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7AED-FE1E-4035-BEBC-E7EDC27F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BCE-0226-4264-8E3B-2373A346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A37F-0E5E-424F-A234-1D698C3E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0A4-EB0B-48D2-9E73-3459B73C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E146-5E21-4DEB-A78D-02A0B41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08DE-A337-4A96-BD35-7188344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E526-2CE7-45D1-A81E-90222C27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A24D-4D56-4A88-9381-1C1FE73F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8AF7-D8A7-46B9-A15E-C18D04A7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19C50-71F4-462D-A8BA-6DF4F088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3E465-72D6-4C12-94DB-AD5AB75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437BA-09AE-40A2-955C-D866B056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5752B-5D4C-489C-A82B-8531030D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9ED55-BBF2-4F27-B12E-8F67B3E3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C70-052A-468C-ACE2-1E71AFBC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47DF5-BE90-4AE0-8DC4-37AB4571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0868F-BA4E-477F-AC67-374BE26B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34124-7414-44B9-B590-CDA2E9A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8561A-3B52-4AEC-87F4-6639A093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88027-F87F-4A65-A088-4248A20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572F7-8E68-499F-87EA-68B5F173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9EA7F-5EF4-4C6F-A3D2-EFA2AFA8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A8B8-4362-4793-97FA-DDD5442A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B26D6-1C96-4A39-96A7-BA97097C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DCA8B-AA0C-487B-A484-1910DA8A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994-9E84-4BC8-8348-552D4ABF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D7A4B-2F43-45AA-BEE0-3B79DFA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6D3C1-89EE-492F-BCE5-9F3111BA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249A-5DA3-48B8-BE34-D5F60FC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CD7D4-C016-4F67-B9A8-4D422327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533E-929F-4EA5-93BA-302DD12E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D3F81-2986-4007-9301-9344515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8B25-760F-4A31-AF66-159A895C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7ADA-C1EB-464A-A78B-D5FF7EAC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8A786-B7BC-4DE2-B0A7-69C81D4A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C96-D375-48DB-ABC0-CAA2977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AAE-6FD0-489A-B5A1-BFFEB6EE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891-8DFD-44BD-8D06-560555E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97D-71A2-4D53-9FC7-2CDC8D9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939-7E5C-4DDD-8966-60882EB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кут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кут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кут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кут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кут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Округлений прямокут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Округлений прямокут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кут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кут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кут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кут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кут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кут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E9ED-892E-4012-BFC4-5DF483B8B0DA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кут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кут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кут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кут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кут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круглений прямокут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круглений прямокут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кут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кут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кут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кут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ee2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9634-4112-4704-862B-7BB5D2125A07}" type="slidenum">
              <a:rPr b="0" lang="uk-UA" sz="2400" spc="-1" strike="noStrike">
                <a:solidFill>
                  <a:srgbClr val="fee29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кут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кут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кут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кут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кут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Округлений прямокут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круглений прямокут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кут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кут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кут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кут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кут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кут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E578-00F0-4469-9C7D-CBDCB0F1CCA8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кут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кут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кут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кут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кут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круглений прямокут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Округлений прямокут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кут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кут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кут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кут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кут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кут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EE79-FBF2-4BF8-8BA2-BF4AF59AF653}" type="slidenum"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ee29c"/>
                </a:solidFill>
                <a:latin typeface="Trebuchet MS"/>
              </a:rPr>
              <a:t>Операції з фрагментами тексту. Робота з кількома документами.</a:t>
            </a:r>
            <a:r>
              <a:rPr b="0" lang="uk-UA" sz="3600" spc="-1" strike="noStrike">
                <a:solidFill>
                  <a:srgbClr val="fee29c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4f271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Опишіть особливості форматування тексту за допомогою панелі інструменті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Які параметри форматування тексту можна задати, користуючись вкладкою Шрифт і Абзац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f271c"/>
                </a:solidFill>
                <a:latin typeface="Trebuchet MS"/>
              </a:rPr>
              <a:t>Визначте, які з рядків надруковані за правилами вводу: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1) №78;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2) № 78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3)  “Інформатика”;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4) “Інформатика“ 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5) ( урок ) ;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6) (урок)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7) він, вона, вони;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8) він , вона , вон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Видалення фрагментів тексту 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тиснути клавішу  Delete, або Ctrl+X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В контекстному меню виконати команду Виріза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 панелі інструментів пункту Головна виконати команду Виріза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Копіювання фрагментів тексту 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тиснути комбінацію клавіш Ctrl+C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В контекстному  меню виконати команду Копіюва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 панелі інструментів пункту Головна виконати команду Копіюва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ЛКМ + Ctrl та перетягнути на нове місц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В</a:t>
            </a: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ставлення фрагментів тексту 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тиснути комбінацію клавіш Ctrl+V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В контекстному  меню виконати команду Встави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 панелі інструментів пункту Головна виконати команду Встави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Переміщення фрагментів  тексту 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Ctrl+Х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Контекстне  меню - команда Виріза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На панелі інструментів пункту Головна виконати команду Виріза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ЛКМ перетягнути на нове місц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f271c"/>
                </a:solidFill>
                <a:latin typeface="Trebuchet MS"/>
              </a:rPr>
              <a:t>Робота з кількома документами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4920" y="1981080"/>
            <a:ext cx="8497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Вигляд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Перейти в інше вікно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(отримаємо список відкритих документів Word, де можна вибрати потрібний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Вигляд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Нове вікно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(редагування, форматування створеного документу та при умові збереження і цього документу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Вікно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- 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Роздільник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(дає можливість одночасно переглядати різні розділи документу, розділивши вікно документа на дві частин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Зняти поділ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(відмінити режим поділу вікна на дві частини)</a:t>
            </a: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5:15:32Z</dcterms:created>
  <dc:creator>Marsik</dc:creator>
  <dc:description/>
  <dc:language>en-US</dc:language>
  <cp:lastModifiedBy>Іванка</cp:lastModifiedBy>
  <dcterms:modified xsi:type="dcterms:W3CDTF">2014-03-06T18:29:38Z</dcterms:modified>
  <cp:revision>3</cp:revision>
  <dc:subject/>
  <dc:title>Операції з фрагментами тексту. Робота з кількома документами. </dc:title>
</cp:coreProperties>
</file>