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AC0-2D16-4882-8623-D8AFF0A4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FE7-BF75-406B-AFF5-B793303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66A-E065-412F-A532-871528CE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D8C-545E-483C-8D43-D3EA9F77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6896-0C22-4EC8-BE6B-31E11374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B807-2FD7-4751-A07B-ACFC0662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7C4F-76B5-448E-87EF-6FF6922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D7A0-FAAE-4AEB-B2A5-DC0922D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5AD1-171E-4EC4-B74C-B64F9206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AB61-F043-4717-B7E3-0F03DF59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88D-7D9D-4039-B147-346052F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BA1-73E9-4DA8-B6EA-8C394547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9FAD-0C4A-42D9-BE2F-7B93A99D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DD03-1CA8-412D-B3DE-F982387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25E3-ECA8-4838-BAD5-8489FF80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EF7B-EAEE-450F-B317-C5E95D9D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7CA0-7CB6-4363-A9D2-0E2036D5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9CF57-02F6-4C03-A050-0DD0878C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DA224-F84C-41DF-AAA8-0CDA3795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EDF9F-D5E5-478B-AA3E-D438C4D9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486F2-952D-499D-AFC7-6794F928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C7170-5BE0-41BD-BEEA-E2044230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794-5407-470E-9975-E22991F2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18653-38F8-4EE4-AA78-D5B1CB18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CB1E8-31A7-4366-8DF9-C7CF70F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DFB11-C896-4E56-8380-6E1CCC6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968DE-DED5-48E4-9889-DA1F7057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4CF58-10A5-4FDC-9FDF-1138769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5AFB4-7FE4-4E85-919E-66F1D5A8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28FAA-3868-4113-BB97-2CAC2474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23ED-2D7E-4F53-8E05-C3D687C8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50D84-0CD8-4C40-B802-1DA9FFA9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A7F2-5A6F-4302-990A-0B2ABEE8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ED6-09B7-4B0A-89B0-67E88F02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D42C-87D3-4F0F-8764-9453EC67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2A320-4FAA-4143-B3C0-A41B3653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CB97-83DB-4E19-925D-A39E5294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4E9F-8725-4671-9BD3-F40595D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0B660-4C1D-4CC9-9851-4CE622E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4D9F-BD1C-42E6-BF58-FEA2206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60C65-883B-42BA-9D62-58F565E2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02C8-DE30-4408-95ED-6FEF2DFF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15BBD-69F0-4A60-9425-C027977E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8D1-5D34-420F-A98B-5DE4AE78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6A9-1FB6-4E41-A8E1-CA9817D6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8F1-3CCF-44BB-B0E6-C66B3260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46A-831E-4627-B921-53A09BA7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78C-B54A-42A2-9EAE-07C8FDD7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кут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кут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кут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кут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кут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Округлений прямокут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Округлений прямокут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кут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кут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кут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кут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кут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кут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512F-3EEC-457F-AB9A-63FC35F36687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кут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кут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кут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кут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кут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круглений прямокут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круглений прямокут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кут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кут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кут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кут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ee2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6B3E-16FE-445B-88E6-16493A373785}" type="slidenum">
              <a:rPr b="0" lang="uk-UA" sz="2400" spc="-1" strike="noStrike">
                <a:solidFill>
                  <a:srgbClr val="fee29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кут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кут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кут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кут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кут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Округлений прямокут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круглений прямокут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кут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кут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кут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кут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кут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кут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408A-F22B-4F29-B0EB-614FC8C8E6A3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кут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кут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кут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кут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кут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круглений прямокут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Округлений прямокут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кут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кут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кут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кут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кут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кут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CBCA-32D2-4C25-BAEE-3A0C674389AC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ee29c"/>
                </a:solidFill>
                <a:latin typeface="Trebuchet MS"/>
              </a:rPr>
              <a:t>Операції з фрагментами тексту. Робота з кількома документами.</a:t>
            </a:r>
            <a:r>
              <a:rPr b="0" lang="uk-UA" sz="3600" spc="-1" strike="noStrike">
                <a:solidFill>
                  <a:srgbClr val="fee29c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f271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Опишіть особливості форматування тексту за допомогою панелі інструменті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Які параметри форматування тексту можна задати, користуючись вкладкою Шрифт і Абзац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f271c"/>
                </a:solidFill>
                <a:latin typeface="Trebuchet MS"/>
              </a:rPr>
              <a:t>Визначте, які з рядків надруковані за правилами вводу: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1) №78;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2) № 78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3)  “Інформатика”;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4) “Інформатика“ 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5) ( урок ) ;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6) (урок)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7) він, вона, вони;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8) він , вона , вон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Видалення фрагментів тексту 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тиснути клавішу  Delete, або Ctrl+X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В контекстному меню виконати команду Виріза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 панелі інструментів пункту Головна виконати команду Виріза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Копіювання фрагментів тексту 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тиснути комбінацію клавіш Ctrl+C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В контекстному  меню виконати команду Копіюва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 панелі інструментів пункту Головна виконати команду Копіюва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ЛКМ + Ctrl та перетягнути на нове місц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В</a:t>
            </a: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ставлення фрагментів тексту 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тиснути комбінацію клавіш Ctrl+V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В контекстному  меню виконати команду Встави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 панелі інструментів пункту Головна виконати команду Встави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Переміщення фрагментів  тексту 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Ctrl+Х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Контекстне  меню - команда Виріза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 панелі інструментів пункту Головна виконати команду Виріза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ЛКМ перетягнути на нове місц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Робота з кількома документами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4920" y="1981080"/>
            <a:ext cx="8497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Вигляд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ерейти в інше вікно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(отримаємо список відкритих документів Word, де можна вибрати потрібний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Вигляд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Нове вікно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(редагування, форматування створеного документу та при умові збереження і цього документу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Вікно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- 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Роздільник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(дає можливість одночасно переглядати різні розділи документу, розділивши вікно документа на дві частин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Зняти поділ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(відмінити режим поділу вікна на дві частини)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5:15:32Z</dcterms:created>
  <dc:creator>Marsik</dc:creator>
  <dc:description/>
  <dc:language>en-US</dc:language>
  <cp:lastModifiedBy>Іванка</cp:lastModifiedBy>
  <dcterms:modified xsi:type="dcterms:W3CDTF">2014-03-06T18:29:38Z</dcterms:modified>
  <cp:revision>3</cp:revision>
  <dc:subject/>
  <dc:title>Операції з фрагментами тексту. Робота з кількома документами. </dc:title>
</cp:coreProperties>
</file>