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08D-2FFF-4CA7-9CCB-B9037DE7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285-EFAB-4AB7-91A8-AED62D90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519-7CEE-4537-BC64-76049EA0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D2D-52AF-47AA-9237-13A2495B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7B5EF-3ACB-4E7E-99E5-73592AFD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D4D53-A6E3-4BC4-AAC5-575AF99F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ABD53-6475-4A7C-BC95-7AFE28A7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E01F4-6483-434F-8E4F-816D8F5D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0CEA0-6EE6-485F-8D1E-9E92099D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FA399-0B98-420C-B53B-29764676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D0351-7345-4048-85E9-F877417F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25F-65FC-4354-B409-D33061A4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3F85A-A704-411F-AF3F-C5F0AA9C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229FD-DA1D-4A60-BA58-F7C57B36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90E37-C7C2-48CC-B844-A3CEC48E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3B10E-F8BE-4CF1-BEAF-AA8B7AB4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3DD44-1629-4B23-8339-FD2D2463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BC9E1-9FEE-4C88-B31D-4FE43869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4AB30-2408-44C5-8641-C4A9CFA1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00297-286E-4359-AA65-3FC0695B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6975D-127A-428A-B343-572BAA85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EF900-1311-4BDC-9EF1-D4BF6A2F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C478-61BA-4A95-AE24-8FCE5096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FD012-5512-454E-8CB4-E7A62C39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B6D91-625B-4D7D-B1BA-60E5499E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0804-5545-49DF-B12E-3AC10C8C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7914D-1554-48FA-8C56-F9C2CD9E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AE8E4-E49A-49CA-BBE4-34D2FB20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A1DE8-47E0-4C60-A14B-12C1F552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ADAC8-2AE9-456E-94B5-AF059B27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66BFB0-A720-41EA-A0E6-FC733F1E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FA1E8-26EA-42BB-88C2-5B0E68A3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A66AE8-D102-4C54-A3F0-D2598A23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C34-AB36-4FA1-88A8-5ABD8E19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665FE8-8290-477D-918F-E6EBB536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6BB58A-32DF-4395-8FE2-1E8CCC64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EDF973-3919-4924-BD5F-2CAD083A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E7E0DA-A4B1-42C5-A140-AA0DB442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DEBAE8-232D-4756-A527-DF1E76B6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5E0457-F4E1-41F5-A173-EB4A816D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04F70-00AF-44A6-B874-065407BF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ABAE9C-CDBB-4BAD-B61C-EF6F98B5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8E152F-5A70-47C2-9F06-A687F95E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812F1-E8A4-4961-A3FB-22AE8F24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4C7-9B54-4EFA-BD44-2B56DE5C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BD091-F6D5-472D-BF38-E54B8B65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B6D0DA-008F-4FD9-B3E7-EBA6E640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67BA5B-1DC6-4899-896E-8F67FC88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8F307-2313-4041-B6B6-3DCADBEF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7BBAFF-D8D6-45AE-900A-EEF0618C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E4741D-9223-456B-AB87-AF921896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7AB19-DBFE-4ABE-ADE8-95011C03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6C9B9-C40C-43B3-950B-4FFDA66F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C143C-38FF-4F0F-AFBF-999920CA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5DC63-7B93-4CBC-A757-11E3F0D8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75F-02D7-488F-9090-B0885C4C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2F0D2A-F5DB-443B-9E59-3C7A8E6B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6FABB-A3F5-4EB0-A3F0-80A459E4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36880-1C4D-4178-A230-59475402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6CD14-92E7-4687-8F44-C340F812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A026C-F322-4E83-8E63-4F7FCD0C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435DB-F1E8-48A8-83FD-30C31329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CA4BE-8B5E-4A0F-B3AA-3053E66F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8C866-F49F-4FDA-8795-A939212B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0F1F3-81AA-4D1B-82D1-A1DC0561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F6D62-D32E-4D70-B4FE-F8D68232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F87-231B-4CC2-B445-460368A1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9A19B-68AB-4E99-BEE3-E7E804B0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29688-4718-48A6-BEDE-E0B8A46C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579A5-C3F0-449B-8257-B783785A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D35-693B-42CD-9E3E-FD3470D4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BF1-1B57-4238-9002-21027472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кут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кутник 1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кутник 1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кутник 16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а сполучна лінія 1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 сполучна лінія 1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 сполучна ліні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а сполучна лінія 20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 сполучна лінія 22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а сполучна лінія 23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кутник 24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Овал 25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Овал 26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Овал 27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Овал 28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Овал 29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D100-E8D2-458B-B8BB-5BE442654F5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а сполучна ліні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 сполучна ліні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 сполучна ліні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кут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 сполучна ліні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12D6-A05E-4B16-B2F6-409FA910260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кут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кутник 1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кутник 1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кутник 16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 сполучна лінія 1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 сполучна лінія 1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 сполучна ліні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 сполучна лінія 20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 сполучна лінія 22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кутник 23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4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5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6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7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28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 сполучна лінія 29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 сполучна ліні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 сполучна лінія 13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 сполучна ліні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 сполучна ліні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кут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 сполучна ліні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9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а сполучна ліні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 сполучна ліні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кутник 16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 сполучна ліні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 сполучна ліні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 сполучна ліні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а сполучна ліні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 сполучна ліні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 сполучна ліні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кут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 сполучна ліні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ВВЕДЕННЯ І РЕДАГУВАННЯ ТЕКСТУ. ВИДІЛЕННЯ ФРАГМЕНТІВ ТЕКСТУ. ПЕРЕВІРКА ПРАВОПИСУ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788000" y="170028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Якщо скасування виявилося помилковим: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Слід клацнути кнопку   (Повернути)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Натиснути комбінацію клавіш Ctrl+Y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26600" y="1903320"/>
            <a:ext cx="404172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Для скасування певної дії: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Слід клацнути кнопку    (Скасувати)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Натиснути комбінацію клавіш Ctrl+Z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Скасування і відновлення операцій</a:t>
            </a:r>
            <a:endParaRPr b="0" lang="en-US" sz="3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Скасування операцій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01920" y="1523520"/>
            <a:ext cx="4041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Відновлення скасованої  операції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28" name="Shape 382" descr=""/>
          <p:cNvPicPr/>
          <p:nvPr/>
        </p:nvPicPr>
        <p:blipFill>
          <a:blip r:embed="rId1"/>
          <a:stretch/>
        </p:blipFill>
        <p:spPr>
          <a:xfrm>
            <a:off x="2484360" y="3789360"/>
            <a:ext cx="466920" cy="233280"/>
          </a:xfrm>
          <a:prstGeom prst="rect">
            <a:avLst/>
          </a:prstGeom>
          <a:ln w="0">
            <a:noFill/>
          </a:ln>
        </p:spPr>
      </p:pic>
      <p:pic>
        <p:nvPicPr>
          <p:cNvPr id="329" name="Shape 383" descr=""/>
          <p:cNvPicPr/>
          <p:nvPr/>
        </p:nvPicPr>
        <p:blipFill>
          <a:blip r:embed="rId2"/>
          <a:stretch/>
        </p:blipFill>
        <p:spPr>
          <a:xfrm>
            <a:off x="7093080" y="4149720"/>
            <a:ext cx="357120" cy="28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ВИДАЛЕННЯ СИМВОЛІВ, СЛІВ І ФРАГМЕНТІ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Delete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: видалення наступного символ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BackSpace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: видалення попереднього символ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Ctrl + Delete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: видалення наступного слов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Ctrl + BackSpace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: видалення попереднього слов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rl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: видалення виділеного фрагмента в буфер обмін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Delete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(при виділеному фрагменті тексту) : повне видалення фрагмент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КОМБІНАЦІЇ КЛАВІШ ДЛЯ ШВИДКОЇ ТА ЗРУЧНОЇ РОБОТИ З ТЕКСТОМ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9640" y="162864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C : копіюват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X : вирізат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V : вставит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Z : відмінит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B : напівжирний шрифт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I : курсив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U : підкреслит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N : створити документ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O : відкрити документ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S : зберегти документ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Alt + F4 : закрити програму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575f6d"/>
                </a:solidFill>
                <a:latin typeface="Century Schoolbook"/>
              </a:rPr>
              <a:t>Виділення тексту  за допомогою клавіатур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Текст виділяють за допомогою клавіш переміщення курсору, утримуючи натиснут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клавішу SHIF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На один символ вправо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SHIFT+</a:t>
            </a:r>
            <a:r>
              <a:rPr b="0" lang="uk-U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На один символ уліво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SHIFT+</a:t>
            </a:r>
            <a:r>
              <a:rPr b="0" lang="uk-UA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До кінця слова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CTRL+SHIFT+</a:t>
            </a:r>
            <a:r>
              <a:rPr b="0" lang="uk-U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До початку слова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CTRL+SHIFT+</a:t>
            </a:r>
            <a:r>
              <a:rPr b="0" lang="uk-UA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До кінця рядка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SHIFT+E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До початку слова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SHIFT+H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575f6d"/>
                </a:solidFill>
                <a:latin typeface="Century Schoolbook"/>
              </a:rPr>
              <a:t>Виділення тексту  за допомогою клавіатур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6043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182520" algn="just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На один рядок униз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SHIFT+ </a:t>
            </a:r>
            <a:r>
              <a:rPr b="0" lang="uk-UA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На один рядок нагору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SHIFT+</a:t>
            </a:r>
            <a:r>
              <a:rPr b="0" lang="uk-UA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До кінця абзацу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CTRL+SHIFT+</a:t>
            </a:r>
            <a:r>
              <a:rPr b="0" lang="uk-UA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До початку абзацу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CTRL+SHIFT+</a:t>
            </a:r>
            <a:r>
              <a:rPr b="0" lang="uk-UA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На один екран униз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SHIFT+PAGE DOW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На один екран нагору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SHIFT+PAGE U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До кінця документа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ALT+CTRL+PAGE DOW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До початку документа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CTRL+SHIFT+H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Виділити весь документ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CTRL+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ЕРЕВІРКА ПРАВОПИС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6840" y="1599840"/>
            <a:ext cx="7715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ункт меню </a:t>
            </a: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Рецензування/ Правопис і граматика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або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F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3276720" y="2924280"/>
            <a:ext cx="4838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261300"/>
                </a:solidFill>
                <a:latin typeface="Century Schoolbook"/>
              </a:rPr>
              <a:t>ПОШУК І ЗАМІН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ункт меню </a:t>
            </a: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Правка\Знайти, Правка\Замінити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(2003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ункт меню </a:t>
            </a: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Основне\Знайти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(2010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3303720" cy="13287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"/>
          <p:cNvPicPr/>
          <p:nvPr/>
        </p:nvPicPr>
        <p:blipFill>
          <a:blip r:embed="rId2"/>
          <a:stretch/>
        </p:blipFill>
        <p:spPr>
          <a:xfrm>
            <a:off x="3198960" y="4292640"/>
            <a:ext cx="54100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67341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Основні об'єкти текстового документ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07" name="Shape 249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6164280" cy="500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075520" cy="59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Слово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довільна послідовність букв і цифр, обмежена з обох кінців службовими символ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Службовий символ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це пробіл, крапка, кома, дефіс і т.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Рядок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довільна послідовність символів між лівою і правою границею абзац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Рече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довільна послідовність слів між двома крапк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Абзац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довільна послідовність символів, замкнута символом, який вводиться при натискуванні клавіші Ente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Текст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це зв'язана послідовність символі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Зміна регістру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Виділити фрагмент тексту \ меню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Формат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\ команда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Регистр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51879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ереведення рядк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8000" y="1628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Enter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- редактор переходить на новий рядок абзацу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Shift-Enter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- для переходу в наступний рядок без створення абзацу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Ctrl-Enter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– розрив сторінк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робіли (нерозривний пробіл) -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Пробіл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tr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hif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Пробіл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ставленн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попередній текст зберігається, зсуваючись праворуч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міщенн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введені літери замінюють наявні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Режими переключаються клавішею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nse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Вставка символів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 - Вставка\ С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во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л або на панелі інструментів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rcRect l="57152" t="9997" r="40883" b="85916"/>
          <a:stretch/>
        </p:blipFill>
        <p:spPr>
          <a:xfrm>
            <a:off x="4284720" y="5589720"/>
            <a:ext cx="5540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8637"/>
                </a:solidFill>
                <a:latin typeface="Century Schoolbook"/>
              </a:rPr>
              <a:t>ВИДІЛЕННЯ ТЕКСТ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8000" y="1628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слово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- два рази ЛКМ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речення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- CTRL + ЛКМ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рядок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- зліва на полі ЛКМ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абзац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- три рази ЛКМ або зліва на полі два рази ЛКМ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весь текст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- виконавши команду меню Правка/Выделить всё (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trl+A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або зліва на полі три рази ЛКМ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Виділення довільного фрагменту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55280" y="1197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102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Помістити вказівник миші на початок цього фрагмента, натиснути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ЛКМ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та,  не відпускаючи її, перемістити курсор в його кінець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102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102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омістити курсор на початок фрагмента, натиснути клавішу Shift, і не відпускаючи її розширити межі виділення за допомогою клавіш керування курсоро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102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102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Щоб виділити кілька несуміжних фрагментів, слід під час виділення утримувати клавішу Ctr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РЕДАГУВАННЯ ВИДІЛЕНОГО ФРАГМЕНТУ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Вилучити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за допомогою команди 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Правка / Вырезать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або кнопки 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Удалить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панелі інструментів 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Стандартная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аб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Ctrl+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Вставити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Правка / Вставить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або кнопки 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Вставить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панелі інструментів 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Стандартная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або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trl+V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Перемістити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Правка / Вырезать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і 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Правка / Вставить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копіювати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13:11:51Z</dcterms:created>
  <dc:creator>Marsik</dc:creator>
  <dc:description/>
  <dc:language>en-US</dc:language>
  <cp:lastModifiedBy>Marsik</cp:lastModifiedBy>
  <dcterms:modified xsi:type="dcterms:W3CDTF">2014-02-21T10:18:35Z</dcterms:modified>
  <cp:revision>13</cp:revision>
  <dc:subject/>
  <dc:title>Слайд 1</dc:title>
</cp:coreProperties>
</file>