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51B-F8CB-4E23-9F53-1844722A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30E-1B55-4197-AA01-DEFBB328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8E5-4D40-4A57-A552-CF9A6AF1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0EA-825A-4B11-993B-34977D2B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20D9-9552-475A-9D71-F4BE9D85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9CEAC-DA61-48A8-A891-5C7D8CD5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B741E-436E-440C-AD8B-A40EA94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DFEF-5276-4753-A2AF-F381FE2F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9951-B5E2-4FE1-BEA2-DBDDDC4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65CC4-71C6-4921-9219-2B18ADB1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4403-8CBC-48F8-BC15-8A950E3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4D8-704E-47DF-B3C4-8FE6AC6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4778-F6AC-4D50-B011-47668AB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C42DF-B92E-4ACE-AF02-30E7AAD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39BF7-B04A-42EA-A1FE-3C6A3314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28123-88FE-4633-BB9C-B5CA66E0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9914-622C-4589-A681-811389C7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91BF-938C-40EC-B23E-7C3EDD13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592B-67CE-4600-A2BF-27161F1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EA70-D90B-4E3C-93CD-53280FA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C524-8D02-4AC4-8271-4706C2B5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03D3-FE53-4C5E-B1F0-05050698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424-72B5-4948-8AD9-FE926C8B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AC2A-399C-4976-B9A2-B48826B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D73C-7D8A-4F91-B9AD-C49661A2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EE8B-9303-4F79-A574-DE27D06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1B0AF-FCC5-477D-81F5-967AE85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30AF-7B48-4E1D-B833-9C27AFF8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7311D-71A7-4A00-9F1B-6B1B5433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35F5-DA92-4441-A97D-60915D72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96655-D11B-4419-9F3A-F6A6019C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3C000-88A2-4F84-965B-D04C6B8F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FA2E8-D257-4DD8-8F2D-D91FC08D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C04-67A6-4450-9C9B-0964F27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AC8C9-DD7B-430E-9267-1EFD6F96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9DD91-F5D0-4B34-938E-0DE32646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3B6BC-3089-4F1C-8FDC-76B74EF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C8D65-1BB5-4D7D-91F9-B9A8007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7BBF3-C79C-4D6E-82C0-872BA31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6B79F-A197-4D23-BC3F-BADDEC3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CA416-74B6-4920-806E-C90F444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59477-F307-449D-A7A5-87B37180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D41A8-D2C0-4B1D-AAB8-38F71487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BABD7-D578-4506-9739-4B17B29F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B86-0460-457A-9DE4-E4B9CB8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302B6-CCEF-4937-80D9-155F4FD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4403F-17F2-4B39-BF33-3BEA374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386BF-8742-4102-A023-9AB6BBE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183B3-605B-4024-946C-8885B29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4EB5D-C16D-41FF-A59F-BB561E9D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A9222-88AF-4AA1-901E-D40181E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DB8B2C-25D7-4188-9985-B53E491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A7894-92E4-4861-8F3E-0DCD0B5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24AFA-86F5-4D11-8F62-63BB9753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7D6F3-72BD-48B0-A749-DE3AF919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9D5-71B9-4168-BA7E-1D5424A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32436-6CE5-4425-9728-98067D06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D9236-C25E-4687-8C73-3E942B40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1E53-6350-483A-8D45-3DE8E43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3F092-7394-47E3-9755-5916652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61E32-7D96-4FDC-BBDB-A7B64CE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1C63-7103-4BA1-9A0C-FD083CC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F8FA-DC5B-496F-ABD9-82D4EA1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1971-8D10-446F-9585-B4EF2CA9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70F8-D854-4DD8-A38D-C3209DD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EB97-2EC7-42F3-9C81-2B6CAC47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CA2-8278-422D-A1F7-3836E6D5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FD42-D39A-46E7-B63F-1949AEA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35F9-2329-4CF6-8E9B-403D998A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4565-18AE-4876-ADE9-9216FA36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6B9-3A0E-4BC3-9422-2BE8F20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451-9C72-40F9-BBE1-74891F6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а сполучна лінія 1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 сполучна лінія 1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 сполучна ліні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 сполучна лінія 20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22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а сполучна лінія 23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кутник 24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Овал 25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Овал 26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Овал 27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Овал 28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Овал 29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D84-FB06-4E19-9496-AC4442F94A7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16A3-FFE2-4B26-BFFC-B2FC0B3018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кут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13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кутник 14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кутник 1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 сполучна лінія 1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 сполучна лінія 1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 сполучна ліні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 сполучна лінія 20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 сполучна лінія 22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кутник 23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4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5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6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7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8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 сполучна лінія 29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 сполучна лінія 13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 сполучна ліні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 сполучна ліні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кут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 сполучна ліні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9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 сполучна ліні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кутник 16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 сполучна ліні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 сполучна ліні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 сполучна ліні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 сполучна ліні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 сполучна ліні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 сполучна ліні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кут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 сполучна ліні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ВВЕДЕННЯ І РЕДАГУВАННЯ ТЕКСТУ. ВИДІЛЕННЯ ФРАГМЕНТІВ ТЕКСТУ. ПЕРЕВІРКА ПРАВОПИСУ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788000" y="170028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Якщо скасування виявилося помилковим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лід клацнути кнопку   (Повернути)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Y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26600" y="1903320"/>
            <a:ext cx="404172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Для скасування певної дії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лід клацнути кнопку    (Скасувати)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Z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Скасування і відновлення операцій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Скасування операцій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01920" y="1523520"/>
            <a:ext cx="4041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Відновлення скасованої  операції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28" name="Shape 382" descr=""/>
          <p:cNvPicPr/>
          <p:nvPr/>
        </p:nvPicPr>
        <p:blipFill>
          <a:blip r:embed="rId1"/>
          <a:stretch/>
        </p:blipFill>
        <p:spPr>
          <a:xfrm>
            <a:off x="2484360" y="3789360"/>
            <a:ext cx="466920" cy="233280"/>
          </a:xfrm>
          <a:prstGeom prst="rect">
            <a:avLst/>
          </a:prstGeom>
          <a:ln w="0">
            <a:noFill/>
          </a:ln>
        </p:spPr>
      </p:pic>
      <p:pic>
        <p:nvPicPr>
          <p:cNvPr id="329" name="Shape 383" descr=""/>
          <p:cNvPicPr/>
          <p:nvPr/>
        </p:nvPicPr>
        <p:blipFill>
          <a:blip r:embed="rId2"/>
          <a:stretch/>
        </p:blipFill>
        <p:spPr>
          <a:xfrm>
            <a:off x="7093080" y="4149720"/>
            <a:ext cx="357120" cy="2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ВИДАЛЕННЯ СИМВОЛІВ, СЛІВ І ФРАГМЕНТІ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наступного символ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BackSpac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попереднього символ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trl + 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наступного слов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trl + BackSpac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попереднього слов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rl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: видалення виділеного фрагмента в буфер обмін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Delete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(при виділеному фрагменті тексту) : повне видалення фрагмент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КОМБІНАЦІЇ КЛАВІШ ДЛЯ ШВИДКОЇ ТА ЗРУЧНОЇ РОБОТИ З ТЕКСТО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9640" y="16286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C : копіюва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X : виріза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V : встав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Z : відмін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B : напівжирний шриф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I : курсив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U : підкресли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N : створи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O : відкри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Ctrl + S : зберегти докумен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Alt + F4 : закрити програму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Виділення тексту  за допомогою клавіату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Текст виділяють за допомогою клавіш переміщення курсору, утримуючи натиснут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клавішу SHIF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символ впра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символ улі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рядк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слов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H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575f6d"/>
                </a:solidFill>
                <a:latin typeface="Century Schoolbook"/>
              </a:rPr>
              <a:t>Виділення тексту  за допомогою клавіатур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04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рядок униз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 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рядок нагор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абзац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абзац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</a:t>
            </a:r>
            <a:r>
              <a:rPr b="0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екран униз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PAGE D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На один екран нагору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SHIFT+PAGE U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кінця 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ALT+CTRL+PAGE DOW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До початку документ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SHIFT+H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just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Виділити весь документ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CTRL+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ВІРКА ПРАВОПИС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599840"/>
            <a:ext cx="7715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Рецензування/ Правопис і граматика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48387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61300"/>
                </a:solidFill>
                <a:latin typeface="Century Schoolbook"/>
              </a:rPr>
              <a:t>ПОШУК І ЗАМІ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Правка\Знайти, Правка\Замінити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(200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ункт меню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Основне\Знайти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(201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3303720" cy="1328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2"/>
          <a:stretch/>
        </p:blipFill>
        <p:spPr>
          <a:xfrm>
            <a:off x="3198960" y="4292640"/>
            <a:ext cx="54100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734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сновні об'єкти текстового документ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07" name="Shape 249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6164280" cy="50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07552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Слово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букв і цифр, обмежена з обох кінців службовими символ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Службовий симво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пробіл, крапка, кома, дефіс і т.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ядок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имволів між лівою і правою границею абзац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ечення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лів між двома крапк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Абзац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довільна послідовність символів, замкнута символом, який вводиться при натискуванні клавіші Ent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Текст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– це зв'язана послідовність символі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Зміна регістру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ділити фрагмент тексту \ меню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Формат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\ команда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Регистр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51879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ереведення рядк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800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Enter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редактор переходить на новий рядок абзацу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Shift-Enter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- для переходу в наступний рядок без створення абзац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Ctrl-Enter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розрив сторін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біли (нерозривний пробіл) -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робі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tr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Пробіл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тавлен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опередній текст зберігається, зсуваючись праворуч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міщенн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введені літери замінюють наявні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ежими переключаються клавішею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ставка символів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 - Вставка\ С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во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л або на панелі інструментів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57152" t="9997" r="40883" b="85916"/>
          <a:stretch/>
        </p:blipFill>
        <p:spPr>
          <a:xfrm>
            <a:off x="4284720" y="5589720"/>
            <a:ext cx="5540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8637"/>
                </a:solidFill>
                <a:latin typeface="Century Schoolbook"/>
              </a:rPr>
              <a:t>ВИДІЛЕННЯ ТЕКСТ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00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слово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два рази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речення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CTRL +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рядок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зліва на полі ЛК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абзац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три рази ЛКМ або зліва на полі два рази ЛКМ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весь текст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- виконавши команду меню Правка/Выделить всё (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trl+A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або зліва на полі три рази ЛКМ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Виділення довільного фрагменту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5528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омістити вказівник миші на початок цього фрагмента, натиснути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ЛКМ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та,  не відпускаючи її, перемістити курсор в його кінец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містити курсор на початок фрагмента, натиснути клавішу Shift, і не відпускаючи її розширити межі виділення за допомогою клавіш керування курсор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102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Щоб виділити кілька несуміжних фрагментів, слід під час виділення утримувати клавішу Ctr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РЕДАГУВАННЯ ВИДІЛЕНОГО ФРАГМЕНТУ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илучит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за допомогою команд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ыреза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кнопк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Удал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панелі інструментів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Стандартна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Ctrl+X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ставити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став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кнопки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Встави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панелі інструментів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Стандартна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або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trl+V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еремістити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ырезать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і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Правка / Вставить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опіювати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13:11:51Z</dcterms:created>
  <dc:creator>Marsik</dc:creator>
  <dc:description/>
  <dc:language>en-US</dc:language>
  <cp:lastModifiedBy>Marsik</cp:lastModifiedBy>
  <dcterms:modified xsi:type="dcterms:W3CDTF">2014-02-21T10:18:35Z</dcterms:modified>
  <cp:revision>13</cp:revision>
  <dc:subject/>
  <dc:title>Слайд 1</dc:title>
</cp:coreProperties>
</file>