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4520" cy="124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-11798280" y="-11796840"/>
            <a:ext cx="11783880" cy="124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-11798280" y="-11796840"/>
            <a:ext cx="11785680" cy="124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-11798280" y="-11796840"/>
            <a:ext cx="11788920" cy="124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-11798280" y="-11796840"/>
            <a:ext cx="11791800" cy="124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91D-68FA-4BB5-AEE6-0DE9AB32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945-5B2A-4B30-9406-36F455A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92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AF4-E26D-4023-8DEA-BFA63A3F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440" y="160020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0640" y="395136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440" y="395136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36E-162D-403C-97E3-451EFA93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8AE-FBC1-4B21-9965-BF4107AC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6D9-114E-4CF3-90CE-D5861392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E06-3F88-4B2B-AA6F-5D22D1D4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2FD-A7DC-4BC7-8AB1-1168C69A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932-88CD-4342-B893-09ED9F00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114-81CC-48AD-A86E-BFC5637A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92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3A8-E006-4201-8254-3D69F02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528-4B70-4BDE-ACF2-C9391E9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7520" indent="-31752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702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B1992-1C37-4DC3-85B2-D5C74AB99D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704880" y="2446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творення букле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480000" y="5040360"/>
            <a:ext cx="25196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040"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GB" sz="2600" spc="-1" strike="noStrike" u="sng">
                <a:solidFill>
                  <a:srgbClr val="000000"/>
                </a:solidFill>
                <a:uFillTx/>
                <a:latin typeface="Garamond"/>
              </a:rPr>
              <a:t>Алгоритм створення буклету в програмі Publish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5520" y="1079640"/>
            <a:ext cx="82137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eorgia"/>
                <a:ea typeface="Arial"/>
              </a:rPr>
              <a:t>Запуск програми (подвійне клацання на піктограмі </a:t>
            </a:r>
            <a:r>
              <a:rPr b="1" lang="en-GB" sz="1400" spc="-1" strike="noStrike">
                <a:solidFill>
                  <a:srgbClr val="000000"/>
                </a:solidFill>
                <a:latin typeface="Georgia"/>
                <a:ea typeface="Arial"/>
              </a:rPr>
              <a:t>Microsoft Publisher</a:t>
            </a:r>
            <a:r>
              <a:rPr b="0" lang="en-GB" sz="1400" spc="-1" strike="noStrike">
                <a:solidFill>
                  <a:srgbClr val="000000"/>
                </a:solidFill>
                <a:latin typeface="Georgia"/>
                <a:ea typeface="Arial"/>
              </a:rPr>
              <a:t> Робочого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стол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У вікні Microsoft Publisher в пункті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очати з макету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вибрати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Публікації для друку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‏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(клацнути лівою кнопкою миші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У списку виберіть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Буклети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У правій частині вікна виберіть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«Буклет інформаційний.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Геометрія »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Застосувати кольорову схему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Гранат.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Виділіть текст заповнювача «Відомості про товар або послугу», видаліть його.  Аналогічні дії виконайте з іншим текстом і графікою першої сторі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Використовуючи буфер обміну, вставте певний текст і малюнок з файлу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«Конкурс. Рекламний буклет»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ерейдіть на другу сторінку.  Виконайте аналогічні дії щодо другої сторі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оекспериментуйте з шрифтами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Шрифтові схеми,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застосуйте будь-яку з вподобаних шрифтових сх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Збережіть публікацію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Файл / Зберегти як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(замість слова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ублікація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Введіть своє Прізвищ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aramond"/>
              </a:rPr>
              <a:t>Тест на засвоєння матеріа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900000"/>
            <a:ext cx="8213760" cy="59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Georgia"/>
              </a:rPr>
              <a:t>Ви не дизайнер, проте за допомогою програми Publisher ви зможете отримувати публікації професійного рівня.  Як це пояснити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1.При покупці програми Publisher надається право на безкоштовні консультації з професійним дизайн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2. Програма Publisher включає створені професійними дизайнерами заготовки публікацій, на основі яких можна створювати власні публікації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Georgia"/>
              </a:rPr>
              <a:t>Чому можливості роботи з макетом в Publisher можна охарактеризувати як надзвичайно гнучкі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1. У публікації, що створюється за допомогою Publisher, будь-який елемент, включаючи блоки тексту, може переміщатися, форматуватися і змінюватися іншим чином незалежно від інших елементі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2. У Publisher забезпечується підтримка безліч різних типів публікацій, включаючи брошури, бюлетені, веб-сайти та багато інш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</a:rPr>
              <a:t>Чим текст в Publisher відрізняється від тексту в текстовому процесорі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1. У Publisher кожен блок тексту знаходиться в переміщуваному контейнері із змінними розмірами, який називається текстовим пол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2. У Publisher публікація ніколи не створюється з нуля.  Розробляються публікації, які грунтуються на готових моделях, в яких на сторінках вже поміщений текст заповнювача.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 u="sng">
                <a:solidFill>
                  <a:srgbClr val="000000"/>
                </a:solidFill>
                <a:uFillTx/>
                <a:latin typeface="Garamond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3040"/>
            <a:ext cx="821520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ознайомитися з історією створення буклету, навчитися створювати рекламний буклет у програмі Microsoft Publisher, виховувати самостійність і відповідальність в майбутній роботі, розвивати пізнавальний інтерес, творчі здібності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Друкований верстат І. Гуттенбе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473200" y="1774800"/>
            <a:ext cx="418644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680000" y="1979640"/>
            <a:ext cx="41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Garamond"/>
              </a:rPr>
              <a:t>Буклети, складені двократно або втрич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3780000" cy="306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231156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859280" y="3060720"/>
            <a:ext cx="374328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Garamond"/>
              </a:rPr>
              <a:t>Буклети- «гармо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979640" y="2340000"/>
            <a:ext cx="558000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21844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3419640" cy="27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580000" y="3959280"/>
            <a:ext cx="3240000" cy="2719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0000" y="180036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Брошу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0000" y="5040360"/>
            <a:ext cx="306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Листів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680000" y="540072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959280" y="234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 u="sng">
                <a:solidFill>
                  <a:srgbClr val="000000"/>
                </a:solidFill>
                <a:uFillTx/>
                <a:latin typeface="Garamond"/>
              </a:rPr>
              <a:t>5 кроків зі створення букл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Перш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«Про що?», «Для чого?», «Для кого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Друг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— спосіб д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Третій крок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—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Четверт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—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П'ят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переві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33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33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33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33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3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33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263520" y="236520"/>
            <a:ext cx="8696160" cy="621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144000" cy="648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m1</dc:creator>
  <dc:description/>
  <dc:language>en-US</dc:language>
  <cp:lastModifiedBy>Василина</cp:lastModifiedBy>
  <dcterms:modified xsi:type="dcterms:W3CDTF">2014-03-25T01:02:43Z</dcterms:modified>
  <cp:revision>3</cp:revision>
  <dc:subject/>
  <dc:title>Создание буклета</dc:title>
</cp:coreProperties>
</file>