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11.png" ContentType="image/png"/>
  <Override PartName="/ppt/media/image9.png" ContentType="image/png"/>
  <Override PartName="/ppt/media/image1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3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3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3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3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3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3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AutoShape 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3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AutoShape 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3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AutoShape 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3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AutoShape 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3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AutoShape 1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3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AutoShape 1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3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AutoShape 1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3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AutoShape 1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3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AutoShape 1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3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AutoShape 1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3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74520" cy="1246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3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60840" cy="40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3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62640" cy="40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1"/>
          <p:cNvSpPr/>
          <p:nvPr/>
        </p:nvSpPr>
        <p:spPr>
          <a:xfrm>
            <a:off x="-11798280" y="-11796840"/>
            <a:ext cx="11798280" cy="1249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3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62640" cy="40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1"/>
          <p:cNvSpPr/>
          <p:nvPr/>
        </p:nvSpPr>
        <p:spPr>
          <a:xfrm>
            <a:off x="-11798280" y="-11796840"/>
            <a:ext cx="11783880" cy="12477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3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62640" cy="40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-11798280" y="-11796840"/>
            <a:ext cx="11785680" cy="12479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3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62640" cy="40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3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62640" cy="40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3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62640" cy="40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3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62640" cy="40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1"/>
          <p:cNvSpPr/>
          <p:nvPr/>
        </p:nvSpPr>
        <p:spPr>
          <a:xfrm>
            <a:off x="-11798280" y="-11796840"/>
            <a:ext cx="11788920" cy="1248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3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62640" cy="40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1"/>
          <p:cNvSpPr/>
          <p:nvPr/>
        </p:nvSpPr>
        <p:spPr>
          <a:xfrm>
            <a:off x="1440" y="0"/>
            <a:ext cx="1800" cy="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3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62640" cy="40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1"/>
          <p:cNvSpPr/>
          <p:nvPr/>
        </p:nvSpPr>
        <p:spPr>
          <a:xfrm>
            <a:off x="-11798280" y="-11796840"/>
            <a:ext cx="11791800" cy="12485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3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62640" cy="40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4CA92-3FCE-4845-B74C-A0C31B63D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04040" cy="14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3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0404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3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51360"/>
            <a:ext cx="820404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3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58BDF-CF24-4DDC-9BA1-B6420DC35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04040" cy="14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3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0356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3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0920" y="1600200"/>
            <a:ext cx="400356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3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51360"/>
            <a:ext cx="400356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3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0920" y="3951360"/>
            <a:ext cx="400356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3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80AC4-CEE8-43AB-B6EA-1AFF9C487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04040" cy="14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3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6413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3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0640" y="1600200"/>
            <a:ext cx="26413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3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4440" y="1600200"/>
            <a:ext cx="26413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3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51360"/>
            <a:ext cx="26413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3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0640" y="3951360"/>
            <a:ext cx="26413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3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4440" y="3951360"/>
            <a:ext cx="26413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3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32007-732F-4819-B3F4-C5C0BF7F7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04040" cy="14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3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820404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3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52DD1-CDCC-4441-A480-E69D87BC7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04040" cy="14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3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04040" cy="45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3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706FE-B417-4253-B646-0221A9B28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04040" cy="14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3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03560" cy="45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3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0920" y="1600200"/>
            <a:ext cx="4003560" cy="45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3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60AAE-8EF5-4C7B-9A7B-6403E8359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04040" cy="14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3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4C26F-5A30-4828-85D4-99560E272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204040" cy="653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3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0095F-B2F8-42E9-B5A5-70F173735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04040" cy="14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3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0356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3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0920" y="1600200"/>
            <a:ext cx="4003560" cy="45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3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51360"/>
            <a:ext cx="400356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3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26E71-B637-4791-8054-C4EF93657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04040" cy="14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3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03560" cy="45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3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0920" y="1600200"/>
            <a:ext cx="400356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3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0920" y="3951360"/>
            <a:ext cx="400356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3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ABECC-2BEA-4C4D-864B-B1F54A1F5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04040" cy="14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3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0356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3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0920" y="1600200"/>
            <a:ext cx="400356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3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51360"/>
            <a:ext cx="820404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3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29ECA-CBD9-4206-B2FF-329B935C6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04040" cy="14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3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8204040" cy="45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7520" indent="-317520">
              <a:lnSpc>
                <a:spcPct val="3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7480" indent="-260280">
              <a:lnSpc>
                <a:spcPct val="3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3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3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3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3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3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081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3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7028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3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081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2422CD-064F-438C-BA07-476DBC38972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1"/>
          <p:cNvSpPr/>
          <p:nvPr/>
        </p:nvSpPr>
        <p:spPr>
          <a:xfrm>
            <a:off x="704880" y="2446200"/>
            <a:ext cx="7772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Georgia"/>
                <a:ea typeface="Lucida Sans Unicode"/>
              </a:rPr>
              <a:t>Створення буклету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2879640" cy="19796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3" descr=""/>
          <p:cNvPicPr/>
          <p:nvPr/>
        </p:nvPicPr>
        <p:blipFill>
          <a:blip r:embed="rId3"/>
          <a:stretch/>
        </p:blipFill>
        <p:spPr>
          <a:xfrm>
            <a:off x="6480000" y="5040360"/>
            <a:ext cx="2519640" cy="1743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13760" cy="95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040" indent="0" algn="ctr">
              <a:lnSpc>
                <a:spcPct val="100000"/>
              </a:lnSpc>
              <a:spcAft>
                <a:spcPts val="1063"/>
              </a:spcAft>
              <a:buNone/>
              <a:tabLst>
                <a:tab algn="l" pos="0"/>
                <a:tab algn="l" pos="176040"/>
                <a:tab algn="l" pos="623880"/>
                <a:tab algn="l" pos="1073160"/>
                <a:tab algn="l" pos="1522440"/>
                <a:tab algn="l" pos="1971720"/>
                <a:tab algn="l" pos="2421000"/>
                <a:tab algn="l" pos="2870280"/>
                <a:tab algn="l" pos="3319560"/>
                <a:tab algn="l" pos="3768840"/>
                <a:tab algn="l" pos="4218120"/>
                <a:tab algn="l" pos="4667400"/>
                <a:tab algn="l" pos="5116680"/>
                <a:tab algn="l" pos="5565600"/>
                <a:tab algn="l" pos="6014880"/>
                <a:tab algn="l" pos="6464160"/>
                <a:tab algn="l" pos="6913440"/>
                <a:tab algn="l" pos="7362720"/>
                <a:tab algn="l" pos="7812000"/>
                <a:tab algn="l" pos="8261280"/>
                <a:tab algn="l" pos="8710560"/>
                <a:tab algn="l" pos="9159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i="1" lang="en-GB" sz="2600" spc="-1" strike="noStrike" u="sng">
                <a:solidFill>
                  <a:srgbClr val="000000"/>
                </a:solidFill>
                <a:uFillTx/>
                <a:latin typeface="Garamond"/>
              </a:rPr>
              <a:t>Алгоритм створення буклету в програмі Publisher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25520" y="1079640"/>
            <a:ext cx="8213760" cy="55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28520"/>
                <a:tab algn="l" pos="577800"/>
                <a:tab algn="l" pos="1027080"/>
                <a:tab algn="l" pos="1476360"/>
                <a:tab algn="l" pos="1925640"/>
                <a:tab algn="l" pos="2374920"/>
                <a:tab algn="l" pos="2824200"/>
                <a:tab algn="l" pos="3273480"/>
                <a:tab algn="l" pos="3722760"/>
                <a:tab algn="l" pos="4172040"/>
                <a:tab algn="l" pos="4621320"/>
                <a:tab algn="l" pos="5070600"/>
                <a:tab algn="l" pos="5519880"/>
                <a:tab algn="l" pos="5969160"/>
                <a:tab algn="l" pos="6418440"/>
                <a:tab algn="l" pos="6867360"/>
                <a:tab algn="l" pos="7316640"/>
                <a:tab algn="l" pos="7765920"/>
                <a:tab algn="l" pos="8215200"/>
                <a:tab algn="l" pos="86644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Georgia"/>
                <a:ea typeface="Arial"/>
              </a:rPr>
              <a:t>Запуск програми (подвійне клацання на піктограмі </a:t>
            </a:r>
            <a:r>
              <a:rPr b="1" lang="en-GB" sz="1400" spc="-1" strike="noStrike">
                <a:solidFill>
                  <a:srgbClr val="000000"/>
                </a:solidFill>
                <a:latin typeface="Georgia"/>
                <a:ea typeface="Arial"/>
              </a:rPr>
              <a:t>Microsoft Publisher</a:t>
            </a:r>
            <a:r>
              <a:rPr b="0" lang="en-GB" sz="1400" spc="-1" strike="noStrike">
                <a:solidFill>
                  <a:srgbClr val="000000"/>
                </a:solidFill>
                <a:latin typeface="Georgia"/>
                <a:ea typeface="Arial"/>
              </a:rPr>
              <a:t> Робочого </a:t>
            </a:r>
            <a:r>
              <a:rPr b="0" lang="en-GB" sz="1600" spc="-1" strike="noStrike">
                <a:solidFill>
                  <a:srgbClr val="000000"/>
                </a:solidFill>
                <a:latin typeface="Georgia"/>
                <a:ea typeface="Arial"/>
              </a:rPr>
              <a:t>столу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28520"/>
                <a:tab algn="l" pos="577800"/>
                <a:tab algn="l" pos="1027080"/>
                <a:tab algn="l" pos="1476360"/>
                <a:tab algn="l" pos="1925640"/>
                <a:tab algn="l" pos="2374920"/>
                <a:tab algn="l" pos="2824200"/>
                <a:tab algn="l" pos="3273480"/>
                <a:tab algn="l" pos="3722760"/>
                <a:tab algn="l" pos="4172040"/>
                <a:tab algn="l" pos="4621320"/>
                <a:tab algn="l" pos="5070600"/>
                <a:tab algn="l" pos="5519880"/>
                <a:tab algn="l" pos="5969160"/>
                <a:tab algn="l" pos="6418440"/>
                <a:tab algn="l" pos="6867360"/>
                <a:tab algn="l" pos="7316640"/>
                <a:tab algn="l" pos="7765920"/>
                <a:tab algn="l" pos="8215200"/>
                <a:tab algn="l" pos="86644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Georgia"/>
                <a:ea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Georgia"/>
                <a:ea typeface="Arial"/>
              </a:rPr>
              <a:t>У вікні Microsoft Publisher в пункті </a:t>
            </a:r>
            <a:r>
              <a:rPr b="1" lang="en-GB" sz="1600" spc="-1" strike="noStrike">
                <a:solidFill>
                  <a:srgbClr val="000000"/>
                </a:solidFill>
                <a:latin typeface="Georgia"/>
                <a:ea typeface="Arial"/>
              </a:rPr>
              <a:t>Почати з макету</a:t>
            </a:r>
            <a:r>
              <a:rPr b="0" lang="en-GB" sz="1600" spc="-1" strike="noStrike">
                <a:solidFill>
                  <a:srgbClr val="000000"/>
                </a:solidFill>
                <a:latin typeface="Georgia"/>
                <a:ea typeface="Arial"/>
              </a:rPr>
              <a:t> вибрати  </a:t>
            </a:r>
            <a:r>
              <a:rPr b="1" lang="en-GB" sz="1600" spc="-1" strike="noStrike" u="sng">
                <a:solidFill>
                  <a:srgbClr val="000000"/>
                </a:solidFill>
                <a:uFillTx/>
                <a:latin typeface="Georgia"/>
                <a:ea typeface="Arial"/>
              </a:rPr>
              <a:t>Публікації для друку</a:t>
            </a:r>
            <a:r>
              <a:rPr b="0" lang="en-GB" sz="1600" spc="-1" strike="noStrike">
                <a:solidFill>
                  <a:srgbClr val="000000"/>
                </a:solidFill>
                <a:latin typeface="Georgia"/>
                <a:ea typeface="Arial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Georgia"/>
                <a:ea typeface="Arial"/>
              </a:rPr>
              <a:t>‏</a:t>
            </a:r>
            <a:r>
              <a:rPr b="0" lang="en-GB" sz="1600" spc="-1" strike="noStrike">
                <a:solidFill>
                  <a:srgbClr val="000000"/>
                </a:solidFill>
                <a:latin typeface="Georgia"/>
                <a:ea typeface="Arial"/>
              </a:rPr>
              <a:t> (клацнути лівою кнопкою миші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28520"/>
                <a:tab algn="l" pos="577800"/>
                <a:tab algn="l" pos="1027080"/>
                <a:tab algn="l" pos="1476360"/>
                <a:tab algn="l" pos="1925640"/>
                <a:tab algn="l" pos="2374920"/>
                <a:tab algn="l" pos="2824200"/>
                <a:tab algn="l" pos="3273480"/>
                <a:tab algn="l" pos="3722760"/>
                <a:tab algn="l" pos="4172040"/>
                <a:tab algn="l" pos="4621320"/>
                <a:tab algn="l" pos="5070600"/>
                <a:tab algn="l" pos="5519880"/>
                <a:tab algn="l" pos="5969160"/>
                <a:tab algn="l" pos="6418440"/>
                <a:tab algn="l" pos="6867360"/>
                <a:tab algn="l" pos="7316640"/>
                <a:tab algn="l" pos="7765920"/>
                <a:tab algn="l" pos="8215200"/>
                <a:tab algn="l" pos="86644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Georgia"/>
                <a:ea typeface="Arial"/>
              </a:rPr>
              <a:t>У списку виберіть </a:t>
            </a:r>
            <a:r>
              <a:rPr b="1" lang="en-GB" sz="1600" spc="-1" strike="noStrike" u="sng">
                <a:solidFill>
                  <a:srgbClr val="000000"/>
                </a:solidFill>
                <a:uFillTx/>
                <a:latin typeface="Georgia"/>
                <a:ea typeface="Arial"/>
              </a:rPr>
              <a:t>Буклети</a:t>
            </a:r>
            <a:r>
              <a:rPr b="0" lang="en-GB" sz="1600" spc="-1" strike="noStrike">
                <a:solidFill>
                  <a:srgbClr val="000000"/>
                </a:solidFill>
                <a:latin typeface="Georgia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28520"/>
                <a:tab algn="l" pos="577800"/>
                <a:tab algn="l" pos="1027080"/>
                <a:tab algn="l" pos="1476360"/>
                <a:tab algn="l" pos="1925640"/>
                <a:tab algn="l" pos="2374920"/>
                <a:tab algn="l" pos="2824200"/>
                <a:tab algn="l" pos="3273480"/>
                <a:tab algn="l" pos="3722760"/>
                <a:tab algn="l" pos="4172040"/>
                <a:tab algn="l" pos="4621320"/>
                <a:tab algn="l" pos="5070600"/>
                <a:tab algn="l" pos="5519880"/>
                <a:tab algn="l" pos="5969160"/>
                <a:tab algn="l" pos="6418440"/>
                <a:tab algn="l" pos="6867360"/>
                <a:tab algn="l" pos="7316640"/>
                <a:tab algn="l" pos="7765920"/>
                <a:tab algn="l" pos="8215200"/>
                <a:tab algn="l" pos="86644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Georgia"/>
                <a:ea typeface="Arial"/>
              </a:rPr>
              <a:t>У правій частині вікна виберіть </a:t>
            </a:r>
            <a:r>
              <a:rPr b="1" lang="en-GB" sz="1600" spc="-1" strike="noStrike" u="sng">
                <a:solidFill>
                  <a:srgbClr val="000000"/>
                </a:solidFill>
                <a:uFillTx/>
                <a:latin typeface="Georgia"/>
                <a:ea typeface="Arial"/>
              </a:rPr>
              <a:t>«Буклет інформаційний.</a:t>
            </a:r>
            <a:r>
              <a:rPr b="0" lang="en-GB" sz="1600" spc="-1" strike="noStrike">
                <a:solidFill>
                  <a:srgbClr val="000000"/>
                </a:solidFill>
                <a:latin typeface="Georgia"/>
                <a:ea typeface="Arial"/>
              </a:rPr>
              <a:t>  </a:t>
            </a:r>
            <a:r>
              <a:rPr b="1" lang="en-GB" sz="1600" spc="-1" strike="noStrike" u="sng">
                <a:solidFill>
                  <a:srgbClr val="000000"/>
                </a:solidFill>
                <a:uFillTx/>
                <a:latin typeface="Georgia"/>
                <a:ea typeface="Arial"/>
              </a:rPr>
              <a:t>Геометрія »</a:t>
            </a:r>
            <a:r>
              <a:rPr b="0" lang="en-GB" sz="1600" spc="-1" strike="noStrike">
                <a:solidFill>
                  <a:srgbClr val="000000"/>
                </a:solidFill>
                <a:latin typeface="Georgia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28520"/>
                <a:tab algn="l" pos="577800"/>
                <a:tab algn="l" pos="1027080"/>
                <a:tab algn="l" pos="1476360"/>
                <a:tab algn="l" pos="1925640"/>
                <a:tab algn="l" pos="2374920"/>
                <a:tab algn="l" pos="2824200"/>
                <a:tab algn="l" pos="3273480"/>
                <a:tab algn="l" pos="3722760"/>
                <a:tab algn="l" pos="4172040"/>
                <a:tab algn="l" pos="4621320"/>
                <a:tab algn="l" pos="5070600"/>
                <a:tab algn="l" pos="5519880"/>
                <a:tab algn="l" pos="5969160"/>
                <a:tab algn="l" pos="6418440"/>
                <a:tab algn="l" pos="6867360"/>
                <a:tab algn="l" pos="7316640"/>
                <a:tab algn="l" pos="7765920"/>
                <a:tab algn="l" pos="8215200"/>
                <a:tab algn="l" pos="86644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Georgia"/>
                <a:ea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Georgia"/>
                <a:ea typeface="Arial"/>
              </a:rPr>
              <a:t>Застосувати кольорову схему </a:t>
            </a:r>
            <a:r>
              <a:rPr b="1" lang="en-GB" sz="1600" spc="-1" strike="noStrike" u="sng">
                <a:solidFill>
                  <a:srgbClr val="000000"/>
                </a:solidFill>
                <a:uFillTx/>
                <a:latin typeface="Georgia"/>
                <a:ea typeface="Arial"/>
              </a:rPr>
              <a:t>Гранат.</a:t>
            </a:r>
            <a:r>
              <a:rPr b="0" lang="en-GB" sz="1600" spc="-1" strike="noStrike">
                <a:solidFill>
                  <a:srgbClr val="000000"/>
                </a:solidFill>
                <a:latin typeface="Georgia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28520"/>
                <a:tab algn="l" pos="577800"/>
                <a:tab algn="l" pos="1027080"/>
                <a:tab algn="l" pos="1476360"/>
                <a:tab algn="l" pos="1925640"/>
                <a:tab algn="l" pos="2374920"/>
                <a:tab algn="l" pos="2824200"/>
                <a:tab algn="l" pos="3273480"/>
                <a:tab algn="l" pos="3722760"/>
                <a:tab algn="l" pos="4172040"/>
                <a:tab algn="l" pos="4621320"/>
                <a:tab algn="l" pos="5070600"/>
                <a:tab algn="l" pos="5519880"/>
                <a:tab algn="l" pos="5969160"/>
                <a:tab algn="l" pos="6418440"/>
                <a:tab algn="l" pos="6867360"/>
                <a:tab algn="l" pos="7316640"/>
                <a:tab algn="l" pos="7765920"/>
                <a:tab algn="l" pos="8215200"/>
                <a:tab algn="l" pos="86644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Georgia"/>
                <a:ea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Georgia"/>
                <a:ea typeface="Arial"/>
              </a:rPr>
              <a:t>Виділіть текст заповнювача «Відомості про товар або послугу», видаліть його.  Аналогічні дії виконайте з іншим текстом і графікою першої сторінк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28520"/>
                <a:tab algn="l" pos="577800"/>
                <a:tab algn="l" pos="1027080"/>
                <a:tab algn="l" pos="1476360"/>
                <a:tab algn="l" pos="1925640"/>
                <a:tab algn="l" pos="2374920"/>
                <a:tab algn="l" pos="2824200"/>
                <a:tab algn="l" pos="3273480"/>
                <a:tab algn="l" pos="3722760"/>
                <a:tab algn="l" pos="4172040"/>
                <a:tab algn="l" pos="4621320"/>
                <a:tab algn="l" pos="5070600"/>
                <a:tab algn="l" pos="5519880"/>
                <a:tab algn="l" pos="5969160"/>
                <a:tab algn="l" pos="6418440"/>
                <a:tab algn="l" pos="6867360"/>
                <a:tab algn="l" pos="7316640"/>
                <a:tab algn="l" pos="7765920"/>
                <a:tab algn="l" pos="8215200"/>
                <a:tab algn="l" pos="86644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Georgia"/>
                <a:ea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Georgia"/>
                <a:ea typeface="Arial"/>
              </a:rPr>
              <a:t>Використовуючи буфер обміну, вставте певний текст і малюнок з файлу </a:t>
            </a:r>
            <a:r>
              <a:rPr b="1" lang="en-GB" sz="1600" spc="-1" strike="noStrike">
                <a:solidFill>
                  <a:srgbClr val="000000"/>
                </a:solidFill>
                <a:latin typeface="Georgia"/>
                <a:ea typeface="Arial"/>
              </a:rPr>
              <a:t>«Конкурс. Рекламний буклет»</a:t>
            </a:r>
            <a:r>
              <a:rPr b="0" lang="en-GB" sz="1600" spc="-1" strike="noStrike">
                <a:solidFill>
                  <a:srgbClr val="000000"/>
                </a:solidFill>
                <a:latin typeface="Georgia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28520"/>
                <a:tab algn="l" pos="577800"/>
                <a:tab algn="l" pos="1027080"/>
                <a:tab algn="l" pos="1476360"/>
                <a:tab algn="l" pos="1925640"/>
                <a:tab algn="l" pos="2374920"/>
                <a:tab algn="l" pos="2824200"/>
                <a:tab algn="l" pos="3273480"/>
                <a:tab algn="l" pos="3722760"/>
                <a:tab algn="l" pos="4172040"/>
                <a:tab algn="l" pos="4621320"/>
                <a:tab algn="l" pos="5070600"/>
                <a:tab algn="l" pos="5519880"/>
                <a:tab algn="l" pos="5969160"/>
                <a:tab algn="l" pos="6418440"/>
                <a:tab algn="l" pos="6867360"/>
                <a:tab algn="l" pos="7316640"/>
                <a:tab algn="l" pos="7765920"/>
                <a:tab algn="l" pos="8215200"/>
                <a:tab algn="l" pos="86644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Georgia"/>
                <a:ea typeface="Arial"/>
              </a:rPr>
              <a:t>Перейдіть на другу сторінку.  Виконайте аналогічні дії щодо другої сторінк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28520"/>
                <a:tab algn="l" pos="577800"/>
                <a:tab algn="l" pos="1027080"/>
                <a:tab algn="l" pos="1476360"/>
                <a:tab algn="l" pos="1925640"/>
                <a:tab algn="l" pos="2374920"/>
                <a:tab algn="l" pos="2824200"/>
                <a:tab algn="l" pos="3273480"/>
                <a:tab algn="l" pos="3722760"/>
                <a:tab algn="l" pos="4172040"/>
                <a:tab algn="l" pos="4621320"/>
                <a:tab algn="l" pos="5070600"/>
                <a:tab algn="l" pos="5519880"/>
                <a:tab algn="l" pos="5969160"/>
                <a:tab algn="l" pos="6418440"/>
                <a:tab algn="l" pos="6867360"/>
                <a:tab algn="l" pos="7316640"/>
                <a:tab algn="l" pos="7765920"/>
                <a:tab algn="l" pos="8215200"/>
                <a:tab algn="l" pos="86644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Georgia"/>
                <a:ea typeface="Arial"/>
              </a:rPr>
              <a:t>Поекспериментуйте з шрифтами: </a:t>
            </a:r>
            <a:r>
              <a:rPr b="1" lang="en-GB" sz="1600" spc="-1" strike="noStrike" u="sng">
                <a:solidFill>
                  <a:srgbClr val="000000"/>
                </a:solidFill>
                <a:uFillTx/>
                <a:latin typeface="Georgia"/>
                <a:ea typeface="Arial"/>
              </a:rPr>
              <a:t>Шрифтові схеми,</a:t>
            </a:r>
            <a:r>
              <a:rPr b="0" lang="en-GB" sz="1600" spc="-1" strike="noStrike">
                <a:solidFill>
                  <a:srgbClr val="000000"/>
                </a:solidFill>
                <a:latin typeface="Georgia"/>
                <a:ea typeface="Arial"/>
              </a:rPr>
              <a:t> застосуйте будь-яку з вподобаних шрифтових схем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28520"/>
                <a:tab algn="l" pos="577800"/>
                <a:tab algn="l" pos="1027080"/>
                <a:tab algn="l" pos="1476360"/>
                <a:tab algn="l" pos="1925640"/>
                <a:tab algn="l" pos="2374920"/>
                <a:tab algn="l" pos="2824200"/>
                <a:tab algn="l" pos="3273480"/>
                <a:tab algn="l" pos="3722760"/>
                <a:tab algn="l" pos="4172040"/>
                <a:tab algn="l" pos="4621320"/>
                <a:tab algn="l" pos="5070600"/>
                <a:tab algn="l" pos="5519880"/>
                <a:tab algn="l" pos="5969160"/>
                <a:tab algn="l" pos="6418440"/>
                <a:tab algn="l" pos="6867360"/>
                <a:tab algn="l" pos="7316640"/>
                <a:tab algn="l" pos="7765920"/>
                <a:tab algn="l" pos="8215200"/>
                <a:tab algn="l" pos="86644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Georgia"/>
                <a:ea typeface="Arial"/>
              </a:rPr>
              <a:t>Збережіть публікацію: </a:t>
            </a:r>
            <a:r>
              <a:rPr b="1" lang="en-GB" sz="1600" spc="-1" strike="noStrike" u="sng">
                <a:solidFill>
                  <a:srgbClr val="000000"/>
                </a:solidFill>
                <a:uFillTx/>
                <a:latin typeface="Georgia"/>
                <a:ea typeface="Arial"/>
              </a:rPr>
              <a:t>Файл / Зберегти як</a:t>
            </a:r>
            <a:r>
              <a:rPr b="0" lang="en-GB" sz="1600" spc="-1" strike="noStrike">
                <a:solidFill>
                  <a:srgbClr val="000000"/>
                </a:solidFill>
                <a:latin typeface="Georgia"/>
                <a:ea typeface="Arial"/>
              </a:rPr>
              <a:t> (замість слова </a:t>
            </a:r>
            <a:r>
              <a:rPr b="1" lang="en-GB" sz="1600" spc="-1" strike="noStrike">
                <a:solidFill>
                  <a:srgbClr val="000000"/>
                </a:solidFill>
                <a:latin typeface="Georgia"/>
                <a:ea typeface="Arial"/>
              </a:rPr>
              <a:t>Публікація</a:t>
            </a:r>
            <a:r>
              <a:rPr b="0" lang="en-GB" sz="1600" spc="-1" strike="noStrike">
                <a:solidFill>
                  <a:srgbClr val="000000"/>
                </a:solidFill>
                <a:latin typeface="Georgia"/>
                <a:ea typeface="Arial"/>
              </a:rPr>
              <a:t> Введіть своє Прізвище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13760" cy="77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4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4000" spc="-1" strike="noStrike" u="sng">
                <a:solidFill>
                  <a:srgbClr val="000000"/>
                </a:solidFill>
                <a:uFillTx/>
                <a:latin typeface="Garamond"/>
              </a:rPr>
              <a:t>Тест на засвоєння матеріал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900000"/>
            <a:ext cx="8213760" cy="595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Aft>
                <a:spcPts val="1063"/>
              </a:spcAft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1700" spc="-1" strike="noStrike" u="sng">
                <a:solidFill>
                  <a:srgbClr val="000000"/>
                </a:solidFill>
                <a:uFillTx/>
                <a:latin typeface="Georgia"/>
              </a:rPr>
              <a:t>Ви не дизайнер, проте за допомогою програми Publisher ви зможете отримувати публікації професійного рівня.  Як це пояснити?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Georgia"/>
              </a:rPr>
              <a:t>1.При покупці програми Publisher надається право на безкоштовні консультації з професійним дизайнером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Aft>
                <a:spcPts val="1063"/>
              </a:spcAft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Georgia"/>
              </a:rPr>
              <a:t>2. Програма Publisher включає створені професійними дизайнерами заготовки публікацій, на основі яких можна створювати власні публікації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Aft>
                <a:spcPts val="1063"/>
              </a:spcAft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en-GB" sz="1700" spc="-1" strike="noStrike" u="sng">
                <a:solidFill>
                  <a:srgbClr val="000000"/>
                </a:solidFill>
                <a:uFillTx/>
                <a:latin typeface="Georgia"/>
              </a:rPr>
              <a:t>Чому можливості роботи з макетом в Publisher можна охарактеризувати як надзвичайно гнучкі?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Georgia"/>
              </a:rPr>
              <a:t>1. У публікації, що створюється за допомогою Publisher, будь-який елемент, включаючи блоки тексту, може переміщатися, форматуватися і змінюватися іншим чином незалежно від інших елементів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Aft>
                <a:spcPts val="1063"/>
              </a:spcAft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Georgia"/>
              </a:rPr>
              <a:t>2. У Publisher забезпечується підтримка безліч різних типів публікацій, включаючи брошури, бюлетені, веб-сайти та багато іншого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Aft>
                <a:spcPts val="1063"/>
              </a:spcAft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en-GB" sz="1600" spc="-1" strike="noStrike" u="sng">
                <a:solidFill>
                  <a:srgbClr val="000000"/>
                </a:solidFill>
                <a:uFillTx/>
                <a:latin typeface="Georgia"/>
              </a:rPr>
              <a:t>Чим текст в Publisher відрізняється від тексту в текстовому процесорі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Georgia"/>
              </a:rPr>
              <a:t>1. У Publisher кожен блок тексту знаходиться в переміщуваному контейнері із змінними розмірами, який називається текстовим полем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Aft>
                <a:spcPts val="1063"/>
              </a:spcAft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Georgia"/>
              </a:rPr>
              <a:t>2. У Publisher публікація ніколи не створюється з нуля.  Розробляються публікації, які грунтуються на готових моделях, в яких на сторінках вже поміщений текст заповнювача.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15200" cy="142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5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4400" spc="-1" strike="noStrike" u="sng">
                <a:solidFill>
                  <a:srgbClr val="000000"/>
                </a:solidFill>
                <a:uFillTx/>
                <a:latin typeface="Garamond"/>
              </a:rPr>
              <a:t>Мета уроку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373040"/>
            <a:ext cx="8215200" cy="40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57200"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Lucida Sans Unicode"/>
              </a:rPr>
              <a:t> </a:t>
            </a:r>
            <a:r>
              <a:rPr b="0" i="1" lang="en-GB" sz="3600" spc="-1" strike="noStrike">
                <a:solidFill>
                  <a:srgbClr val="000000"/>
                </a:solidFill>
                <a:latin typeface="Georgia"/>
                <a:ea typeface="Lucida Sans Unicode"/>
              </a:rPr>
              <a:t>познайомитися з історією створення буклету, навчитися створювати рекламний буклет у програмі Microsoft Publisher, виховувати самостійність і відповідальність в майбутній роботі, розвивати пізнавальний інтерес, творчі здібності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Garamond"/>
              </a:rPr>
              <a:t>Друкований верстат І. Гуттенберг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2473200" y="1774800"/>
            <a:ext cx="4186440" cy="452592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3"/>
          <p:cNvSpPr/>
          <p:nvPr/>
        </p:nvSpPr>
        <p:spPr>
          <a:xfrm>
            <a:off x="4680000" y="1979640"/>
            <a:ext cx="417672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3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87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Garamond"/>
              </a:rPr>
              <a:t>Буклети, складені двократно або втричі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2" descr=""/>
          <p:cNvPicPr/>
          <p:nvPr/>
        </p:nvPicPr>
        <p:blipFill>
          <a:blip r:embed="rId1"/>
          <a:stretch/>
        </p:blipFill>
        <p:spPr>
          <a:xfrm>
            <a:off x="539640" y="1979640"/>
            <a:ext cx="3780000" cy="306072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2311560"/>
            <a:ext cx="822960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3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"/>
          <p:cNvPicPr/>
          <p:nvPr/>
        </p:nvPicPr>
        <p:blipFill>
          <a:blip r:embed="rId2"/>
          <a:stretch/>
        </p:blipFill>
        <p:spPr>
          <a:xfrm>
            <a:off x="4859280" y="3060720"/>
            <a:ext cx="3743280" cy="323856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1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318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Garamond"/>
              </a:rPr>
              <a:t>Буклети- «гармошки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3" descr=""/>
          <p:cNvPicPr/>
          <p:nvPr/>
        </p:nvPicPr>
        <p:blipFill>
          <a:blip r:embed="rId1"/>
          <a:stretch/>
        </p:blipFill>
        <p:spPr>
          <a:xfrm>
            <a:off x="1979640" y="2340000"/>
            <a:ext cx="5580000" cy="377964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1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6840" y="334440"/>
            <a:ext cx="8218440" cy="9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3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360360" y="1260360"/>
            <a:ext cx="3419640" cy="27003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" descr=""/>
          <p:cNvPicPr/>
          <p:nvPr/>
        </p:nvPicPr>
        <p:blipFill>
          <a:blip r:embed="rId2"/>
          <a:stretch/>
        </p:blipFill>
        <p:spPr>
          <a:xfrm>
            <a:off x="5580000" y="3959280"/>
            <a:ext cx="3240000" cy="2719440"/>
          </a:xfrm>
          <a:prstGeom prst="rect">
            <a:avLst/>
          </a:prstGeom>
          <a:ln w="0">
            <a:noFill/>
          </a:ln>
        </p:spPr>
      </p:pic>
      <p:sp>
        <p:nvSpPr>
          <p:cNvPr id="76" name="Text Box 4"/>
          <p:cNvSpPr/>
          <p:nvPr/>
        </p:nvSpPr>
        <p:spPr>
          <a:xfrm>
            <a:off x="4680000" y="1800360"/>
            <a:ext cx="306072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5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4800" spc="-1" strike="noStrike">
                <a:solidFill>
                  <a:srgbClr val="000000"/>
                </a:solidFill>
                <a:latin typeface="Garamond"/>
                <a:ea typeface="Lucida Sans Unicode"/>
              </a:rPr>
              <a:t>Брошур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Text Box 5"/>
          <p:cNvSpPr/>
          <p:nvPr/>
        </p:nvSpPr>
        <p:spPr>
          <a:xfrm>
            <a:off x="1440000" y="5040360"/>
            <a:ext cx="306072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5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4800" spc="-1" strike="noStrike">
                <a:solidFill>
                  <a:srgbClr val="000000"/>
                </a:solidFill>
                <a:latin typeface="Garamond"/>
                <a:ea typeface="Lucida Sans Unicode"/>
              </a:rPr>
              <a:t>Листівк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Line 6"/>
          <p:cNvSpPr/>
          <p:nvPr/>
        </p:nvSpPr>
        <p:spPr>
          <a:xfrm>
            <a:off x="4680000" y="5400720"/>
            <a:ext cx="72072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3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Line 7"/>
          <p:cNvSpPr/>
          <p:nvPr/>
        </p:nvSpPr>
        <p:spPr>
          <a:xfrm>
            <a:off x="3959280" y="2340000"/>
            <a:ext cx="720720" cy="1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3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heel spokes="1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29600" cy="14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4400" spc="-1" strike="noStrike" u="sng">
                <a:solidFill>
                  <a:srgbClr val="000000"/>
                </a:solidFill>
                <a:uFillTx/>
                <a:latin typeface="Garamond"/>
              </a:rPr>
              <a:t>5 кроків зі створення буклет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8640720" cy="48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17520" indent="-31752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Перший крок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0" lang="en-GB" sz="3200" spc="-1" strike="noStrike">
                <a:solidFill>
                  <a:srgbClr val="000000"/>
                </a:solidFill>
                <a:latin typeface="Georgia"/>
              </a:rPr>
              <a:t>«Про що?», «Для чого?», «Для кого?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7520" indent="-31752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Другий крок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— спосіб друк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7520" indent="-31752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Третій крок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— дизай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7520" indent="-31752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Четвертий крок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— текс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7520" indent="-31752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П'ятий крок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- перевір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33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33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333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333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333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" dur="333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" dur="1000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" dur="1000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" dur="1000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1" descr=""/>
          <p:cNvPicPr/>
          <p:nvPr/>
        </p:nvPicPr>
        <p:blipFill>
          <a:blip r:embed="rId1"/>
          <a:stretch/>
        </p:blipFill>
        <p:spPr>
          <a:xfrm>
            <a:off x="263520" y="236520"/>
            <a:ext cx="8696160" cy="621036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1" descr=""/>
          <p:cNvPicPr/>
          <p:nvPr/>
        </p:nvPicPr>
        <p:blipFill>
          <a:blip r:embed="rId1"/>
          <a:stretch/>
        </p:blipFill>
        <p:spPr>
          <a:xfrm>
            <a:off x="0" y="179280"/>
            <a:ext cx="9144000" cy="648036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om1</dc:creator>
  <dc:description/>
  <dc:language>en-US</dc:language>
  <cp:lastModifiedBy>Василина</cp:lastModifiedBy>
  <dcterms:modified xsi:type="dcterms:W3CDTF">2014-03-25T01:02:43Z</dcterms:modified>
  <cp:revision>3</cp:revision>
  <dc:subject/>
  <dc:title>Создание буклета</dc:title>
</cp:coreProperties>
</file>