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2D9B9-429B-4E13-B594-CCF7945D4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f271c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5B44A-B383-40E6-8EE7-113469298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f271c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E6435-8534-4D8A-A321-7CE3EB6A5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f271c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BBC24-813C-4D5A-82EF-BBA4DC11D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f271c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F29FC-D706-4951-BCE0-C7497F810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f271c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1294E-A7F5-48BB-8304-066AFCF79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f271c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FA388-5118-4D2B-8519-426F6C480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f271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5EB37-214E-40DA-B9F6-75EAFB2E3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33CF8-11EF-4DCA-AEFC-CF4D7AB8E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f271c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6DEFC-904D-45D2-BB8D-3FB8FC07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f271c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75D29-DBA7-4194-9377-A6AABB0C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f271c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96259-7E56-4B0A-8083-10B1CB02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f271c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4f271c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3891a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feb8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c32d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84aa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9643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4f27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838DA-0EC5-4403-9756-144BDAE0E545}" type="slidenum">
              <a:rPr b="0" lang="en-US" sz="1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4f271c"/>
                </a:solidFill>
                <a:latin typeface="Cambria"/>
              </a:rPr>
              <a:t>Операції з фрагментами тексту. Робота з кількома документами.</a:t>
            </a:r>
            <a:r>
              <a:rPr b="0" lang="en-US" sz="3600" spc="-1" strike="noStrike">
                <a:solidFill>
                  <a:srgbClr val="4f271c"/>
                </a:solidFill>
                <a:latin typeface="Cambria"/>
              </a:rPr>
              <a:t> </a:t>
            </a:r>
            <a:endParaRPr b="0" lang="en-US" sz="3600" spc="-1" strike="noStrike">
              <a:solidFill>
                <a:srgbClr val="4f271c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f271c"/>
              </a:solidFill>
              <a:latin typeface="Cambr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68000" y="162828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3891a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изначення програми Microsoft Word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3891a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Назвіть основні засоби інтерфейсу текстового процесора та поясніть, як отримати до них доступ із вікна програм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3891a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Наведіть приклади продуктів, які можна отримати за допомогою програми Microsoft Word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093080" y="189000"/>
            <a:ext cx="1726920" cy="2160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979640" y="4076640"/>
            <a:ext cx="538812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4f271c"/>
                </a:solidFill>
                <a:latin typeface="Cambria"/>
              </a:rPr>
              <a:t>Визначте, які з рядків надруковані за правилами вводу:</a:t>
            </a:r>
            <a:endParaRPr b="0" lang="en-US" sz="4100" spc="-1" strike="noStrike">
              <a:solidFill>
                <a:srgbClr val="4f271c"/>
              </a:solidFill>
              <a:latin typeface="Cambr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000" y="2133720"/>
            <a:ext cx="8675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3891a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3891a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1) 35 %;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2) 35%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3891a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3)  “Кобзар”;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4) “Кобзар“ 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3891a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5) ( шрифт ) ;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6) (шрифт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3891a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7) він, вона, вони;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8) він , вона , вон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042920" y="476280"/>
            <a:ext cx="65534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547640" y="333360"/>
            <a:ext cx="56898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6600" y="333360"/>
            <a:ext cx="907740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4f271c"/>
                </a:solidFill>
                <a:latin typeface="Cambria"/>
              </a:rPr>
              <a:t>Робота з кількома документами</a:t>
            </a:r>
            <a:endParaRPr b="0" lang="en-US" sz="4100" spc="-1" strike="noStrike">
              <a:solidFill>
                <a:srgbClr val="4f271c"/>
              </a:solidFill>
              <a:latin typeface="Cambri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94920" y="1197000"/>
            <a:ext cx="7993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Вигля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ерейти в інше вікн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отримаємо список відкритих документів Word, де можна вибрати потрібний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Вигля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Нове вікно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редагування, форматування створеного документу та при умові збереження і цього документу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Вікн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Роздільник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дає можливість одночасно переглядати різні розділи документу, розділивши вікно документа на дві частин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Зняти поділ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відмінити режим поділу вікна на дві частини)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2"/>
          <a:stretch/>
        </p:blipFill>
        <p:spPr>
          <a:xfrm>
            <a:off x="2987640" y="1908000"/>
            <a:ext cx="5391360" cy="16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6T15:15:32Z</dcterms:created>
  <dc:creator>Marsik</dc:creator>
  <dc:description/>
  <dc:language>en-US</dc:language>
  <cp:lastModifiedBy>Marsik</cp:lastModifiedBy>
  <dcterms:modified xsi:type="dcterms:W3CDTF">2014-03-24T21:32:39Z</dcterms:modified>
  <cp:revision>7</cp:revision>
  <dc:subject/>
  <dc:title>Операції з фрагментами тексту. Робота з кількома документами.</dc:title>
</cp:coreProperties>
</file>