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C391-C298-419E-BE44-B47BB064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2328-6BCF-46F6-AC5C-4B60E791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8C5C-5162-405F-ADC8-2A26B070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7FD05-B28B-42ED-BA82-D5FDB714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D459-B421-486E-8FD0-D9ECDB1B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41E9-A79C-45BA-A48E-7CBDBA89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F524-FAE9-45EA-BAF3-7CA065C4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FDC9-E469-454C-828E-5D899589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2824-2048-48DF-BB30-C2D73136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B5E3-D235-45B0-834E-D68E91B1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68CD-EE8C-4186-BF7B-CAF80BE4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B8B0-62D4-4633-A401-22195F52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f271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4aa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CF65-BFC5-4509-982C-EEEA8D239C9E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4f271c"/>
                </a:solidFill>
                <a:latin typeface="Cambria"/>
              </a:rPr>
              <a:t>Операції з фрагментами тексту. Робота з кількома документами.</a:t>
            </a:r>
            <a:r>
              <a:rPr b="0" lang="en-US" sz="3600" spc="-1" strike="noStrike">
                <a:solidFill>
                  <a:srgbClr val="4f271c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000" y="162828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значення програми Microsoft Wor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звіть основні засоби інтерфейсу текстового процесора та поясніть, як отримати до них доступ із вікна прогр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ведіть приклади продуктів, які можна отримати за допомогою програми Microsoft Wor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726920" cy="216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79640" y="4076640"/>
            <a:ext cx="5388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f271c"/>
                </a:solidFill>
                <a:latin typeface="Cambria"/>
              </a:rPr>
              <a:t>Визначте, які з рядків надруковані за правилами вводу:</a:t>
            </a:r>
            <a:endParaRPr b="0" lang="en-US" sz="41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00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) 35 %;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) 35%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)  “Кобзар”;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4) “Кобзар“ 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5) ( шрифт ) ;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6) (шрифт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7) він, вона, вони;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8) він , вона , во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6553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56898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6600" y="333360"/>
            <a:ext cx="90774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f271c"/>
                </a:solidFill>
                <a:latin typeface="Cambria"/>
              </a:rPr>
              <a:t>Робота з кількома документами</a:t>
            </a:r>
            <a:endParaRPr b="0" lang="en-US" sz="41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4920" y="1197000"/>
            <a:ext cx="79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игля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ерейти в інше вік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отримаємо список відкритих документів Word, де можна вибрати потрібни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игля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ове вікн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редагування, форматування створеного документу та при умові збереження і цього документу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ік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оздільни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дає можливість одночасно переглядати різні розділи документу, розділивши вікно документа на дві части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няти поді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відмінити режим поділу вікна на дві частини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2987640" y="1908000"/>
            <a:ext cx="539136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15:15:32Z</dcterms:created>
  <dc:creator>Marsik</dc:creator>
  <dc:description/>
  <dc:language>en-US</dc:language>
  <cp:lastModifiedBy>Marsik</cp:lastModifiedBy>
  <dcterms:modified xsi:type="dcterms:W3CDTF">2014-03-24T21:32:39Z</dcterms:modified>
  <cp:revision>7</cp:revision>
  <dc:subject/>
  <dc:title>Операції з фрагментами тексту. Робота з кількома документами.</dc:title>
</cp:coreProperties>
</file>