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84E8-A562-4CB5-BC4F-8675A5DF6A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змір файлу дорівнює числу символів (включаючи керуючі), тобто у файлі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жен символ займає 1 байт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TF (Rich Text Format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ільний межплатформен-ний формат зберігання розмічених текстових документів, запропоновани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іншими розробниками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, doc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Є виконуваним файлом, містить не тільки текстову інформацію, але й про формати, стилях документа і його елементів, записану на особливому внутрішньому мовою програмуванн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B3E5-9F97-4ED8-B932-14ED09E8B2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16D-DD98-48A1-8664-A7F94647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ED2-4C80-485C-96B9-37DF3F19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D75-2458-4F19-A0DB-40A1D07C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43C-6FE4-4133-9379-E37F9F58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FC7B-7671-404F-8416-B5166517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F851-F3E6-484C-AF0A-0B28F113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68F4-E2C9-4B62-9B5F-71BCA03A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213D-658A-48B0-A204-98D9CF6B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7FDC-3258-49EC-B35F-415810B4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46BB-8003-4064-8E1B-F108A707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B687-BE53-4006-94F9-4D1ACA9B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95F-D572-49CD-9E64-FDA39932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F62C-DF9C-4EA0-8BF5-D7915148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B91A-E8B2-4AB1-AE76-4FECA7EB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6035-8E12-455F-990D-0FDE866D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9CE8-3545-43BC-871D-8BB3D443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2050-F4FB-4577-8EC1-C1BD0743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7D6-3A3E-4B8E-B4A5-38481757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A1F-0EA6-4B26-AEC3-3F3DEB4E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DC5-19F4-4C7C-8456-31A7C62E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AFC-6D84-409F-865E-19244D01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521-7180-4028-B97A-1AA94C3F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5FA-EE13-48E6-852C-4DA9F091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4BE-6267-4162-A0C2-35412588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D692-7C83-40F5-978A-8479ABEF9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D7A7-B269-4E1D-85E0-92D954C1E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7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 Black"/>
              </a:rPr>
              <a:t>ОСНОВИ РОБОТИ З ТЕКСТОВОЮ ІНФОРМАЦІЄЮ</a:t>
            </a:r>
            <a:endParaRPr b="1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Класифікація програм для роботи з текстом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Прямоугольник с двумя скругленными противолежащими углами 4"/>
          <p:cNvSpPr/>
          <p:nvPr/>
        </p:nvSpPr>
        <p:spPr>
          <a:xfrm>
            <a:off x="285840" y="1052640"/>
            <a:ext cx="2571840" cy="101916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ові ред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с двумя скругленными противолежащими углами 5"/>
          <p:cNvSpPr/>
          <p:nvPr/>
        </p:nvSpPr>
        <p:spPr>
          <a:xfrm>
            <a:off x="214200" y="5286240"/>
            <a:ext cx="2643480" cy="102240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авничі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с двумя скругленными противолежащими углами 6"/>
          <p:cNvSpPr/>
          <p:nvPr/>
        </p:nvSpPr>
        <p:spPr>
          <a:xfrm>
            <a:off x="250920" y="3141720"/>
            <a:ext cx="2643120" cy="107316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ові процес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право 7"/>
          <p:cNvSpPr/>
          <p:nvPr/>
        </p:nvSpPr>
        <p:spPr>
          <a:xfrm>
            <a:off x="3071880" y="1571760"/>
            <a:ext cx="571320" cy="4284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право 9"/>
          <p:cNvSpPr/>
          <p:nvPr/>
        </p:nvSpPr>
        <p:spPr>
          <a:xfrm>
            <a:off x="3059280" y="3573360"/>
            <a:ext cx="571320" cy="4287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право 10"/>
          <p:cNvSpPr/>
          <p:nvPr/>
        </p:nvSpPr>
        <p:spPr>
          <a:xfrm>
            <a:off x="3143160" y="5429160"/>
            <a:ext cx="57168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3780000" y="981000"/>
            <a:ext cx="5143320" cy="149400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грами для створення, редагування та збереження у файлах неформатованого тек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lti-Edit,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Wor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3851280" y="2565360"/>
            <a:ext cx="5072040" cy="230364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грами для створення, редагування, форматування тексту, вставлення графічних об’єктів і діаграм  та збереження у фай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rosoft Word, Word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fect, OpenOffice,Word-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3857760" y="5013360"/>
            <a:ext cx="5072040" cy="165564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грама для </a:t>
            </a:r>
            <a:r>
              <a:rPr b="0" lang="uk-UA" sz="2000" spc="-1" strike="noStrike">
                <a:solidFill>
                  <a:srgbClr val="660033"/>
                </a:solidFill>
                <a:latin typeface="Calibri"/>
              </a:rPr>
              <a:t>створення макетів, що містять текст і графічні зображення для тиражування в друкар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dobe PageMarket , Corel Ventura, Publisher, Quark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Формати файлів документів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692280"/>
          <a:ext cx="7993080" cy="5940360"/>
        </p:xfrm>
        <a:graphic>
          <a:graphicData uri="http://schemas.openxmlformats.org/drawingml/2006/table">
            <a:tbl>
              <a:tblPr/>
              <a:tblGrid>
                <a:gridCol w="2808360"/>
                <a:gridCol w="518472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зширенн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8ea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ку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8eaafa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ичайний тек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ований текст у формат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T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97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c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 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блон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97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t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блон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0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tm,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tm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eb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торі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Знайомство з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icrosoft Word 2007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Рисунок 3" descr="интерфейс_ворд.bmp"/>
          <p:cNvPicPr/>
          <p:nvPr/>
        </p:nvPicPr>
        <p:blipFill>
          <a:blip r:embed="rId1"/>
          <a:stretch/>
        </p:blipFill>
        <p:spPr>
          <a:xfrm>
            <a:off x="0" y="857160"/>
            <a:ext cx="8326440" cy="60008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19" name="Стрелка влево 6"/>
          <p:cNvSpPr/>
          <p:nvPr/>
        </p:nvSpPr>
        <p:spPr>
          <a:xfrm>
            <a:off x="5357880" y="714240"/>
            <a:ext cx="2357280" cy="42876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лево 7"/>
          <p:cNvSpPr/>
          <p:nvPr/>
        </p:nvSpPr>
        <p:spPr>
          <a:xfrm>
            <a:off x="5143680" y="928800"/>
            <a:ext cx="1500120" cy="428400"/>
          </a:xfrm>
          <a:prstGeom prst="leftArrow">
            <a:avLst>
              <a:gd name="adj1" fmla="val 50000"/>
              <a:gd name="adj2" fmla="val 50029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і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285840" y="1000080"/>
            <a:ext cx="4786200" cy="2142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0" y="1214280"/>
            <a:ext cx="8001000" cy="7146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лево 10"/>
          <p:cNvSpPr/>
          <p:nvPr/>
        </p:nvSpPr>
        <p:spPr>
          <a:xfrm>
            <a:off x="7215120" y="1214280"/>
            <a:ext cx="1928880" cy="4287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лево 11"/>
          <p:cNvSpPr/>
          <p:nvPr/>
        </p:nvSpPr>
        <p:spPr>
          <a:xfrm>
            <a:off x="214200" y="2857680"/>
            <a:ext cx="928800" cy="428400"/>
          </a:xfrm>
          <a:prstGeom prst="leftArrow">
            <a:avLst>
              <a:gd name="adj1" fmla="val 50000"/>
              <a:gd name="adj2" fmla="val 5003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лево 12"/>
          <p:cNvSpPr/>
          <p:nvPr/>
        </p:nvSpPr>
        <p:spPr>
          <a:xfrm rot="5400000">
            <a:off x="1607040" y="2321640"/>
            <a:ext cx="928440" cy="42876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1143000" y="2857680"/>
            <a:ext cx="2143080" cy="42840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Ліні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3429000" y="3571920"/>
            <a:ext cx="3500280" cy="42876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боч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лево 16"/>
          <p:cNvSpPr/>
          <p:nvPr/>
        </p:nvSpPr>
        <p:spPr>
          <a:xfrm rot="16200000">
            <a:off x="4893480" y="5822280"/>
            <a:ext cx="928800" cy="428400"/>
          </a:xfrm>
          <a:prstGeom prst="leftArrow">
            <a:avLst>
              <a:gd name="adj1" fmla="val 50000"/>
              <a:gd name="adj2" fmla="val 5003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лево 17"/>
          <p:cNvSpPr/>
          <p:nvPr/>
        </p:nvSpPr>
        <p:spPr>
          <a:xfrm rot="10800000">
            <a:off x="6791400" y="5097600"/>
            <a:ext cx="1533600" cy="49824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8"/>
          <p:cNvSpPr/>
          <p:nvPr/>
        </p:nvSpPr>
        <p:spPr>
          <a:xfrm>
            <a:off x="3143160" y="5214960"/>
            <a:ext cx="4071960" cy="28584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муги прокруч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9"/>
          <p:cNvSpPr/>
          <p:nvPr/>
        </p:nvSpPr>
        <p:spPr>
          <a:xfrm>
            <a:off x="2143080" y="6572160"/>
            <a:ext cx="3714840" cy="28584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ядок ст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ІНТЕРФЕЙС ПРОГРАМИ MICROSOFT WORD 2010</a:t>
            </a:r>
            <a:r>
              <a:rPr b="1" lang="uk-UA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5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786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Кнопка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Office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и панель швидкого доступу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Рисунок 3" descr="02_02.png"/>
          <p:cNvPicPr/>
          <p:nvPr/>
        </p:nvPicPr>
        <p:blipFill>
          <a:blip r:embed="rId1"/>
          <a:stretch/>
        </p:blipFill>
        <p:spPr>
          <a:xfrm>
            <a:off x="214200" y="1357200"/>
            <a:ext cx="4214880" cy="4260960"/>
          </a:xfrm>
          <a:prstGeom prst="rect">
            <a:avLst/>
          </a:prstGeom>
          <a:ln w="0">
            <a:noFill/>
          </a:ln>
        </p:spPr>
      </p:pic>
      <p:grpSp>
        <p:nvGrpSpPr>
          <p:cNvPr id="137" name="Группа 7"/>
          <p:cNvGrpSpPr/>
          <p:nvPr/>
        </p:nvGrpSpPr>
        <p:grpSpPr>
          <a:xfrm>
            <a:off x="4572000" y="1428840"/>
            <a:ext cx="4286160" cy="3965400"/>
            <a:chOff x="4572000" y="1428840"/>
            <a:chExt cx="4286160" cy="3965400"/>
          </a:xfrm>
        </p:grpSpPr>
        <p:pic>
          <p:nvPicPr>
            <p:cNvPr id="138" name="Рисунок 4" descr="быстрый запуск.bmp"/>
            <p:cNvPicPr/>
            <p:nvPr/>
          </p:nvPicPr>
          <p:blipFill>
            <a:blip r:embed="rId2"/>
            <a:stretch/>
          </p:blipFill>
          <p:spPr>
            <a:xfrm>
              <a:off x="4572000" y="1428840"/>
              <a:ext cx="4214880" cy="39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Прямоугольник 5"/>
            <p:cNvSpPr/>
            <p:nvPr/>
          </p:nvSpPr>
          <p:spPr>
            <a:xfrm>
              <a:off x="6072120" y="1428840"/>
              <a:ext cx="2786040" cy="392904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5:52:58Z</dcterms:created>
  <dc:creator>Marsik</dc:creator>
  <dc:description/>
  <dc:language>en-US</dc:language>
  <cp:lastModifiedBy>Marsik</cp:lastModifiedBy>
  <dcterms:modified xsi:type="dcterms:W3CDTF">2014-02-10T19:41:01Z</dcterms:modified>
  <cp:revision>2</cp:revision>
  <dc:subject/>
  <dc:title>ОСНОВИ РОБОТИ З ТЕКСТОВОЮ ІНФОРМАЦІЄЮ</dc:title>
</cp:coreProperties>
</file>