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C276-4810-43FF-920E-D3E2EFDC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425-5A39-44A0-A20D-834ED5C0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AE19-8A16-4AF3-95B6-76587965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479-2A6D-49B1-8412-0D5AE633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8F6-F3B1-485C-A0F7-061DB9CD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AB8-A890-4DE8-91EE-55044DFE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53F-0D31-465A-8AB9-049F79D3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AF29-BBC3-4BA8-94BC-2BE3DBE3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9D9-52C5-4A45-9A8F-AF912221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BD47-25F8-49ED-B7B6-FE0BD94B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E168-3877-4AC1-9C54-7A5C2FC7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A6E-7D89-433D-B3E0-34E211DD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D767-B215-4F39-9A20-343579A874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k.wikipedia.org/wiki/1879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2916360" y="26028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70c0"/>
                </a:solidFill>
                <a:latin typeface="Monotype Corsiva"/>
              </a:rPr>
              <a:t>14 берез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70c0"/>
                </a:solidFill>
                <a:latin typeface="Monotype Corsiva"/>
              </a:rPr>
              <a:t>Класна ро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124000" y="2997360"/>
            <a:ext cx="70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1879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народився Альберт Ейнштейн, видатний німецький і американський фізик-теоре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створено першу українську ЕОМ «Київ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0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у Львівської області в Стрию, першому з українських міст, підняли національний символ — прапор Украї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http://upload.wikimedia.org/wikipedia/uk/thumb/1/15/CompKiev1954.jpg/200px-CompKiev1954.jpg"/>
          <p:cNvPicPr/>
          <p:nvPr/>
        </p:nvPicPr>
        <p:blipFill>
          <a:blip r:embed="rId2"/>
          <a:stretch/>
        </p:blipFill>
        <p:spPr>
          <a:xfrm>
            <a:off x="39600" y="3816360"/>
            <a:ext cx="2156040" cy="2852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eggs.net.ua/images/Albert_Einstein%201.jpg"/>
          <p:cNvPicPr/>
          <p:nvPr/>
        </p:nvPicPr>
        <p:blipFill>
          <a:blip r:embed="rId3"/>
          <a:srcRect l="0" t="7608" r="7060" b="11070"/>
          <a:stretch/>
        </p:blipFill>
        <p:spPr>
          <a:xfrm>
            <a:off x="6948360" y="0"/>
            <a:ext cx="2195640" cy="201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ttps://encrypted-tbn1.gstatic.com/images?q=tbn:ANd9GcTtyyFkxvhEfaLHzKg4eZw5Hsgq2HqhyaKchQOebYi8g4wIk42b5Q"/>
          <p:cNvPicPr/>
          <p:nvPr/>
        </p:nvPicPr>
        <p:blipFill>
          <a:blip r:embed="rId4"/>
          <a:stretch/>
        </p:blipFill>
        <p:spPr>
          <a:xfrm rot="21040200">
            <a:off x="-36000" y="439200"/>
            <a:ext cx="3138480" cy="19814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8388360" y="61657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0"/>
          <a:ext cx="9144000" cy="6885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33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цювати за клавіатурою чистими, сухими рук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микати та вимикати комп’ютер без дозволу в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торкатися до екрану монітора комп’ютер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появі запаху гару негайно припинити роботу і повідомити вчител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5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вно натискати на клавіші, не допускаючи різких ударі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ти на робочий стіл та обладнання сторонні предме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ійно усувати несправності роботи комп’ютер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го виконувати всі рекомендації та вказівки учител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5"/>
          <p:cNvSpPr/>
          <p:nvPr/>
        </p:nvSpPr>
        <p:spPr>
          <a:xfrm>
            <a:off x="8424720" y="636264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s://encrypted-tbn3.gstatic.com/images?q=tbn:ANd9GcQnLC3lTKyLuzot8fG0yx45HucSrF-YeLBqvyX3_CS5RCzrpyZ9"/>
          <p:cNvPicPr/>
          <p:nvPr/>
        </p:nvPicPr>
        <p:blipFill>
          <a:blip r:embed="rId1"/>
          <a:stretch/>
        </p:blipFill>
        <p:spPr>
          <a:xfrm>
            <a:off x="2340000" y="0"/>
            <a:ext cx="2232000" cy="3357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s://encrypted-tbn0.gstatic.com/images?q=tbn:ANd9GcQvJwLNC56cP447RnAF4wlKfBW6ykkQr67KWtTa1_hpOXD7PGcHnw"/>
          <p:cNvPicPr/>
          <p:nvPr/>
        </p:nvPicPr>
        <p:blipFill>
          <a:blip r:embed="rId2"/>
          <a:stretch/>
        </p:blipFill>
        <p:spPr>
          <a:xfrm>
            <a:off x="4572000" y="0"/>
            <a:ext cx="2303640" cy="3357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www.viza-yalta.com/temp/foto/8/album5/foto38.jpg"/>
          <p:cNvPicPr/>
          <p:nvPr/>
        </p:nvPicPr>
        <p:blipFill>
          <a:blip r:embed="rId3"/>
          <a:stretch/>
        </p:blipFill>
        <p:spPr>
          <a:xfrm>
            <a:off x="2340000" y="3357720"/>
            <a:ext cx="2232000" cy="350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http://www.svoiludi.ru/images/tb/7091/chile-bolivia-peru-13016520161891_w687h357.jpg"/>
          <p:cNvPicPr/>
          <p:nvPr/>
        </p:nvPicPr>
        <p:blipFill>
          <a:blip r:embed="rId4"/>
          <a:stretch/>
        </p:blipFill>
        <p:spPr>
          <a:xfrm>
            <a:off x="4572000" y="3357720"/>
            <a:ext cx="2303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8388360" y="61657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Египет Шарм эль Шейх отзывы. Rehana Royal Beach Resort &amp; Spa 5 Hotel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Израиль Туризм и Лечение возле моря +972548748995.mp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Фильм-зарисовка снятый телефоном HTC Sensation про Италию.mp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35965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Гімнастика для оч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8388360" y="61657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8" descr="ANd9GcSiA0MpyJUQmATavvriQPJ3ePB53xRgSEKeJWRV7MqrB1SeAEku"/>
          <p:cNvPicPr/>
          <p:nvPr/>
        </p:nvPicPr>
        <p:blipFill>
          <a:blip r:embed="rId1"/>
          <a:stretch/>
        </p:blipFill>
        <p:spPr>
          <a:xfrm>
            <a:off x="0" y="1413000"/>
            <a:ext cx="3887640" cy="26017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2"/>
          <p:cNvSpPr/>
          <p:nvPr/>
        </p:nvSpPr>
        <p:spPr>
          <a:xfrm>
            <a:off x="2428920" y="1819440"/>
            <a:ext cx="428616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4"/>
          <p:cNvSpPr/>
          <p:nvPr/>
        </p:nvSpPr>
        <p:spPr>
          <a:xfrm>
            <a:off x="2428920" y="1819440"/>
            <a:ext cx="428616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6" descr="&amp;YAcy;&amp;pcy;&amp;ocy;&amp;ncy;&amp;icy;&amp;yacy;, &amp;scy;&amp;acy;&amp;kcy;&amp;ucy;&amp;rcy;&amp;acy;"/>
          <p:cNvPicPr/>
          <p:nvPr/>
        </p:nvPicPr>
        <p:blipFill>
          <a:blip r:embed="rId2"/>
          <a:stretch/>
        </p:blipFill>
        <p:spPr>
          <a:xfrm>
            <a:off x="2556000" y="4173480"/>
            <a:ext cx="4294080" cy="2684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8" descr="642-1-f"/>
          <p:cNvPicPr/>
          <p:nvPr/>
        </p:nvPicPr>
        <p:blipFill>
          <a:blip r:embed="rId3"/>
          <a:stretch/>
        </p:blipFill>
        <p:spPr>
          <a:xfrm>
            <a:off x="0" y="4010040"/>
            <a:ext cx="27716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1.85185E-006 L 0.56319 -0.01111 E">
                                      <p:cBhvr>
                                        <p:cTn id="127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32 -0.01111 L 0.01389 -0.00069 E">
                                      <p:cBhvr>
                                        <p:cTn id="13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33333E-006 L -0.00643 -0.47223 E">
                                      <p:cBhvr>
                                        <p:cTn id="133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43 -0.47223 L -0.00643 0.01088 E">
                                      <p:cBhvr>
                                        <p:cTn id="13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13 0.05139 L 0.59254 -0.4919 E">
                                      <p:cBhvr>
                                        <p:cTn id="139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893 -0.4919 L 0.01771 0.02269 E">
                                      <p:cBhvr>
                                        <p:cTn id="14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Гімнастика для оч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8388360" y="61657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8" descr="ANd9GcSiA0MpyJUQmATavvriQPJ3ePB53xRgSEKeJWRV7MqrB1SeAEku"/>
          <p:cNvPicPr/>
          <p:nvPr/>
        </p:nvPicPr>
        <p:blipFill>
          <a:blip r:embed="rId1"/>
          <a:stretch/>
        </p:blipFill>
        <p:spPr>
          <a:xfrm>
            <a:off x="0" y="1413000"/>
            <a:ext cx="3887640" cy="26017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2"/>
          <p:cNvSpPr/>
          <p:nvPr/>
        </p:nvSpPr>
        <p:spPr>
          <a:xfrm>
            <a:off x="2428920" y="1819440"/>
            <a:ext cx="428616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4"/>
          <p:cNvSpPr/>
          <p:nvPr/>
        </p:nvSpPr>
        <p:spPr>
          <a:xfrm>
            <a:off x="2428920" y="1819440"/>
            <a:ext cx="428616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6" descr="&amp;YAcy;&amp;pcy;&amp;ocy;&amp;ncy;&amp;icy;&amp;yacy;, &amp;scy;&amp;acy;&amp;kcy;&amp;ucy;&amp;rcy;&amp;acy;"/>
          <p:cNvPicPr/>
          <p:nvPr/>
        </p:nvPicPr>
        <p:blipFill>
          <a:blip r:embed="rId2"/>
          <a:stretch/>
        </p:blipFill>
        <p:spPr>
          <a:xfrm>
            <a:off x="2556000" y="4173480"/>
            <a:ext cx="4294080" cy="2684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8" descr="642-1-f"/>
          <p:cNvPicPr/>
          <p:nvPr/>
        </p:nvPicPr>
        <p:blipFill>
          <a:blip r:embed="rId3"/>
          <a:stretch/>
        </p:blipFill>
        <p:spPr>
          <a:xfrm>
            <a:off x="0" y="4010040"/>
            <a:ext cx="27716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1.85185E-006 L 0.56319 -0.01111 E">
                                      <p:cBhvr>
                                        <p:cTn id="14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32 -0.01111 L 0.01389 -0.00069 E">
                                      <p:cBhvr>
                                        <p:cTn id="151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33333E-006 L -0.00643 -0.47223 E">
                                      <p:cBhvr>
                                        <p:cTn id="154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43 -0.47223 L -0.00643 0.01088 E">
                                      <p:cBhvr>
                                        <p:cTn id="157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13 0.05139 L 0.59254 -0.4919 E">
                                      <p:cBhvr>
                                        <p:cTn id="16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893 -0.4919 L 0.01771 0.02269 E">
                                      <p:cBhvr>
                                        <p:cTn id="163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8388360" y="61657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Египет Шарм эль Шейх отзывы. Rehana Royal Beach Resort &amp; Spa 5 Hotel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54316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4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99ff"/>
                </a:solidFill>
                <a:latin typeface="Arial"/>
              </a:rPr>
              <a:t>Дякую за урок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28720" y="-360"/>
            <a:ext cx="78120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70c0"/>
                </a:solidFill>
                <a:latin typeface="Arial"/>
              </a:rPr>
              <a:t>Тема уроку:</a:t>
            </a:r>
            <a:br>
              <a:rPr sz="4400"/>
            </a:br>
            <a:r>
              <a:rPr b="0" lang="uk-UA" sz="4400" spc="-1" strike="noStrike">
                <a:solidFill>
                  <a:srgbClr val="0070c0"/>
                </a:solidFill>
                <a:latin typeface="Arial"/>
              </a:rPr>
              <a:t>Створення таблиць, запитів на вибірку даних і звітів з використанням майстрів. Редагування запитів, звітів і форм з використанням конструктор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8388360" y="61657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70c0"/>
                </a:solidFill>
                <a:latin typeface="Arial"/>
              </a:rPr>
              <a:t>Мета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7600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70c0"/>
                </a:solidFill>
                <a:uFillTx/>
                <a:latin typeface="Arial"/>
              </a:rPr>
              <a:t>систематизувати</a:t>
            </a:r>
            <a:r>
              <a:rPr b="0" lang="uk-UA" sz="3200" spc="-1" strike="noStrike">
                <a:solidFill>
                  <a:srgbClr val="0070c0"/>
                </a:solidFill>
                <a:latin typeface="Arial"/>
              </a:rPr>
              <a:t> знання про БД, зв’язки між базами даних, форми, запити та звіти в Б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70c0"/>
                </a:solidFill>
                <a:uFillTx/>
                <a:latin typeface="Arial"/>
              </a:rPr>
              <a:t>поглибити</a:t>
            </a:r>
            <a:r>
              <a:rPr b="0" lang="uk-UA" sz="3200" spc="-1" strike="noStrike">
                <a:solidFill>
                  <a:srgbClr val="0070c0"/>
                </a:solidFill>
                <a:latin typeface="Arial"/>
              </a:rPr>
              <a:t> знання про СУБ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70c0"/>
                </a:solidFill>
                <a:uFillTx/>
                <a:latin typeface="Arial"/>
              </a:rPr>
              <a:t>розширити</a:t>
            </a:r>
            <a:r>
              <a:rPr b="0" lang="uk-UA" sz="3200" spc="-1" strike="noStrike">
                <a:solidFill>
                  <a:srgbClr val="0070c0"/>
                </a:solidFill>
                <a:latin typeface="Arial"/>
              </a:rPr>
              <a:t> світогля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8388360" y="61657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1908000" y="117360"/>
            <a:ext cx="698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ЗВІ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віти призначені для виведення інформації. Надруковані звіти подають дані в значно кращому вигляді, аніж форми або таблиц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Звіт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це об’єкт БД, що відображає і дає змогу друкувати дані з таблиці або запиту на основі описаного користувачем форма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звіті дані редагувати не можна. Звіти можуть містити дані, взяті з кількох таблиць або запит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ворення звіту нагадує створення форм. Щоб створити звіт активізуйте вікно БД, клацнувши на кнопці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тче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звіти), а потім на кнопці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оздать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На екрані з’явиться діалогове вікно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й отч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У нижньому полі виберіть таблицю або запит, на основі якого будете створювати зві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908000" y="0"/>
            <a:ext cx="7236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йстри звітів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ворюють звіти за кількома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иповими шаблон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Майстер отчето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Автоматичне створення звіту за допомогою майстра на основі вибраних пол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Автоотчет: в один столбец.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втоматичне створення звіту з полями, розташованими в одну або кілька коло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Автоотчет: ленточний.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втоматичне створення звіту у вигляді таблиц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Диаграмм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Створення звіту з діаграм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Почтовие наклейк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Створення звіту для друкування поштових наклейок різних формат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сля вибору майстра звітів програ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послідовно виводить на екран ряд діалогових вікон, у яких запитує необхідну додаткову інформаці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50920" y="2023920"/>
          <a:ext cx="8640720" cy="464508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'є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ц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ображає і дає змогу друкувати дані з таблиці або запиту на основі описаного користувачем формату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істить дані у форматі таблиці, яка подібна до електронної таблиці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15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Ф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аз, який визначає, яку інформацію вам потрібно відшукати в одній або кількох таблиця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ві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 альтернативним способом відображення табличних даних; дає змогу переглядати, редагувати і друкувати дані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5" name="TextBox 4"/>
          <p:cNvSpPr/>
          <p:nvPr/>
        </p:nvSpPr>
        <p:spPr>
          <a:xfrm>
            <a:off x="4067280" y="0"/>
            <a:ext cx="194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1-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2-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3-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4-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8388360" y="61657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рядок створення таблиці в Б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8388360" y="61657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2124000" y="1197000"/>
            <a:ext cx="57636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2700360" y="1052640"/>
            <a:ext cx="6443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вікні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овая таблица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брати один із способів створення таблиці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крити базу дан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лацнути на кнопці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оздать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дати поля таблиці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брати об'єкт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аблиц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 екрані з'явилось діалогове вікно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овая таблиц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1"/>
          <p:cNvSpPr/>
          <p:nvPr/>
        </p:nvSpPr>
        <p:spPr>
          <a:xfrm>
            <a:off x="2124000" y="2060640"/>
            <a:ext cx="57636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2"/>
          <p:cNvSpPr/>
          <p:nvPr/>
        </p:nvSpPr>
        <p:spPr>
          <a:xfrm>
            <a:off x="2124000" y="2852640"/>
            <a:ext cx="57636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3"/>
          <p:cNvSpPr/>
          <p:nvPr/>
        </p:nvSpPr>
        <p:spPr>
          <a:xfrm>
            <a:off x="2124000" y="3573360"/>
            <a:ext cx="57636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4"/>
          <p:cNvSpPr/>
          <p:nvPr/>
        </p:nvSpPr>
        <p:spPr>
          <a:xfrm>
            <a:off x="2124000" y="4292640"/>
            <a:ext cx="57636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5"/>
          <p:cNvSpPr/>
          <p:nvPr/>
        </p:nvSpPr>
        <p:spPr>
          <a:xfrm>
            <a:off x="2124000" y="5157720"/>
            <a:ext cx="576360" cy="574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2124000" y="364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7"/>
          <p:cNvSpPr/>
          <p:nvPr/>
        </p:nvSpPr>
        <p:spPr>
          <a:xfrm>
            <a:off x="2124000" y="4292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8"/>
          <p:cNvSpPr/>
          <p:nvPr/>
        </p:nvSpPr>
        <p:spPr>
          <a:xfrm>
            <a:off x="2124000" y="2852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9"/>
          <p:cNvSpPr/>
          <p:nvPr/>
        </p:nvSpPr>
        <p:spPr>
          <a:xfrm>
            <a:off x="2124000" y="5157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0"/>
          <p:cNvSpPr/>
          <p:nvPr/>
        </p:nvSpPr>
        <p:spPr>
          <a:xfrm>
            <a:off x="2124000" y="1197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1"/>
          <p:cNvSpPr/>
          <p:nvPr/>
        </p:nvSpPr>
        <p:spPr>
          <a:xfrm>
            <a:off x="2124000" y="2133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0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ипи зв'язків між таблиц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8388360" y="61657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Улыбающееся лицо 5"/>
          <p:cNvSpPr/>
          <p:nvPr/>
        </p:nvSpPr>
        <p:spPr>
          <a:xfrm>
            <a:off x="1476360" y="155736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Улыбающееся лицо 6"/>
          <p:cNvSpPr/>
          <p:nvPr/>
        </p:nvSpPr>
        <p:spPr>
          <a:xfrm>
            <a:off x="395280" y="1557360"/>
            <a:ext cx="504720" cy="503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8"/>
          <p:cNvCxnSpPr>
            <a:stCxn id="75" idx="6"/>
            <a:endCxn id="74" idx="2"/>
          </p:cNvCxnSpPr>
          <p:nvPr/>
        </p:nvCxnSpPr>
        <p:spPr>
          <a:xfrm>
            <a:off x="899640" y="1807920"/>
            <a:ext cx="577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77" name="Улыбающееся лицо 9"/>
          <p:cNvSpPr/>
          <p:nvPr/>
        </p:nvSpPr>
        <p:spPr>
          <a:xfrm>
            <a:off x="2843280" y="1484280"/>
            <a:ext cx="504720" cy="504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Улыбающееся лицо 10"/>
          <p:cNvSpPr/>
          <p:nvPr/>
        </p:nvSpPr>
        <p:spPr>
          <a:xfrm>
            <a:off x="4211640" y="1989000"/>
            <a:ext cx="504720" cy="503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Улыбающееся лицо 11"/>
          <p:cNvSpPr/>
          <p:nvPr/>
        </p:nvSpPr>
        <p:spPr>
          <a:xfrm>
            <a:off x="4284720" y="155736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Улыбающееся лицо 12"/>
          <p:cNvSpPr/>
          <p:nvPr/>
        </p:nvSpPr>
        <p:spPr>
          <a:xfrm>
            <a:off x="4067280" y="1197000"/>
            <a:ext cx="504720" cy="503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13"/>
          <p:cNvCxnSpPr>
            <a:endCxn id="79" idx="2"/>
          </p:cNvCxnSpPr>
          <p:nvPr/>
        </p:nvCxnSpPr>
        <p:spPr>
          <a:xfrm>
            <a:off x="3348000" y="1773000"/>
            <a:ext cx="937440" cy="3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2" name="Улыбающееся лицо 17"/>
          <p:cNvSpPr/>
          <p:nvPr/>
        </p:nvSpPr>
        <p:spPr>
          <a:xfrm>
            <a:off x="8172360" y="214164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лыбающееся лицо 18"/>
          <p:cNvSpPr/>
          <p:nvPr/>
        </p:nvSpPr>
        <p:spPr>
          <a:xfrm>
            <a:off x="8244000" y="1709640"/>
            <a:ext cx="504720" cy="503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Улыбающееся лицо 19"/>
          <p:cNvSpPr/>
          <p:nvPr/>
        </p:nvSpPr>
        <p:spPr>
          <a:xfrm>
            <a:off x="8028000" y="1349280"/>
            <a:ext cx="504720" cy="503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Улыбающееся лицо 20"/>
          <p:cNvSpPr/>
          <p:nvPr/>
        </p:nvSpPr>
        <p:spPr>
          <a:xfrm>
            <a:off x="6659640" y="2141640"/>
            <a:ext cx="504720" cy="503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Улыбающееся лицо 21"/>
          <p:cNvSpPr/>
          <p:nvPr/>
        </p:nvSpPr>
        <p:spPr>
          <a:xfrm>
            <a:off x="6516720" y="170964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Улыбающееся лицо 22"/>
          <p:cNvSpPr/>
          <p:nvPr/>
        </p:nvSpPr>
        <p:spPr>
          <a:xfrm>
            <a:off x="6659640" y="1349280"/>
            <a:ext cx="504720" cy="503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Прямая со стрелкой 23"/>
          <p:cNvCxnSpPr/>
          <p:nvPr/>
        </p:nvCxnSpPr>
        <p:spPr>
          <a:xfrm>
            <a:off x="7164360" y="1773000"/>
            <a:ext cx="937440" cy="3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9" name="TextBox 36"/>
          <p:cNvSpPr/>
          <p:nvPr/>
        </p:nvSpPr>
        <p:spPr>
          <a:xfrm>
            <a:off x="0" y="98100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дин до од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7"/>
          <p:cNvSpPr/>
          <p:nvPr/>
        </p:nvSpPr>
        <p:spPr>
          <a:xfrm>
            <a:off x="2700360" y="9079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дин до багать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8"/>
          <p:cNvSpPr/>
          <p:nvPr/>
        </p:nvSpPr>
        <p:spPr>
          <a:xfrm>
            <a:off x="6408720" y="97164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агато до багать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0"/>
          <p:cNvSpPr/>
          <p:nvPr/>
        </p:nvSpPr>
        <p:spPr>
          <a:xfrm>
            <a:off x="6156360" y="5732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. картина-худ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1"/>
          <p:cNvSpPr/>
          <p:nvPr/>
        </p:nvSpPr>
        <p:spPr>
          <a:xfrm>
            <a:off x="2340000" y="5003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. газета-статт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2"/>
          <p:cNvSpPr/>
          <p:nvPr/>
        </p:nvSpPr>
        <p:spPr>
          <a:xfrm>
            <a:off x="2484360" y="5445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. фільм-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4"/>
          <p:cNvSpPr/>
          <p:nvPr/>
        </p:nvSpPr>
        <p:spPr>
          <a:xfrm>
            <a:off x="4140360" y="5003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. автомобіль-двиг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5"/>
          <p:cNvSpPr/>
          <p:nvPr/>
        </p:nvSpPr>
        <p:spPr>
          <a:xfrm>
            <a:off x="6983280" y="5364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. лікар-паціє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6"/>
          <p:cNvSpPr/>
          <p:nvPr/>
        </p:nvSpPr>
        <p:spPr>
          <a:xfrm>
            <a:off x="2411280" y="580536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. музичний альбом-компози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7"/>
          <p:cNvSpPr/>
          <p:nvPr/>
        </p:nvSpPr>
        <p:spPr>
          <a:xfrm>
            <a:off x="6950880" y="50036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. учень-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6 -0.03727 L -0.37795 -0.48866 E">
                                      <p:cBhvr>
                                        <p:cTn id="6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04653 L 0.0316 -0.30903 E">
                                      <p:cBhvr>
                                        <p:cTn id="6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3588 L 0.42517 -0.3824 E">
                                      <p:cBhvr>
                                        <p:cTn id="73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205 -0.03565 L -0.44497 -0.42431 E">
                                      <p:cBhvr>
                                        <p:cTn id="7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03704E-006 L -0.00781 -0.27315 E">
                                      <p:cBhvr>
                                        <p:cTn id="8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6 1.85185E-006 L 0.00781 -0.31505 E">
                                      <p:cBhvr>
                                        <p:cTn id="8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93 -0.03588 L -0.39184 -0.13055 E">
                                      <p:cBhvr>
                                        <p:cTn id="89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40000" y="850680"/>
            <a:ext cx="63468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уки в бок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хились вперед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хились назад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І направо, і наліво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Щоб нічого не боліло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, два, три, чотири –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бираємося сил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хились, повернись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 товариша всміхн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8388360" y="61657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0" y="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Фізкультхвил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vipuser</cp:lastModifiedBy>
  <dcterms:modified xsi:type="dcterms:W3CDTF">2014-03-14T09:48:35Z</dcterms:modified>
  <cp:revision>448</cp:revision>
  <dc:subject/>
  <dc:title>Diapositiva 1</dc:title>
</cp:coreProperties>
</file>