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B26-978D-484C-A471-E1BF6591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82B-0758-4923-B4DB-5B0A3819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B4D-770F-4A9D-A714-AB2D5128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8FC-B99E-40BC-A139-2C49A6B6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5138-1452-49A2-B8E7-03FCB2E2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438-914D-4D89-A735-55B99BA2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C92F-1D1D-4864-8777-CFD3D89F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9C8C-BB0A-4BE6-9168-20215B27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4D47-0623-4CF7-876B-8BBCEF8C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B30E-F736-4F60-905D-46A35C7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773-73E4-4408-B1EC-37A2633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53B-5777-45C1-90EE-40FE448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7896-7748-4641-9C42-D83DBFD8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2CC1-2ECD-42DC-BDBE-9D7C9BD8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976-3EF7-46FD-B8E2-4BD98659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271-A7A3-4B0B-874D-E1201573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CD20-3B7B-4C3B-BFC1-AF2C2844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A9E-F947-433C-8A69-2F86FEC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5EC-82EA-45F9-9734-BAA172BD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081-1CCA-4E34-B067-3F8EDAF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3CF-B37A-479A-B374-0923789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57C-FF2B-4C07-B74C-D2134C6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BE7-68AD-4151-B954-006C4568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055-FDCB-4856-9562-7BB1B10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4FD7-5E01-49A4-8CDA-9B6FC280D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93B7-7E57-44CF-9DA7-184E71202C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Сортування, п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шук та фільтрація даних в Б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Умови пошук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0" algn="ctr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Comic Sans MS"/>
              </a:rPr>
              <a:t>Прості – </a:t>
            </a:r>
            <a:r>
              <a:rPr b="0" lang="uk-UA" sz="3000" spc="-1" strike="noStrike">
                <a:solidFill>
                  <a:srgbClr val="000000"/>
                </a:solidFill>
                <a:latin typeface="Comic Sans MS"/>
              </a:rPr>
              <a:t>умови, створені з використанням операторів порівняння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&lt; , &gt; , = </a:t>
            </a:r>
            <a:r>
              <a:rPr b="0" lang="uk-UA" sz="3000" spc="-1" strike="noStrike">
                <a:solidFill>
                  <a:srgbClr val="000000"/>
                </a:solidFill>
                <a:latin typeface="Comic Sans MS"/>
              </a:rPr>
              <a:t>і т.д.</a:t>
            </a:r>
            <a:r>
              <a:rPr b="1" i="1" lang="uk-UA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клади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&gt;4  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&lt;&gt;7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15.1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e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()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– усі дати до вчора включн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оскільки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e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()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 має значення сьогоднішньої дати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риклад №5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dff"/>
                </a:solidFill>
                <a:latin typeface="Comic Sans MS"/>
              </a:rPr>
              <a:t>Умови пошук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Comic Sans MS"/>
              </a:rPr>
              <a:t>Складені –</a:t>
            </a:r>
            <a:r>
              <a:rPr b="0" lang="uk-UA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це умови, побудовані з простих за допомогою логічних операцій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 (не),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 (і),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 (або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tween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 (між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клади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etween 2 and 6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3 or 5 or 7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Сергій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Олег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50 and &lt; 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ween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1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20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0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1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20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06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– 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між двома датами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клад №6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247920" cy="2667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Розширений фільт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92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Розширений фільтр</a:t>
            </a: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 використовують для створення складних фільтрі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Вікно розширеного фільтру викликається командою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Записи \ Фильтр \ Расширенн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ый фильт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Користувач самостійно створює фільтр, вводячи до бланку умови відбору записі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Фільтр виконується командою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Фильтр \ Применить фильт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клад №7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Сортування дани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Comic Sans MS"/>
              </a:rPr>
              <a:t>Сортування записів бази даних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це їх впорядкування за значеннями одного з полі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ля сортування використовують кноп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а зростання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а спаданн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або пункт меню 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Записи / Сортировка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клад №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art_2_7_clip_image004"/>
          <p:cNvPicPr/>
          <p:nvPr/>
        </p:nvPicPr>
        <p:blipFill>
          <a:blip r:embed="rId1"/>
          <a:stretch/>
        </p:blipFill>
        <p:spPr>
          <a:xfrm>
            <a:off x="1619280" y="3500280"/>
            <a:ext cx="770040" cy="57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rt_2_7_clip_image006"/>
          <p:cNvPicPr/>
          <p:nvPr/>
        </p:nvPicPr>
        <p:blipFill>
          <a:blip r:embed="rId2"/>
          <a:stretch/>
        </p:blipFill>
        <p:spPr>
          <a:xfrm>
            <a:off x="1476360" y="4365720"/>
            <a:ext cx="8650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dff"/>
                </a:solidFill>
                <a:latin typeface="Comic Sans MS"/>
              </a:rPr>
              <a:t>Пошук дани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ля пошуку даних можна використа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Лінійку прокрут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писок порядкових номерів записі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іалогове вікно пошу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Фільт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ап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70880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dff"/>
                </a:solidFill>
                <a:latin typeface="Comic Sans MS"/>
              </a:rPr>
              <a:t>Список порядкових номерів записі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ля пошуку за порядковими номерами існує </a:t>
            </a:r>
            <a:r>
              <a:rPr b="0" i="1" lang="uk-UA" sz="2800" spc="-1" strike="noStrike">
                <a:solidFill>
                  <a:srgbClr val="00b200"/>
                </a:solidFill>
                <a:latin typeface="Comic Sans MS"/>
              </a:rPr>
              <a:t>панель зі списком номерів</a:t>
            </a:r>
            <a:r>
              <a:rPr b="0" i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uk-UA" sz="2800" spc="-1" strike="noStrike">
                <a:solidFill>
                  <a:srgbClr val="00b200"/>
                </a:solidFill>
                <a:latin typeface="Comic Sans MS"/>
              </a:rPr>
              <a:t>записів</a:t>
            </a:r>
            <a:r>
              <a:rPr b="0" i="1" lang="uk-UA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в яку можна одразу (двічі клацнувши по ній мишкою) ввести номер запису або змінити номер запису кнопками переходу по запис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на перший            номер поточного                на останній                          номер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запис                            запису                               запис                 останнього запису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на попередній               на наступний                       на порожні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запис                               запис                                              запи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Приклад №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4797360"/>
          <a:ext cx="7775640" cy="517680"/>
        </p:xfrm>
        <a:graphic>
          <a:graphicData uri="http://schemas.openxmlformats.org/drawingml/2006/table">
            <a:tbl>
              <a:tblPr/>
              <a:tblGrid>
                <a:gridCol w="1514520"/>
                <a:gridCol w="1049400"/>
                <a:gridCol w="669960"/>
                <a:gridCol w="860400"/>
                <a:gridCol w="860400"/>
                <a:gridCol w="1057320"/>
                <a:gridCol w="961920"/>
                <a:gridCol w="801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п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│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►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►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61" name="Line 45"/>
          <p:cNvSpPr/>
          <p:nvPr/>
        </p:nvSpPr>
        <p:spPr>
          <a:xfrm>
            <a:off x="1258920" y="4365720"/>
            <a:ext cx="1152360" cy="3585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46"/>
          <p:cNvSpPr/>
          <p:nvPr/>
        </p:nvSpPr>
        <p:spPr>
          <a:xfrm>
            <a:off x="3564000" y="4365720"/>
            <a:ext cx="720720" cy="3585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47"/>
          <p:cNvSpPr/>
          <p:nvPr/>
        </p:nvSpPr>
        <p:spPr>
          <a:xfrm>
            <a:off x="7308720" y="4508640"/>
            <a:ext cx="648000" cy="215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48"/>
          <p:cNvSpPr/>
          <p:nvPr/>
        </p:nvSpPr>
        <p:spPr>
          <a:xfrm flipV="1">
            <a:off x="2916360" y="5373360"/>
            <a:ext cx="431640" cy="142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5867280" y="4365720"/>
            <a:ext cx="217440" cy="431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50"/>
          <p:cNvSpPr/>
          <p:nvPr/>
        </p:nvSpPr>
        <p:spPr>
          <a:xfrm flipV="1">
            <a:off x="5003640" y="5373360"/>
            <a:ext cx="0" cy="142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51"/>
          <p:cNvSpPr/>
          <p:nvPr/>
        </p:nvSpPr>
        <p:spPr>
          <a:xfrm flipH="1" flipV="1">
            <a:off x="7019640" y="5373360"/>
            <a:ext cx="647640" cy="142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Діалогове вікно пошук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185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а допомогою </a:t>
            </a:r>
            <a:r>
              <a:rPr b="1" i="1" lang="uk-UA" sz="3200" spc="-1" strike="noStrike">
                <a:solidFill>
                  <a:srgbClr val="00b200"/>
                </a:solidFill>
                <a:latin typeface="Comic Sans MS"/>
              </a:rPr>
              <a:t>вікна пошуку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Правка \ Найти</a:t>
            </a:r>
            <a:r>
              <a:rPr b="0" i="1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бо кнопка           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можна знайти конкретні записи або значення в полях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uk-UA" sz="1800" spc="-1" strike="noStrike">
                <a:solidFill>
                  <a:srgbClr val="703dff"/>
                </a:solidFill>
                <a:latin typeface="Comic Sans MS"/>
              </a:rPr>
              <a:t>Приклад №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art_2_7_clip_image008"/>
          <p:cNvPicPr/>
          <p:nvPr/>
        </p:nvPicPr>
        <p:blipFill>
          <a:blip r:embed="rId1"/>
          <a:stretch/>
        </p:blipFill>
        <p:spPr>
          <a:xfrm>
            <a:off x="6516720" y="2492280"/>
            <a:ext cx="792000" cy="573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art_2_7_clip_image020"/>
          <p:cNvPicPr/>
          <p:nvPr/>
        </p:nvPicPr>
        <p:blipFill>
          <a:blip r:embed="rId2"/>
          <a:stretch/>
        </p:blipFill>
        <p:spPr>
          <a:xfrm>
            <a:off x="2556000" y="4149720"/>
            <a:ext cx="33843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dff"/>
                </a:solidFill>
                <a:latin typeface="Comic Sans MS"/>
              </a:rPr>
              <a:t>Приклади шаблоні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765000"/>
          <a:ext cx="7835760" cy="5029200"/>
        </p:xfrm>
        <a:graphic>
          <a:graphicData uri="http://schemas.openxmlformats.org/drawingml/2006/table">
            <a:tbl>
              <a:tblPr/>
              <a:tblGrid>
                <a:gridCol w="1008000"/>
                <a:gridCol w="3456000"/>
                <a:gridCol w="1439640"/>
                <a:gridCol w="1932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бл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значення шабл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 результату пош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ий один текстовий симв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, АО, А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у групу символ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*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, Відповідає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…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ий один символ з узятих у дуж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і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, Серед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у цифр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16, 126, 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!...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всі символи, крім тих, що вказані після “!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яі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який-небудь символ з діапаз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, Кі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dff"/>
                </a:solidFill>
                <a:latin typeface="Comic Sans MS"/>
              </a:rPr>
              <a:t>Фільтр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фільтр за виділеним зразком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відбір даних, які містять у своєму складі виділений фрагмен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простий фільтр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відбір даних відповідно до заданої умов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розширений фільтр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відбір даних за спеціально оформленими складними умовами пошу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818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dff"/>
                </a:solidFill>
                <a:latin typeface="Comic Sans MS"/>
              </a:rPr>
              <a:t>Фільтр за виділеним зразко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13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Фільтр за виділеним фрагментом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емонструє на екрані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тільки ті записи таблиці, які містять виділений фрагмен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1" lang="uk-UA" sz="2000" spc="-1" strike="noStrike">
                <a:solidFill>
                  <a:srgbClr val="000099"/>
                </a:solidFill>
                <a:latin typeface="Comic Sans MS"/>
              </a:rPr>
              <a:t>застосування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цього фільтр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иділити елемент даних, за яким буде проводитись фільтраці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оманди меню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писи / Фильтр /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Фильтр по выделенном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або кнопка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Щоб </a:t>
            </a:r>
            <a:r>
              <a:rPr b="1" lang="uk-UA" sz="2000" spc="-1" strike="noStrike">
                <a:solidFill>
                  <a:srgbClr val="000099"/>
                </a:solidFill>
                <a:latin typeface="Comic Sans MS"/>
              </a:rPr>
              <a:t>відмінити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дію фільтра треба натиснути кнопку на панелі інструменті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Якщо виділити дані і виконати команд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писи \ Фильтр \ Исключить выделенное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то в таблиці залишаться записи, які </a:t>
            </a:r>
            <a:r>
              <a:rPr b="1" lang="uk-UA" sz="2000" spc="-1" strike="noStrike">
                <a:solidFill>
                  <a:srgbClr val="000099"/>
                </a:solidFill>
                <a:latin typeface="Comic Sans MS"/>
              </a:rPr>
              <a:t>не містять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виділених дан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клад №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79236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3132000" y="4005360"/>
            <a:ext cx="79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Простий фільт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Простий фільтр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ає змогу ввести умову перегляду для одного пол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ля цьог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иконати команду 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Записи / Фильтр / Изменить</a:t>
            </a:r>
            <a:r>
              <a:rPr b="0" i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фильтр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або натиснути кноп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у вікні фільтра встановити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умови пошуку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иконати команду 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Фильтр / Применить фильтр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або натиснути кноп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572000" y="4941720"/>
            <a:ext cx="647640" cy="621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7189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0:31Z</dcterms:created>
  <dc:creator>1</dc:creator>
  <dc:description/>
  <dc:language>en-US</dc:language>
  <cp:lastModifiedBy>vipuser</cp:lastModifiedBy>
  <dcterms:modified xsi:type="dcterms:W3CDTF">2014-03-03T18:35:25Z</dcterms:modified>
  <cp:revision>70</cp:revision>
  <dc:subject/>
  <dc:title>Пошук та сортування записів.</dc:title>
</cp:coreProperties>
</file>