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2931-5D2E-4E08-8BA3-377B97730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3543-6D2D-4822-95FF-A079ED69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F196-0C4D-4C00-961A-C49B19B05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5619-3D48-454F-8AE2-692EA3300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E3E0-BC2D-44BF-9E7D-4045409C9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74BAC-6872-4238-9E02-59F9FED5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B8C4-1BF1-419A-BE71-EC6FBAA8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0E9A-59D9-41BD-8907-76484332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2D9AE-1264-4C79-A286-DF8C134C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3111-E2D9-4BF2-8F73-2DFDDB93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06D3-C102-4817-96A7-D620B45B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D6D0-AAC7-4643-952A-34904406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CE4D-2F3D-4D5C-B68B-14D3B9FF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2470-1576-4ED4-879F-D8C83F2E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6C3A-4B3A-4695-BE1C-F9945922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6000-54A9-4A2C-963A-0BD4508EC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A6F0-ED66-4C8F-8335-440BE51F5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30C9-4F6C-4892-AC49-DEF0BA63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F15D-FEF5-486F-8987-4D604C67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62A9-48FC-4CCC-9C12-A160593F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420E-7D3A-45CB-866A-BB1EED88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DF7F-526E-4B6D-998B-22F0712E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816C-9E30-4D1B-941A-0633F62A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F306-9DDE-4DDB-834D-4D2525FB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B4AB-F2EA-40B7-ACFD-A9316EC10A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DEA9-CCA5-42B9-BF8D-4A2CA06E3F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Comic Sans MS"/>
              </a:rPr>
              <a:t>Сортування, п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lang="uk-UA" sz="4400" spc="-1" strike="noStrike">
                <a:solidFill>
                  <a:srgbClr val="ff0000"/>
                </a:solidFill>
                <a:latin typeface="Comic Sans MS"/>
              </a:rPr>
              <a:t>шук та фільтрація даних в БД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620280"/>
            <a:ext cx="68706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703dff"/>
                </a:solidFill>
                <a:latin typeface="Comic Sans MS"/>
              </a:rPr>
              <a:t>Умови пошуку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2" marL="1062720" indent="0" algn="ctr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000000"/>
                </a:solidFill>
                <a:latin typeface="Comic Sans MS"/>
              </a:rPr>
              <a:t>Прості – </a:t>
            </a:r>
            <a:r>
              <a:rPr b="0" lang="uk-UA" sz="3000" spc="-1" strike="noStrike">
                <a:solidFill>
                  <a:srgbClr val="000000"/>
                </a:solidFill>
                <a:latin typeface="Comic Sans MS"/>
              </a:rPr>
              <a:t>умови, створені з використанням операторів порівняння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&lt; , &gt; , = </a:t>
            </a:r>
            <a:r>
              <a:rPr b="0" lang="uk-UA" sz="3000" spc="-1" strike="noStrike">
                <a:solidFill>
                  <a:srgbClr val="000000"/>
                </a:solidFill>
                <a:latin typeface="Comic Sans MS"/>
              </a:rPr>
              <a:t>і т.д.</a:t>
            </a:r>
            <a:r>
              <a:rPr b="1" i="1" lang="uk-UA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0000"/>
                </a:solidFill>
                <a:uFillTx/>
                <a:latin typeface="Comic Sans MS"/>
              </a:rPr>
              <a:t>Приклади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&gt;4       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&lt;&gt;7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15.12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0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e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() </a:t>
            </a:r>
            <a:r>
              <a:rPr b="0" i="1" lang="uk-UA" sz="2000" spc="-1" strike="noStrike">
                <a:solidFill>
                  <a:srgbClr val="000000"/>
                </a:solidFill>
                <a:latin typeface="Comic Sans MS"/>
              </a:rPr>
              <a:t>– усі дати до вчора включно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i="1" lang="uk-UA" sz="2000" spc="-1" strike="noStrike">
                <a:solidFill>
                  <a:srgbClr val="000000"/>
                </a:solidFill>
                <a:latin typeface="Comic Sans MS"/>
              </a:rPr>
              <a:t>оскільки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e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() </a:t>
            </a:r>
            <a:r>
              <a:rPr b="0" i="1" lang="uk-UA" sz="2000" spc="-1" strike="noStrike">
                <a:solidFill>
                  <a:srgbClr val="000000"/>
                </a:solidFill>
                <a:latin typeface="Comic Sans MS"/>
              </a:rPr>
              <a:t> має значення сьогоднішньої дати.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Приклад №5</a:t>
            </a: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703dff"/>
                </a:solidFill>
                <a:latin typeface="Comic Sans MS"/>
              </a:rPr>
              <a:t>Умови пошук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ctr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000000"/>
                </a:solidFill>
                <a:latin typeface="Comic Sans MS"/>
              </a:rPr>
              <a:t>Складені –</a:t>
            </a:r>
            <a:r>
              <a:rPr b="0" lang="uk-UA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це умови, побудовані з простих за допомогою логічних операцій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1" i="1" lang="uk-UA" sz="2800" spc="-1" strike="noStrike">
                <a:solidFill>
                  <a:srgbClr val="000000"/>
                </a:solidFill>
                <a:latin typeface="Comic Sans MS"/>
              </a:rPr>
              <a:t> (не), 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1" i="1" lang="uk-UA" sz="2800" spc="-1" strike="noStrike">
                <a:solidFill>
                  <a:srgbClr val="000000"/>
                </a:solidFill>
                <a:latin typeface="Comic Sans MS"/>
              </a:rPr>
              <a:t> (і), 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1" i="1" lang="uk-UA" sz="2800" spc="-1" strike="noStrike">
                <a:solidFill>
                  <a:srgbClr val="000000"/>
                </a:solidFill>
                <a:latin typeface="Comic Sans MS"/>
              </a:rPr>
              <a:t> (або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between</a:t>
            </a:r>
            <a:r>
              <a:rPr b="1" i="1" lang="uk-UA" sz="2400" spc="-1" strike="noStrike">
                <a:solidFill>
                  <a:srgbClr val="000000"/>
                </a:solidFill>
                <a:latin typeface="Comic Sans MS"/>
              </a:rPr>
              <a:t> (між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0000"/>
                </a:solidFill>
                <a:uFillTx/>
                <a:latin typeface="Comic Sans MS"/>
              </a:rPr>
              <a:t>Приклади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between 2 and 6  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3 or 5 or 7  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Сергій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Олег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gt;50 and &lt; 1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tween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15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20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05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15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20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06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–  </a:t>
            </a:r>
            <a:r>
              <a:rPr b="0" i="1" lang="uk-UA" sz="2000" spc="-1" strike="noStrike">
                <a:solidFill>
                  <a:srgbClr val="000000"/>
                </a:solidFill>
                <a:latin typeface="Comic Sans MS"/>
              </a:rPr>
              <a:t>між двома датами.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иклад №6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5292720" y="3213000"/>
            <a:ext cx="3247920" cy="266724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703dff"/>
                </a:solidFill>
                <a:latin typeface="Comic Sans MS"/>
              </a:rPr>
              <a:t>Розширений фільтр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7921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Comic Sans MS"/>
              </a:rPr>
              <a:t>Розширений фільтр</a:t>
            </a:r>
            <a:r>
              <a:rPr b="0" lang="uk-UA" sz="2200" spc="-1" strike="noStrike">
                <a:solidFill>
                  <a:srgbClr val="000000"/>
                </a:solidFill>
                <a:latin typeface="Comic Sans MS"/>
              </a:rPr>
              <a:t> використовують для створення складних фільтрів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mic Sans MS"/>
              </a:rPr>
              <a:t>Вікно розширеного фільтру викликається командою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Comic Sans MS"/>
              </a:rPr>
              <a:t>Записи \ Фильтр \ Расширенн</a:t>
            </a:r>
            <a:r>
              <a:rPr b="1" i="1" lang="ru-RU" sz="2200" spc="-1" strike="noStrike">
                <a:solidFill>
                  <a:srgbClr val="000000"/>
                </a:solidFill>
                <a:latin typeface="Comic Sans MS"/>
              </a:rPr>
              <a:t>ый фильтр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omic Sans MS"/>
              </a:rPr>
              <a:t>Користувач самостійно створює фільтр, вводячи до бланку умови відбору записів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mic Sans MS"/>
              </a:rPr>
              <a:t>Фільтр виконується командою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uk-UA" sz="2200" spc="-1" strike="noStrike">
                <a:solidFill>
                  <a:srgbClr val="000000"/>
                </a:solidFill>
                <a:latin typeface="Comic Sans MS"/>
              </a:rPr>
              <a:t>Фильтр \ Применить фильтр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Приклад №7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dff"/>
                </a:solidFill>
                <a:latin typeface="Comic Sans MS"/>
              </a:rPr>
              <a:t>Сортування даних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Comic Sans MS"/>
              </a:rPr>
              <a:t>Сортування записів бази даних</a:t>
            </a: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 – це їх впорядкування за значеннями одного з полі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Для сортування використовують кнопки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за зростанням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за спадання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або пункт меню </a:t>
            </a:r>
            <a:r>
              <a:rPr b="1" i="1" lang="uk-UA" sz="2800" spc="-1" strike="noStrike">
                <a:solidFill>
                  <a:srgbClr val="000000"/>
                </a:solidFill>
                <a:latin typeface="Comic Sans MS"/>
              </a:rPr>
              <a:t>Записи / Сортировка</a:t>
            </a:r>
            <a:r>
              <a:rPr b="1" i="1" lang="uk-UA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клад №1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6" descr="art_2_7_clip_image004"/>
          <p:cNvPicPr/>
          <p:nvPr/>
        </p:nvPicPr>
        <p:blipFill>
          <a:blip r:embed="rId1"/>
          <a:stretch/>
        </p:blipFill>
        <p:spPr>
          <a:xfrm>
            <a:off x="1619280" y="3500280"/>
            <a:ext cx="770040" cy="574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art_2_7_clip_image006"/>
          <p:cNvPicPr/>
          <p:nvPr/>
        </p:nvPicPr>
        <p:blipFill>
          <a:blip r:embed="rId2"/>
          <a:stretch/>
        </p:blipFill>
        <p:spPr>
          <a:xfrm>
            <a:off x="1476360" y="4365720"/>
            <a:ext cx="86508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703dff"/>
                </a:solidFill>
                <a:latin typeface="Comic Sans MS"/>
              </a:rPr>
              <a:t>Пошук даних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Для пошуку даних можна використати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Лінійку прокрут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Список порядкових номерів записі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Діалогове вікно пошук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Фільтр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Запи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151920"/>
            <a:ext cx="708804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703dff"/>
                </a:solidFill>
                <a:latin typeface="Comic Sans MS"/>
              </a:rPr>
              <a:t>Список порядкових номерів записів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24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Для пошуку за порядковими номерами існує </a:t>
            </a:r>
            <a:r>
              <a:rPr b="0" i="1" lang="uk-UA" sz="2800" spc="-1" strike="noStrike">
                <a:solidFill>
                  <a:srgbClr val="00b200"/>
                </a:solidFill>
                <a:latin typeface="Comic Sans MS"/>
              </a:rPr>
              <a:t>панель зі списком номерів</a:t>
            </a:r>
            <a:r>
              <a:rPr b="0" i="1" lang="uk-U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uk-UA" sz="2800" spc="-1" strike="noStrike">
                <a:solidFill>
                  <a:srgbClr val="00b200"/>
                </a:solidFill>
                <a:latin typeface="Comic Sans MS"/>
              </a:rPr>
              <a:t>записів</a:t>
            </a:r>
            <a:r>
              <a:rPr b="0" i="1" lang="uk-UA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 в яку можна одразу (двічі клацнувши по ній мишкою) ввести номер запису або змінити номер запису кнопками переходу по записах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Comic Sans MS"/>
              </a:rPr>
              <a:t>на перший            номер поточного                на останній                          номер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Comic Sans MS"/>
              </a:rPr>
              <a:t>запис                            запису                               запис                 останнього запису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i="1" lang="uk-UA" sz="1600" spc="-1" strike="noStrike">
                <a:solidFill>
                  <a:srgbClr val="000000"/>
                </a:solidFill>
                <a:latin typeface="Comic Sans MS"/>
              </a:rPr>
              <a:t>на попередній               на наступний                       на порожній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i="1" lang="uk-UA" sz="1600" spc="-1" strike="noStrike">
                <a:solidFill>
                  <a:srgbClr val="000000"/>
                </a:solidFill>
                <a:latin typeface="Comic Sans MS"/>
              </a:rPr>
              <a:t>запис                               запис                                              запис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703dff"/>
                </a:solidFill>
                <a:latin typeface="Comic Sans MS"/>
              </a:rPr>
              <a:t>Приклад №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39640" y="4797360"/>
          <a:ext cx="7775640" cy="517680"/>
        </p:xfrm>
        <a:graphic>
          <a:graphicData uri="http://schemas.openxmlformats.org/drawingml/2006/table">
            <a:tbl>
              <a:tblPr/>
              <a:tblGrid>
                <a:gridCol w="1514520"/>
                <a:gridCol w="1049400"/>
                <a:gridCol w="669960"/>
                <a:gridCol w="860400"/>
                <a:gridCol w="860400"/>
                <a:gridCol w="1057320"/>
                <a:gridCol w="961920"/>
                <a:gridCol w="801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апис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│◄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◄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►│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►</a:t>
                      </a: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*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з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161" name="Line 45"/>
          <p:cNvSpPr/>
          <p:nvPr/>
        </p:nvSpPr>
        <p:spPr>
          <a:xfrm>
            <a:off x="1258920" y="4365720"/>
            <a:ext cx="1152360" cy="3585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Line 46"/>
          <p:cNvSpPr/>
          <p:nvPr/>
        </p:nvSpPr>
        <p:spPr>
          <a:xfrm>
            <a:off x="3564000" y="4365720"/>
            <a:ext cx="720720" cy="3585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Line 47"/>
          <p:cNvSpPr/>
          <p:nvPr/>
        </p:nvSpPr>
        <p:spPr>
          <a:xfrm>
            <a:off x="7308720" y="4508640"/>
            <a:ext cx="648000" cy="2156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Line 48"/>
          <p:cNvSpPr/>
          <p:nvPr/>
        </p:nvSpPr>
        <p:spPr>
          <a:xfrm flipV="1">
            <a:off x="2916360" y="5373360"/>
            <a:ext cx="431640" cy="1429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Line 49"/>
          <p:cNvSpPr/>
          <p:nvPr/>
        </p:nvSpPr>
        <p:spPr>
          <a:xfrm>
            <a:off x="5867280" y="4365720"/>
            <a:ext cx="217440" cy="4316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Line 50"/>
          <p:cNvSpPr/>
          <p:nvPr/>
        </p:nvSpPr>
        <p:spPr>
          <a:xfrm flipV="1">
            <a:off x="5003640" y="5373360"/>
            <a:ext cx="0" cy="1429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Line 51"/>
          <p:cNvSpPr/>
          <p:nvPr/>
        </p:nvSpPr>
        <p:spPr>
          <a:xfrm flipH="1" flipV="1">
            <a:off x="7019640" y="5373360"/>
            <a:ext cx="647640" cy="1429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703dff"/>
                </a:solidFill>
                <a:latin typeface="Comic Sans MS"/>
              </a:rPr>
              <a:t>Діалогове вікно пошуку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91856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За допомогою </a:t>
            </a:r>
            <a:r>
              <a:rPr b="1" i="1" lang="uk-UA" sz="3200" spc="-1" strike="noStrike">
                <a:solidFill>
                  <a:srgbClr val="00b200"/>
                </a:solidFill>
                <a:latin typeface="Comic Sans MS"/>
              </a:rPr>
              <a:t>вікна пошуку</a:t>
            </a: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uk-UA" sz="3200" spc="-1" strike="noStrike">
                <a:solidFill>
                  <a:srgbClr val="000000"/>
                </a:solidFill>
                <a:latin typeface="Comic Sans MS"/>
              </a:rPr>
              <a:t>Правка \ Найти</a:t>
            </a:r>
            <a:r>
              <a:rPr b="0" i="1" lang="uk-U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або кнопка           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можна знайти конкретні записи або значення в полях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6 </a:t>
            </a: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uk-UA" sz="1800" spc="-1" strike="noStrike">
                <a:solidFill>
                  <a:srgbClr val="703dff"/>
                </a:solidFill>
                <a:latin typeface="Comic Sans MS"/>
              </a:rPr>
              <a:t>Приклад №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4" descr="art_2_7_clip_image008"/>
          <p:cNvPicPr/>
          <p:nvPr/>
        </p:nvPicPr>
        <p:blipFill>
          <a:blip r:embed="rId1"/>
          <a:stretch/>
        </p:blipFill>
        <p:spPr>
          <a:xfrm>
            <a:off x="6516720" y="2492280"/>
            <a:ext cx="792000" cy="573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art_2_7_clip_image020"/>
          <p:cNvPicPr/>
          <p:nvPr/>
        </p:nvPicPr>
        <p:blipFill>
          <a:blip r:embed="rId2"/>
          <a:stretch/>
        </p:blipFill>
        <p:spPr>
          <a:xfrm>
            <a:off x="2556000" y="4149720"/>
            <a:ext cx="338436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703dff"/>
                </a:solidFill>
                <a:latin typeface="Comic Sans MS"/>
              </a:rPr>
              <a:t>Приклади шаблонів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84360" y="765000"/>
          <a:ext cx="7835760" cy="5029200"/>
        </p:xfrm>
        <a:graphic>
          <a:graphicData uri="http://schemas.openxmlformats.org/drawingml/2006/table">
            <a:tbl>
              <a:tblPr/>
              <a:tblGrid>
                <a:gridCol w="1008000"/>
                <a:gridCol w="3456000"/>
                <a:gridCol w="1439640"/>
                <a:gridCol w="19321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во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блон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міст значення шаблон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ис значе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лад результату пошу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значає будь-який один текстовий симво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, АО, А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значає будь-яку групу символі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*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значає, Відповідає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…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значає будь-який один символ з узятих у дужк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і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я, Середн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значає будь-яку цифр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116, 126, 1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!...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значає всі символи, крім тих, що вказані після “!”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!яі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значає який-небудь символ з діапазон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-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, Кі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703dff"/>
                </a:solidFill>
                <a:latin typeface="Comic Sans MS"/>
              </a:rPr>
              <a:t>Фільтр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omic Sans MS"/>
              </a:rPr>
              <a:t>фільтр за виділеним зразком</a:t>
            </a: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 – відбір даних, які містять у своєму складі виділений фрагмент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omic Sans MS"/>
              </a:rPr>
              <a:t>простий фільтр</a:t>
            </a: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 – відбір даних відповідно до заданої умов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uk-UA" sz="2800" spc="-1" strike="noStrike">
                <a:solidFill>
                  <a:srgbClr val="ff0000"/>
                </a:solidFill>
                <a:latin typeface="Comic Sans MS"/>
              </a:rPr>
              <a:t>розширений фільтр</a:t>
            </a: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 – відбір даних за спеціально оформленими складними умовами пошуку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98184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703dff"/>
                </a:solidFill>
                <a:latin typeface="Comic Sans MS"/>
              </a:rPr>
              <a:t>Фільтр за виділеним зразком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813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Фільтр за виділеним фрагментом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демонструє на екрані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тільки ті записи таблиці, які містять виділений фрагмент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Для </a:t>
            </a:r>
            <a:r>
              <a:rPr b="1" lang="uk-UA" sz="2000" spc="-1" strike="noStrike">
                <a:solidFill>
                  <a:srgbClr val="000099"/>
                </a:solidFill>
                <a:latin typeface="Comic Sans MS"/>
              </a:rPr>
              <a:t>застосування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цього фільтру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виділити елемент даних, за яким буде проводитись фільтрація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команди меню </a:t>
            </a: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Записи / Фильтр /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Фильтр по выделенному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або кнопка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Щоб </a:t>
            </a:r>
            <a:r>
              <a:rPr b="1" lang="uk-UA" sz="2000" spc="-1" strike="noStrike">
                <a:solidFill>
                  <a:srgbClr val="000099"/>
                </a:solidFill>
                <a:latin typeface="Comic Sans MS"/>
              </a:rPr>
              <a:t>відмінити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дію фільтра треба натиснути кнопку на панелі інструменті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Якщо виділити дані і виконати команду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Записи \ Фильтр \ Исключить выделенное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то в таблиці залишаться записи, які </a:t>
            </a:r>
            <a:r>
              <a:rPr b="1" lang="uk-UA" sz="2000" spc="-1" strike="noStrike">
                <a:solidFill>
                  <a:srgbClr val="000099"/>
                </a:solidFill>
                <a:latin typeface="Comic Sans MS"/>
              </a:rPr>
              <a:t>не містять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виділених дани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иклад №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2484360" y="3068640"/>
            <a:ext cx="792360" cy="647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"/>
          <p:cNvPicPr/>
          <p:nvPr/>
        </p:nvPicPr>
        <p:blipFill>
          <a:blip r:embed="rId2"/>
          <a:stretch/>
        </p:blipFill>
        <p:spPr>
          <a:xfrm>
            <a:off x="3132000" y="4005360"/>
            <a:ext cx="79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703dff"/>
                </a:solidFill>
                <a:latin typeface="Comic Sans MS"/>
              </a:rPr>
              <a:t>Простий фільтр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69608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omic Sans MS"/>
              </a:rPr>
              <a:t>Простий фільтр</a:t>
            </a: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дає змогу ввести умову перегляду для одного пол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Для цього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виконати команду </a:t>
            </a:r>
            <a:r>
              <a:rPr b="1" i="1" lang="uk-UA" sz="2400" spc="-1" strike="noStrike">
                <a:solidFill>
                  <a:srgbClr val="000000"/>
                </a:solidFill>
                <a:latin typeface="Comic Sans MS"/>
              </a:rPr>
              <a:t>Записи / Фильтр / Изменить</a:t>
            </a:r>
            <a:r>
              <a:rPr b="0" i="1" lang="uk-U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Comic Sans MS"/>
              </a:rPr>
              <a:t>фильтр</a:t>
            </a: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 або натиснути кнопк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у вікні фільтра встановити </a:t>
            </a: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умови пошуку</a:t>
            </a: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виконати команду </a:t>
            </a:r>
            <a:r>
              <a:rPr b="1" i="1" lang="uk-UA" sz="2400" spc="-1" strike="noStrike">
                <a:solidFill>
                  <a:srgbClr val="000000"/>
                </a:solidFill>
                <a:latin typeface="Comic Sans MS"/>
              </a:rPr>
              <a:t>Фильтр / Применить фильтр</a:t>
            </a: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 або натиснути кнопк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4572000" y="4941720"/>
            <a:ext cx="647640" cy="621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"/>
          <p:cNvPicPr/>
          <p:nvPr/>
        </p:nvPicPr>
        <p:blipFill>
          <a:blip r:embed="rId2"/>
          <a:stretch/>
        </p:blipFill>
        <p:spPr>
          <a:xfrm>
            <a:off x="5651640" y="3357720"/>
            <a:ext cx="71892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21:40:31Z</dcterms:created>
  <dc:creator>1</dc:creator>
  <dc:description/>
  <dc:language>en-US</dc:language>
  <cp:lastModifiedBy>vipuser</cp:lastModifiedBy>
  <dcterms:modified xsi:type="dcterms:W3CDTF">2014-03-03T18:35:25Z</dcterms:modified>
  <cp:revision>70</cp:revision>
  <dc:subject/>
  <dc:title>Пошук та сортування записів.</dc:title>
</cp:coreProperties>
</file>