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FEB-881A-4239-B41F-6F0AEE9A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6AB2-2D45-473B-9FAB-097735CA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560C7-AC11-4DD9-933F-59C63750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15C32-A285-4BB5-8221-C7032AD8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76D94-0987-4172-B56F-B595812E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40D6E-21B4-47CE-AC7C-DDA78F58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AD70A-DFCF-4AD6-9F33-34F77153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76BBD-A774-44C1-A9EC-A0E3F22F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E10B4-FD98-464A-AAF1-679FB76D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D0FE3-152A-4D02-80CA-3E3153E0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DD561-89E5-4C81-9B3C-52E2A389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8D9E2-5AFE-4F32-B976-E61C3787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EBD8-FEDC-4FA0-A41F-A21C134C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7D6AC-037D-4146-9719-92885B4E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B79FD-E6B5-4F46-9B34-059427DC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F7495-3C5B-4941-BEDD-0514DA69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B2CD4-10AE-46CC-98C5-7977B1B3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CB763-1DD1-4A63-AD23-146FFF57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A7E1A-FF50-48DB-9F5A-95C5A2BF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F1F1B-E415-456F-9515-C8DCCB04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BD383-9540-47EC-A15D-CDFD4C24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9F405-A51B-4DBF-8AB6-C34193B2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2C1EF-CEB1-4A00-B193-CC730368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F51C-3286-4208-B977-0BA2EA48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999DC-24C3-41B9-A7B9-693F5375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FFEC5-B6C5-4FDB-B814-C574444D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09321-476E-4E4C-892E-398543F1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88954-80F2-4AA0-AC53-6DBF8F69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5FAA6-39C0-40FE-B328-B9357380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3C51F-81BE-47EA-8B05-2A500E8D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C5F14-819B-449F-9ACE-25717585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0F10A-AB04-4785-BEF5-5C106E79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9E0D6-F9FE-491B-8197-A1A8C0B9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008C7-079A-41F7-A514-4397DD00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28FB-7EF2-4BFC-93A2-AE97EEA7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8B735-0005-427D-BFDD-D3CBAA69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B04F8-4D7E-4B25-9C38-0FD7FA78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B8033-5C1B-414A-900A-4E30D45B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39309-F1F1-4FBD-91BD-2762B93E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B9568-515F-4961-AFB6-E8098407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513BE-D616-424D-852B-545498D6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30747-194A-41D0-A653-989AF9BB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E1618-B420-4FF5-A940-72D82244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4AD51-606D-487F-9A17-791365AD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A6B11-F193-430C-903F-0394B604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46BC-09EB-42B0-90C3-7A09BED0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37F20-5C99-45BD-A1CD-1804AAAC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9EFED-7715-4403-9AEE-491819C7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B48A6-AA27-4097-9355-A74BC0D5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21F74-30C4-487A-9ED0-76E85C63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EE7FD-5C68-485C-BABA-E483C2BF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1D1CA-214D-428D-9953-D33DD35B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C57A4-A2C4-42C5-8795-B35B58C3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31769-4490-4783-99CA-5C451F0E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82ADEC-756F-4E24-A9C1-ECA29A7B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D7EAE-8C86-4FF4-B5B6-BBEF41B0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C5B4-F7BB-48FF-BE01-EBF2C999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69B70-3520-4BFF-A1B0-F058FE84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F39BA0-7641-4A06-8733-795060F4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E3F1B-B2E5-4250-9A4A-F08AAB64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1DE53-B6CE-4A54-B596-1B375DFE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476B2-33FE-444B-988B-344154A0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DEF969-CCE4-4C2D-87FA-796BF85C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41755F-DFDC-4A51-9AE3-52D17FAE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24F18F-0FEA-451F-A63B-718653F9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F3B1D-88C6-45D2-B6F9-F2349ABA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0C2CA6-AE8B-46F3-AB4E-2EFC8447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7572-E4D1-4988-A2F9-86A19B62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A67B6A-EA87-4D1B-BB41-4BC633F5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D0F93-062E-4217-AB95-28311D81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745DC6-D527-4E6D-88EA-F53B66CC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C842EC-3A17-406D-8684-8BA55664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C4302D-D120-4912-B8BC-C5D47DC8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61D0EA-F3D2-4567-B789-EAE87AFD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C8B78D-7945-45D1-A9A2-A2594093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B6D18D-CC5E-4D64-A402-DA397F67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1EF65-78B7-4253-B6F7-22431ED7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F26CC2-1DFD-4266-9C95-F441E582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6FEF-257A-438E-92E3-F2757B96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1691E8-62C3-4E97-8622-FD28A3AC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156EB9-E9A1-4C88-B907-14C994DB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AE8E35-0FDA-40D7-87C2-04220A04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0338E0-6E0C-4F04-963B-AACA62CA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61FD8E-3F33-4971-93E8-6C920E43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900739-E3F2-4931-9DE9-F60F2AF8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B70E5A-AB8E-4676-BA09-F5797C1D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89E86E-95AB-4396-BD94-3842DDE9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919EA7-13BB-4494-A48B-70E7725A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9CA8B4-E1EC-4174-9E51-E1BA18CF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2F2C-7AEC-4A44-9D5E-5F0C4CE6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37AE09-EA74-42EF-9C46-74A0AB90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0DDC1B-6859-48A1-85B7-FD685BD8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1D64DF-E3FF-4AB9-A7DD-9D62C777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382012-C80E-4DAA-A717-C261F4E3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37CD71-B538-4860-BA5C-01C3F65A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47B046-B3BD-412D-A814-59C58171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7DDD4E-5BBA-47C8-897A-6D98E434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BBC1AA-12A8-4A45-A4BA-C4B09BAB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0C7BAA-BCD7-4AFC-9395-91155D10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5D3119-82BF-4D0E-A9E1-86774A45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62F8-2B2F-44F3-B7F8-E8C3969C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19CFB7-FC4B-4703-A12E-237B8B22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B7AD16-DD87-4B49-926B-09D8B643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198A77-28F6-4CFF-8B20-6AE66F3B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5317DB-FB13-4F04-8C5E-EBE3E51A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AEAFDC-9B71-443D-97FE-7161B9D0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89CE5A-E7D0-4922-B76F-98B06D73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45BCE1-EB36-42F8-B51D-E89B31BA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02BBC9-8B4E-424F-A0BD-455BBDAD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C8C839-1134-4FEF-A42A-5A1338B1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D2E69F-48CD-4EFD-8AFE-040F7D51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A401-1C9E-4454-B639-2131A272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DE5B-2275-4064-BC6B-408A48C6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DD32D4-69B3-4DEF-81B0-F3A0C14B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1A8E47-D809-4B64-8C7D-05A79CBB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9AAF9D-2B71-49BF-B939-746C5D9E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5301DC-3D51-43C9-A633-8EF6F62F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0727BA-F96C-4EEE-867C-64317BBA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B129A6-A1C0-46A1-8960-F111E939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1EB6F7-A0BE-44E3-99BC-6AFFEE4F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B2C778-0A67-4B53-9FCE-5BE5F702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251120-016F-4F5E-8794-9FA96018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434E99-2C44-4555-8ED9-B139C013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9B1C-5943-494F-885B-1D937D98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144895-8FCA-44E4-B58F-74E6D126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0EF12C-510B-45DC-9804-4C951B39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95746B-96C8-4B5C-8E23-16F80C26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5FCCA1-52DB-42A1-ACA5-0691B473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6EEEAE-CEC8-4E6E-91CF-818EF18A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74498C-DDD5-4C5D-AFD6-1B0538FF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D3EA7E-E71F-4884-9DB7-B66D018D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E14F-45DB-46ED-91FC-6185F6E1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721A-1F67-4774-9438-976C98DF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0103-8322-4053-BE6B-3DD34CC7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0604A-BF2F-48AD-B13B-B26676E1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65E08-5291-441C-8800-5A3F8743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0E125-7F96-4CB1-A443-22B70C29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CD83E-FC92-44F3-BACB-052EA383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CE75A-F1CF-414A-92EC-8703D17C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0098-1833-483C-951F-602B9B1D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27708-4FF7-4180-857C-C24E3B27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C78A9-1507-4B65-81E8-00EA5261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69FDF-11FB-4B00-B3FD-58878078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2CFAE-2D17-424A-B3DF-BA4A1598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45EDC-76F0-4063-8704-FDF54451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6BB75-ABEC-4EC3-993E-0CEDED73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85B6F-08EC-4D6A-B6C0-73E10EFC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DD254-5D30-4361-AB1A-997D1FC4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F40D8-D23E-47B3-850F-8AD86185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17E29-C48E-4E39-9AE8-58B7E34C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B50E-A6F0-43B4-872D-17352C1F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1B298-A1D4-482C-9E99-E395C101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75B2B-6386-4918-9DC9-72ED52A6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F9D08-24C8-40A6-B0FF-71560CBE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017ED-A2AE-4DC4-9393-20FA4294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54206-3F01-499A-AD1A-5626EC5E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67916-F514-4620-B6BB-8683067E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20DA8-4E3E-4615-B0D9-81378A44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96CAC-21B1-4C5E-9749-F4D8C8D1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3CFC0-6845-4415-BD37-03245213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B9C7D-C5CC-451B-8121-B973B789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60F1-656F-4444-8CA8-D766B46C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F65A5-87AE-4D00-BD92-198D2845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742C3-8D9A-4EDA-B2C9-6BC87BE5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0A6F5-2DDF-4D7A-B86B-2F68972B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2CAE6-18D0-4FD3-8A0B-8562A0B4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07D5E-379A-4CEC-BD95-0A777622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C7686-4A5D-4067-B33B-F63B9358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F55B0-04D2-4973-8451-44341247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71DD6-9C88-4925-AEF0-C7B7641F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20CB2-27C6-408F-82BF-98720CB6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D3BB2-7D6C-49F2-AD1C-74BF48D7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0AA7-8AA3-4336-A01E-21B90642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0B9A3-58E6-414E-BDFF-A7ABE07F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B25C6-49F5-4753-A129-DA7AA83C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E5CAC-DDA4-4E4E-AC2C-ED23C48A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59ADE-E504-4A9A-A7E2-9D9ACA28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B6BA7-BED9-411F-90FE-98E5E7D8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F688D-7EDC-45BD-9CE2-74CED7F9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A0DF8-C8D3-4639-8B05-AF8E91C4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A4130-AB0F-4233-895A-D09725A7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12D50-501C-40B1-B023-F7F8060E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506CD-31C5-46E0-86B5-C49D3125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4845-9C82-46A4-B2F8-39447BDB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AF431-E760-460F-9113-F2905470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8C400-2F9B-455F-9EB9-616586DF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5763B-163A-40EE-91E8-E0F96074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9AB2C-6F73-4E17-B3BD-CF2957EA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5B765-904C-478E-9BE9-82FBE52A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74BC4-2EB3-434D-AC98-953C184F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4F902-D8C8-4ED2-85A8-24FD0784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26689-94AF-45B7-B973-9783B1C1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589EA-0B54-4CAF-BF35-78812945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67619-0CDF-4732-B976-34A934DF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4F6-3B16-4FA3-9CA8-90D15541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FDA26-4187-4DFB-97CB-76DA87D4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F8D43-7D78-47FF-AED9-98AE251C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7FB67-728F-4BD4-89C7-4FCD1CC9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71910-4043-4DB4-B4BF-AC16385C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CC430-B3F1-439D-8CDB-77FF1D55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091A9-3AED-45C5-9AB2-33ADC165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56188-12AC-44F4-944A-5B409A32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E7031-4357-45B5-93BF-228EA7FE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F23BF-A4E0-4606-AA63-4CADDF9B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40616-CA61-442A-B74A-1129EF20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1EA-F5C4-4A32-868D-0A8ED436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97002-93FA-4C0D-BAD1-7AA0ED6D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73170-F306-4BB5-8FAC-0C5E4B82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A297A-0962-47C9-9FAE-044A882D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CF6BD-1623-4C51-9F2C-D9C57281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DA823-2DB9-46E7-8E03-5AFDB29A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9031D-17B1-485E-B900-B5948F60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0D677-B0BE-449B-B496-82A3EE1B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59B73-42C0-4C14-8CD2-7EAB6E55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E709A-20D0-4D18-BA6A-AD25FECE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E7886-B350-436C-B600-437898F4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4765-783F-40D4-BC11-73702643D25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F65A-FC72-4EC8-B00C-8D11ADB0076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06DC-FC84-4E5B-A9FE-AEA451A84A8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C0D6-69EC-4AAA-8A28-D857C684CDC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5448-6030-4EEF-9A68-4C913E46663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E153-8C0A-4206-979A-6AEFA093DA4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F971-1AA7-4D95-9A5E-B501E250A9D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FE65-D8AA-4020-A031-30E19640EC4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C146-2B39-4DE6-81AE-882761ECD95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D130-59EB-47A6-AD1D-F89F433CA2F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5E3B-9531-4003-99FF-BDEBB63FDAD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6919-CBDB-4895-A7F7-70EE62954FB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C460-DBE9-4588-9E5C-EDF6CADBBC3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9C51-BFE1-4A6D-81EB-9EBD53B93AD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36CE-9B12-40A0-8DA8-3F505B9D1AC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CACB-46D4-4D18-8CBB-2E27A2B3455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9C60-CA01-45B9-BCA3-47606661EC9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1B7A-602E-437D-8099-DB2F750CC03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on.gov.ua/" TargetMode="External"/><Relationship Id="rId2" Type="http://schemas.openxmlformats.org/officeDocument/2006/relationships/hyperlink" Target="http://kharkivosvita.net.ua/" TargetMode="External"/><Relationship Id="rId3" Type="http://schemas.openxmlformats.org/officeDocument/2006/relationships/hyperlink" Target="http://www.testportal.gov.ua/" TargetMode="External"/><Relationship Id="rId4" Type="http://schemas.openxmlformats.org/officeDocument/2006/relationships/hyperlink" Target="http://zno-kharkiv.org.ua/" TargetMode="External"/><Relationship Id="rId5" Type="http://schemas.openxmlformats.org/officeDocument/2006/relationships/hyperlink" Target="http://ruodzer.narod.ru/" TargetMode="External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ostriv.in.ua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778040" y="3276360"/>
            <a:ext cx="7362720" cy="29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Тема. Призначення і структура мережі Інтернет. Служби Інтернету. Всесвітня павутина. Адресація в Інтернеті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45" name="Рисунок 1" descr=""/>
          <p:cNvPicPr/>
          <p:nvPr/>
        </p:nvPicPr>
        <p:blipFill>
          <a:blip r:embed="rId1"/>
          <a:stretch/>
        </p:blipFill>
        <p:spPr>
          <a:xfrm>
            <a:off x="1784520" y="304920"/>
            <a:ext cx="571500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Якість доступу до мережі Інтерне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Потреба у збільшенні швидкості передавання даних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Це можливо шляхом прокладання нових магістральних каналів зв'язк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Адресація в Інтернеті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ІР-адреси (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Internet Protocol Address) – </a:t>
            </a: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адреси комп'ютерів у мережі Інтернет згідно з Інтернет-протоколом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ІР-адреса складається з 4-х чисел від 0 до 255 кожне, розділене крапками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 u="sng">
                <a:solidFill>
                  <a:srgbClr val="404040"/>
                </a:solidFill>
                <a:uFillTx/>
                <a:latin typeface="Century Gothic"/>
              </a:rPr>
              <a:t>Приклади: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66.249.93.104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193.109.248.70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82.144.233.61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Стандарти ІР-адресації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Pv4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 (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nternet Protocol version 4)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 – стандарт, у якому використовуються 4 цілих числа від 0 до 255, розділених крапками (протокол Інтернету версії 4)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Можливість використання понад 4 млрд. унікальних адрес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Стандарти ІР-адресації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IPv6 </a:t>
            </a:r>
            <a:r>
              <a:rPr b="0" lang="uk-UA" sz="2000" spc="-1" strike="noStrike">
                <a:solidFill>
                  <a:srgbClr val="404040"/>
                </a:solidFill>
                <a:latin typeface="Century Gothic"/>
              </a:rPr>
              <a:t> (</a:t>
            </a: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Internet Protocol version 6)</a:t>
            </a:r>
            <a:r>
              <a:rPr b="0" lang="uk-UA" sz="2000" spc="-1" strike="noStrike">
                <a:solidFill>
                  <a:srgbClr val="404040"/>
                </a:solidFill>
                <a:latin typeface="Century Gothic"/>
              </a:rPr>
              <a:t> – новий стандарт, у зв'язку із стрімким ростом користувачів Інтернету задля унеможливлення завершення вільних ІР-адрес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Century Gothic"/>
              </a:rPr>
              <a:t>Цей стандарт передбачає для запису ІР-адрес 8 цілих чисел від 0 до 65 535, розділених двокрапками (протокол Інтернету версії 6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IPv6 </a:t>
            </a:r>
            <a:r>
              <a:rPr b="0" lang="uk-UA" sz="2000" spc="-1" strike="noStrike">
                <a:solidFill>
                  <a:srgbClr val="404040"/>
                </a:solidFill>
                <a:latin typeface="Century Gothic"/>
              </a:rPr>
              <a:t>адреси показуються як вісім груп по чотири шістнадцяткові цифри, розділених двокрапками. Приклад адреси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Century Gothic"/>
              </a:rPr>
              <a:t>      </a:t>
            </a:r>
            <a:r>
              <a:rPr b="1" lang="uk-UA" sz="2000" spc="-1" strike="noStrike">
                <a:solidFill>
                  <a:srgbClr val="404040"/>
                </a:solidFill>
                <a:latin typeface="Century Gothic"/>
              </a:rPr>
              <a:t>2001:0</a:t>
            </a: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db8:11a3:09d7:1f34:8a2e:07a0:765d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900" spc="-1" strike="noStrike">
                <a:solidFill>
                  <a:srgbClr val="262626"/>
                </a:solidFill>
                <a:latin typeface="Century Gothic"/>
              </a:rPr>
              <a:t>Практична робота. Алгоритм перегляду </a:t>
            </a:r>
            <a:r>
              <a:rPr b="0" lang="en-US" sz="2900" spc="-1" strike="noStrike">
                <a:solidFill>
                  <a:srgbClr val="262626"/>
                </a:solidFill>
                <a:latin typeface="Century Gothic"/>
              </a:rPr>
              <a:t>IP-</a:t>
            </a:r>
            <a:r>
              <a:rPr b="0" lang="uk-UA" sz="2900" spc="-1" strike="noStrike">
                <a:solidFill>
                  <a:srgbClr val="262626"/>
                </a:solidFill>
                <a:latin typeface="Century Gothic"/>
              </a:rPr>
              <a:t>адреси комп'ютера 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Відкрити вікно Мережне оточенн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Вибрати команду Показати мережні підключення у списку Мережні завданн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Відкрити вікно Підключення локальною мережею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Обрати команду Підтримк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Обрати кнопку закрит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Вигляд вікна перегляду ІР-адрес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78" name="Рисунок 3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722772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Доменні адреси в мережі Інтерне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1828440" y="19047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ІР-адреса веб-ресурсу – 193.293.159.109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Доменна адреса –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photographers.com.u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81" name="Рисунок 2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7113600" cy="38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Доменні адрес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Адреса ресурсу в мережі, яка записана з використанням слів або їх скорочень, що розділені крапкою, називається доменним імене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Доменн</a:t>
            </a: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і імен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Міністерство освіти і науки Україн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http://www.mon.gov.ua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Управління освіти Харківської міської рад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2"/>
              </a:rPr>
              <a:t>http://kharkivosvita.net.ua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Український центр оцінювання якості освіт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3"/>
              </a:rPr>
              <a:t>http://www.testportal.gov.ua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Харківський регіональний центр оцінювання якості освіт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4"/>
              </a:rPr>
              <a:t>http://zno-kharkiv.org.ua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Управління освіти Дзержинської районної у м. Харкові рад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5"/>
              </a:rPr>
              <a:t>http://ruodzer.narod.ru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Доменн</a:t>
            </a: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і імен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Вікіпедія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Проект зі створення повноцінної і точної енциклопедії для дорослих та дітей - </a:t>
            </a: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http://ru.wikipedia.org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Острів знань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Шкільний Інтернет-портал, де все для навчання і не тільки: багато корисного як для учнів і батьків, так і для вчителів - </a:t>
            </a: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2"/>
              </a:rPr>
              <a:t>http://ostriv.in.ua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Шкільна Інтернет-бібліотека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Проект організовано управлінням освіти Харківської міської ради. Цікаві програми вільного використання, корисні посилання на Інтернет-ресурси, повнотекстові літературні архіви - http://kharkivosvita.net.ua/content/4/40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Розгляд питан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Призначення й структура мережі Інтернет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Адресація в Інтернеті, поняття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P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адреси, доменного імені та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URL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адреси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Протоколи Інтернету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Способи підключення до Інтернету, функції провайдера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Система доменних імен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2133720" y="160020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У системі доменних імен визначені зони – домен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Власниками доменних імен можуть бути країни, регіони, організації або окремі особ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Частина доменного імені, що записана після останньої крапки, є доменом верхнього рівн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Домени верхнього рівня визначені міжнародною угодою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Домени верхнього рівня поділяють на два види – функціональні (за сферою діяльності) та національні (за приналежністю до країни)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Види доменів верхнього рівн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1676160" y="1914480"/>
            <a:ext cx="31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 u="sng">
                <a:solidFill>
                  <a:srgbClr val="404040"/>
                </a:solidFill>
                <a:uFillTx/>
                <a:latin typeface="Century Gothic"/>
              </a:rPr>
              <a:t>Функціональні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du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– 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освітні організації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с</a:t>
            </a: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m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– комерційні організації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net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– організації, повязані з мережею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gov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– урядові організації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rg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– некомерційні організації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5638320" y="2057400"/>
            <a:ext cx="31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 u="sng">
                <a:solidFill>
                  <a:srgbClr val="404040"/>
                </a:solidFill>
                <a:uFillTx/>
                <a:latin typeface="Century Gothic"/>
              </a:rPr>
              <a:t>Національні домени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ua - 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Україн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ru 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- Росія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u 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- Європ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us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- СШ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de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- Німеччин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NS</a:t>
            </a: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 (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omain Name System) </a:t>
            </a: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– система доменних імен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Зіставлення доменних імен і ІР-адрес виконується автоматично спеціальною мережнею службою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DNS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95" name="Рисунок 1" descr=""/>
          <p:cNvPicPr/>
          <p:nvPr/>
        </p:nvPicPr>
        <p:blipFill>
          <a:blip r:embed="rId1"/>
          <a:stretch/>
        </p:blipFill>
        <p:spPr>
          <a:xfrm>
            <a:off x="4724280" y="3200400"/>
            <a:ext cx="3229200" cy="3067200"/>
          </a:xfrm>
          <a:prstGeom prst="rect">
            <a:avLst/>
          </a:prstGeom>
          <a:ln w="0">
            <a:noFill/>
          </a:ln>
        </p:spPr>
      </p:pic>
      <p:pic>
        <p:nvPicPr>
          <p:cNvPr id="1296" name="Рисунок 2" descr=""/>
          <p:cNvPicPr/>
          <p:nvPr/>
        </p:nvPicPr>
        <p:blipFill>
          <a:blip r:embed="rId2"/>
          <a:stretch/>
        </p:blipFill>
        <p:spPr>
          <a:xfrm>
            <a:off x="1495440" y="3200400"/>
            <a:ext cx="3228840" cy="30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Адресація інформаційних ресурсів у мережі Інтерне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Адреса інформаційного ресурсу в мережі Інтернет називається його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URL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-адресою (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Uniform (Universal) Resource Locator 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– фіксований (універсальний) вказник місцезнаходження ресурсу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Запис 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URL</a:t>
            </a: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-адрес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У записі 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URL</a:t>
            </a: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-адреси вказують назву протоколу, за правилами якого буде передаватися файл мережею, і шлях до ресурсу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Шлях до ресурсу буде включати доменне ім'я або ІР-адресу, шлях до файлу на самому комп'ютері та ім'я файлу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Запис 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URL</a:t>
            </a: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-адрес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Протокол:</a:t>
            </a: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//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доменне ім'я </a:t>
            </a: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/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шлях до файлу </a:t>
            </a: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/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ім'я файлу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03" name="Рисунок 1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91440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Способи підключення до мережі Інтерне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2438280" y="1978200"/>
            <a:ext cx="6400800" cy="41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 u="sng">
                <a:solidFill>
                  <a:srgbClr val="404040"/>
                </a:solidFill>
                <a:uFillTx/>
                <a:latin typeface="Century Gothic"/>
              </a:rPr>
              <a:t>Канали підключення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Телефонні канали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Кабельні канали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Канали радіозв'язк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Закріплення набутих знан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609120" y="1599840"/>
            <a:ext cx="38862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404040"/>
                </a:solidFill>
                <a:latin typeface="Century Gothic"/>
              </a:rPr>
              <a:t>Зазначити помилкові ІР-адреси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195.11.134.178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123.256.123.1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166-166-166-166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191.191.191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76.78.189.189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Rectangle 3"/>
          <p:cNvSpPr/>
          <p:nvPr/>
        </p:nvSpPr>
        <p:spPr>
          <a:xfrm>
            <a:off x="4343400" y="1600200"/>
            <a:ext cx="38862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404040"/>
                </a:solidFill>
                <a:latin typeface="Century Gothic"/>
              </a:rPr>
              <a:t>Зазначити помилкові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web </a:t>
            </a:r>
            <a:r>
              <a:rPr b="1" lang="uk-UA" sz="1800" spc="-1" strike="noStrike">
                <a:solidFill>
                  <a:srgbClr val="404040"/>
                </a:solidFill>
                <a:latin typeface="Century Gothic"/>
              </a:rPr>
              <a:t>адрес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entury Gothic"/>
              </a:rPr>
              <a:t>http://shumsk.at.u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entury Gothic"/>
              </a:rPr>
              <a:t>http:/zhnyborody.te.ua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entury Gothic"/>
              </a:rPr>
              <a:t>http://photographers.com.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entury Gothic"/>
              </a:rPr>
              <a:t>http://photographers.com.ua/topic//fotograf-weerapong-chaipuck-4559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Мережа Інтернет 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(</a:t>
            </a: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inter – </a:t>
            </a:r>
            <a:r>
              <a:rPr b="0" lang="uk-UA" sz="2400" spc="-1" strike="noStrike">
                <a:solidFill>
                  <a:srgbClr val="262626"/>
                </a:solidFill>
                <a:latin typeface="Century Gothic"/>
              </a:rPr>
              <a:t>між, </a:t>
            </a: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network</a:t>
            </a:r>
            <a:r>
              <a:rPr b="0" lang="uk-UA" sz="2400" spc="-1" strike="noStrike">
                <a:solidFill>
                  <a:srgbClr val="262626"/>
                </a:solidFill>
                <a:latin typeface="Century Gothic"/>
              </a:rPr>
              <a:t> мережа; </a:t>
            </a:r>
            <a:br>
              <a:rPr sz="2400"/>
            </a:br>
            <a:r>
              <a:rPr b="0" lang="uk-UA" sz="2400" spc="-1" strike="noStrike">
                <a:solidFill>
                  <a:srgbClr val="262626"/>
                </a:solidFill>
                <a:latin typeface="Century Gothic"/>
              </a:rPr>
              <a:t>об'єднана мережа</a:t>
            </a: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Найбільша та найвідоміша з глобальних мереж, що об'єднує комп'ютери та комп'ютерні мережі на основі протоколів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CP/IP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 даними ООН 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кількість світових користувачів складає понад 1 млрд., в Україні – понад 8 млн. населенн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Мережні протокол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Мережний протокол 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— це заснований на стандартах набір правил, що визначає принципи взаємодії комп'ютерів в мережі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ротокол також задає загальні правила взаємодії різноманітних програм, мережевих вузлів чи систем і створює таким чином єдиний простір передачі даних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Хост - будь-який вузол мережі, що відправляє або приймає дані через мережу (host)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Хости взаємодіють між собою також за певними протоколами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Зауваженн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Для того, щоб прийняти і обробити відповідним чином повідомлення, необхідно знати як сформовані повідомлення і що вони означають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Прикладами використання різних форматів повідомлень в різних протоколах можуть бути встановлення з'єднання з віддаленою машиною, відправка повідомлень електронною поштою, передача файлів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Зрозуміло, що різні служби використовують різні формати повідомлень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Основа апаратної структури мережі Інтерне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2133360" y="2286000"/>
            <a:ext cx="5808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ackbone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або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vBNS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(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very-high-performance Backbone Network Service – 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найшвидкісна опорна мережна послуга) – високошвидкісні магістральні канали передавання даних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Основа апаратної структури мережі Інтерне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Передаванням даних цими каналами керують потужні суперкомп'ютери, які утворюють перший рівень доступу до мережі Інтернет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Організації, що обслуговують ці суперкомп'ютери  є первинними провайдерами (постачальниками) послуг Інтернету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Провайдер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До первинних провайдерів приєднуються провайдери наступних рівнів, які у свою чергу, забезпечують доступ до каналів Інтернету своїм клієнтам – користувачам, мережам і провайдерам нижчого рівня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За отриманням доступу до мережі Інтернет (підключенням) користувачі звертаються до місцевих Інтернет-провайдрів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900" spc="-1" strike="noStrike">
                <a:solidFill>
                  <a:srgbClr val="262626"/>
                </a:solidFill>
                <a:latin typeface="Century Gothic"/>
              </a:rPr>
              <a:t>Схема приєднання провайдерів до мережі Інтернет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grpSp>
        <p:nvGrpSpPr>
          <p:cNvPr id="1261" name="Diagram 5"/>
          <p:cNvGrpSpPr/>
          <p:nvPr/>
        </p:nvGrpSpPr>
        <p:grpSpPr>
          <a:xfrm>
            <a:off x="2799000" y="1775520"/>
            <a:ext cx="5300280" cy="4449600"/>
            <a:chOff x="2799000" y="1775520"/>
            <a:chExt cx="5300280" cy="4449600"/>
          </a:xfrm>
        </p:grpSpPr>
        <p:sp>
          <p:nvSpPr>
            <p:cNvPr id="1262" name="_s1028"/>
            <p:cNvSpPr/>
            <p:nvPr/>
          </p:nvSpPr>
          <p:spPr>
            <a:xfrm flipV="1">
              <a:off x="4918680" y="1775520"/>
              <a:ext cx="1060560" cy="889920"/>
            </a:xfrm>
            <a:custGeom>
              <a:avLst/>
              <a:gdLst>
                <a:gd name="textAreaLeft" fmla="*/ 380520 w 1060560"/>
                <a:gd name="textAreaRight" fmla="*/ 680040 w 1060560"/>
                <a:gd name="textAreaTop" fmla="*/ 319320 h 889920"/>
                <a:gd name="textAreaBottom" fmla="*/ 570600 h 88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3eacf">
                <a:alpha val="50000"/>
              </a:srgbClr>
            </a:solidFill>
            <a:ln w="57240">
              <a:solidFill>
                <a:srgbClr val="e3ea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766f54"/>
                  </a:solidFill>
                  <a:latin typeface="Arial"/>
                </a:rPr>
                <a:t>Первинні провайдер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_s1029"/>
            <p:cNvSpPr/>
            <p:nvPr/>
          </p:nvSpPr>
          <p:spPr>
            <a:xfrm flipV="1">
              <a:off x="4388400" y="2665440"/>
              <a:ext cx="2121480" cy="889920"/>
            </a:xfrm>
            <a:custGeom>
              <a:avLst/>
              <a:gdLst>
                <a:gd name="textAreaLeft" fmla="*/ 466560 w 2121480"/>
                <a:gd name="textAreaRight" fmla="*/ 1654920 w 2121480"/>
                <a:gd name="textAreaTop" fmla="*/ 195480 h 889920"/>
                <a:gd name="textAreaBottom" fmla="*/ 694440 h 88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b9318">
                <a:alpha val="50000"/>
              </a:srgbClr>
            </a:solidFill>
            <a:ln w="57240">
              <a:solidFill>
                <a:srgbClr val="fb93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766f54"/>
                  </a:solidFill>
                  <a:latin typeface="Arial"/>
                </a:rPr>
                <a:t>Вторинні провайдер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_s1030"/>
            <p:cNvSpPr/>
            <p:nvPr/>
          </p:nvSpPr>
          <p:spPr>
            <a:xfrm flipV="1">
              <a:off x="3859560" y="3555360"/>
              <a:ext cx="3178080" cy="889920"/>
            </a:xfrm>
            <a:custGeom>
              <a:avLst/>
              <a:gdLst>
                <a:gd name="textAreaLeft" fmla="*/ 551520 w 3178080"/>
                <a:gd name="textAreaRight" fmla="*/ 2626560 w 3178080"/>
                <a:gd name="textAreaTop" fmla="*/ 154440 h 889920"/>
                <a:gd name="textAreaBottom" fmla="*/ 735480 h 88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b4a18">
                <a:alpha val="50000"/>
              </a:srgbClr>
            </a:solidFill>
            <a:ln w="57240">
              <a:solidFill>
                <a:srgbClr val="fb4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766f54"/>
                  </a:solidFill>
                  <a:latin typeface="Arial"/>
                </a:rPr>
                <a:t>Провайдери</a:t>
              </a:r>
              <a:r>
                <a:rPr b="1" lang="en-US" sz="2600" spc="-1" strike="noStrike">
                  <a:solidFill>
                    <a:srgbClr val="766f54"/>
                  </a:solidFill>
                  <a:latin typeface="Arial"/>
                </a:rPr>
                <a:t> </a:t>
              </a:r>
              <a:r>
                <a:rPr b="1" lang="uk-UA" sz="2600" spc="-1" strike="noStrike">
                  <a:solidFill>
                    <a:srgbClr val="766f54"/>
                  </a:solidFill>
                  <a:latin typeface="Arial"/>
                </a:rPr>
                <a:t>інших рівні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_s1031"/>
            <p:cNvSpPr/>
            <p:nvPr/>
          </p:nvSpPr>
          <p:spPr>
            <a:xfrm flipV="1">
              <a:off x="3329280" y="4445280"/>
              <a:ext cx="4239000" cy="889920"/>
            </a:xfrm>
            <a:custGeom>
              <a:avLst/>
              <a:gdLst>
                <a:gd name="textAreaLeft" fmla="*/ 637560 w 4239000"/>
                <a:gd name="textAreaRight" fmla="*/ 3601440 w 4239000"/>
                <a:gd name="textAreaTop" fmla="*/ 133920 h 889920"/>
                <a:gd name="textAreaBottom" fmla="*/ 756000 h 88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a53010">
                <a:alpha val="50000"/>
              </a:srgbClr>
            </a:solidFill>
            <a:ln w="57240">
              <a:solidFill>
                <a:srgbClr val="a530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766f54"/>
                  </a:solidFill>
                  <a:latin typeface="Arial"/>
                </a:rPr>
                <a:t>Індивідуальні клієн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_s1032"/>
            <p:cNvSpPr/>
            <p:nvPr/>
          </p:nvSpPr>
          <p:spPr>
            <a:xfrm flipV="1">
              <a:off x="2799000" y="5334480"/>
              <a:ext cx="5300280" cy="890280"/>
            </a:xfrm>
            <a:custGeom>
              <a:avLst/>
              <a:gdLst>
                <a:gd name="textAreaLeft" fmla="*/ 723600 w 5300280"/>
                <a:gd name="textAreaRight" fmla="*/ 4576680 w 5300280"/>
                <a:gd name="textAreaTop" fmla="*/ 121320 h 890280"/>
                <a:gd name="textAreaBottom" fmla="*/ 768960 h 89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de7e18">
                <a:alpha val="50000"/>
              </a:srgbClr>
            </a:solidFill>
            <a:ln w="57240">
              <a:solidFill>
                <a:srgbClr val="de7e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766f54"/>
                  </a:solidFill>
                  <a:latin typeface="Arial"/>
                </a:rPr>
                <a:t>Мережі-клієн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іктор Смоляк</dc:creator>
  <dc:description/>
  <dc:language>en-US</dc:language>
  <cp:lastModifiedBy>Смоляк Віктор</cp:lastModifiedBy>
  <dcterms:modified xsi:type="dcterms:W3CDTF">2014-03-07T11:55:0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