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971-5A72-4703-9E4F-074F7ACE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F97-0C28-488F-9EDD-9B481039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8CDA2-86E7-4AC7-9191-E5B97950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27634-A8B1-4B41-89AC-49594651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013FE-79C9-4198-9226-9BC7C01A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521FB-DCA2-480D-866C-0CDA019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F1032-08B6-49EC-A477-90A0C6D7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4BB67-B39C-44BC-80E5-D5DCFFF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E4350-CCCF-4BCA-9886-A9D428B5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ED477-EE8A-46B0-BED4-3DD4A604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F0CFF-EB7F-4A1F-AA90-3EB1D170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9797-8FCC-4CC9-91C3-D32267FD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D19-EA2A-46CE-BD4D-42E5C510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74C1A-AEA5-4961-AA74-EB9FBE79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8F16D-F6C9-4311-9013-92B7ABD5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17FA9-77EE-43B7-80F3-943DA39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E78A1-C951-451E-92ED-116D26B5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F8E00-D5AC-4386-8596-06758B86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7FDAD-4092-4B8D-9CF5-E63F8C66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5E4C2-C52A-4801-9559-5A3DFEAF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DC073-E403-44A7-AFF4-EF726F5E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52FBC-1B73-4155-8E00-9143B396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5A412-7EF0-4513-9594-4A6A2D96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91F-B108-43D6-A4C0-A51B8BED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10A25-4518-4322-B03F-31661731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A8EDA-8B22-4BBB-83B5-52414CE7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29123-47E1-483C-B2A7-2A22DDB2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E0DAC-CBE0-473E-AB0F-DF148F1F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C6B60-16CA-4771-BBC1-45FD6A6F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06CD3-B7BC-4D5F-B5AD-05579D85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E8605-9F84-428A-AD1E-18B4EFA8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E31BE-6A5F-4C1B-92B0-74E01403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AC234-285A-4E1C-9CB4-112CB235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5E9E7-8235-456B-8044-600351AC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DBC8-7109-4B43-8B10-AD9A8BB2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CD1BF-07C7-4C41-A219-57B85779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972E-8E2D-4828-910E-B9FB9A9D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B24B-F0A3-4E76-913A-077AF26A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ACBD8-F2D8-44FE-A387-B6E3B0FA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B8B38-EE3A-4EC2-A149-CDFD0BDD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4C97A-969D-4A33-9CD8-F355414D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EABBD-019D-4C30-88E9-65112E03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926F8-C8D7-47A0-AAC5-9C96AEF7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AF64B-630D-4B92-98EF-5DB5E681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2D5D8-0503-4DB3-8326-144D3166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AA23-AB54-46C4-BA95-DCF3AE42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98B9E-B85F-4B73-9747-FCCF3B0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0AE4F-104E-4C88-952A-E51B951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C6CB2-905A-4E91-B69B-7B0F5083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62018-F755-4605-A33F-F2E97BF7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88300-C0B4-4381-9E6C-456CC12F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AACD4-7367-471F-BB32-8C9E0550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57C7E-37A2-4AFD-93D6-BEE1068F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4A75F-A6C4-42EE-A36C-E5E73FAF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1094F-9009-4079-9E5C-E735E09E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6420B-EC1F-4E04-AF85-81C94D29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9D6C-2CF1-4FCC-B0D3-98060B07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DDC44-81F9-4D60-9755-C8239B65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31890-E292-4DD0-B327-A5D2AB70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12A76-4F67-41A4-B977-6E80C740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8FFA8-7431-4C9E-9C22-DD1477D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A1E1C-73E2-43DC-9344-54FB58F0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A12C1-DB39-4956-AF38-0EEECD3F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97780-FE52-4A60-8AB0-EE5FF9A4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7A83D-0FD3-4652-B8A1-596ADFAE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51C00-187B-4D03-BCF1-D45D6CCE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FECBE-C485-447A-BCB5-46CFC9C3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67B2-A069-493F-ADFF-EC85A71E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D7B1B-FBD6-4114-81F4-932FB83A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B9389-B891-4CCC-9003-1EA29552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3CC47-7565-4B6E-B7C1-076CADEC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6B75A-C00C-4098-A2D7-43679B6D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1A196-B3BC-42D0-AC45-112D0BD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11527-C4FC-4672-A570-0658686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B0DB7-C4BE-4BA5-860B-1BBA25C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714F9-BE3A-4CFD-AC7B-9CAA04A6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2DC19-5BC9-4B1A-A211-99F720ED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80C12-C324-4E94-918A-6580B704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5B4E-F69A-418D-93DA-1673C847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23888-F961-42D9-A45A-04465FEA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679AB-D88F-47F9-98DB-9968853D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85148-0C86-47A4-9B4C-9372A5B6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450E0-2044-4BE3-801D-176E7B45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89DF3-2D80-42EB-A589-CFE3B85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FEFA7-1B16-4AC1-BE25-07077CB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E8DBB-907F-49F1-BCCC-9D45ACE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AE0C2-0ED8-457F-8556-340A8758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13B73-974D-417D-AE19-65BC907F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A23AC9-046B-48CC-A07E-90897D9F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B6D9-CA36-415C-B1FB-42BF3E61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A3949-5FAF-4BE4-91B0-AA5BCA8D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3B4AC-3E92-479E-BDDD-DCFBA83D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568FB-F0F4-4C7B-947D-73C678EF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4139E-96F0-4F51-9C22-8F37D13F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E43B1-4080-48EA-9319-4A6A9BCE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61DB08-B87D-4B05-A6CF-4284FDA2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B19F9-05CE-4A38-955D-F21E4145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99002-B106-4DA3-BF93-F9CF85D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1E4DC-14C8-4740-B770-3D38AC9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F227A-6F29-439C-B435-4BEC29D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5878-7933-4D80-8EA0-8E093369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F39D0-D1C8-425D-BAB8-5599CDE0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03DAE-96C2-4627-92F8-ABEEAB1E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ECE40-F234-464E-BAAF-AF650DCB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C4104-3A51-4506-B503-8F2E15C5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0A8DBE-E4D8-4E55-9327-3ADA6076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921D1-5C55-48AD-8911-FBF38408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A8816-BAF0-4D77-849D-AF8DAD59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56A9E-76A5-4E29-B5DB-9B356CFC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AB2E1-C769-4966-91AF-0FE5326D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998E3-2845-4BDB-B5E8-8EC8667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D09-93C0-4AD0-A4D8-1C64FEA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6AF5-F965-45C7-BD79-AFC1D35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37007-053A-41C6-93AE-B5D76EB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EF560-8FF2-47FF-9338-CBB01691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ED402-EADC-45F6-A8FE-839EDEC2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86DD1-A5AC-44E7-BA6B-D7FDDD1C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8E495-DE99-498B-B3C6-A437F094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5E01A-0CE9-4090-BEB1-F6B4F438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04667-9C3F-4906-AB3E-39ADB7B8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D0409E-D30C-4690-9E9D-6D4CE80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138C3-D0B6-4DE4-B4A1-FCEE3F22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832E0-94A0-433D-B27A-DC8003CF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BA69-77F4-4A9B-8126-23B9EDD1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43917-9B01-4AB8-9844-03040EDB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C64E6-D2C7-4C06-9F03-5B8833A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09552-7C38-4A38-BE3D-A48E511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3D508-3F1F-4353-80E8-636567D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D6F35-3599-4900-9356-1A895789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79F3B-2719-4310-9434-CD62416D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80D45-C9AB-460F-A557-4E3F229F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B143-B40B-44E0-8A4E-E40B2855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4941-D9E0-46DC-8014-F49BF4F5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C67A-DFFE-4597-BC36-DAD2324F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B042C-F1AD-44F4-8084-F6E4F1D8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180F-1F10-4495-A923-7C936BF5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BE27-5483-424C-9BF3-0C44A561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0B39E-0308-45D1-A19A-D69836C9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DB3E-CBE2-49EF-9EB3-0BA3AC17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C4E-6653-4977-BEEA-1CE4EFC5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0739-048A-4606-B23E-3A8353CD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53FF-551C-4279-AE9F-0F7484C7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E1A52-3DD0-436F-9F29-3A574234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2560-4D4B-46AF-9195-F673871C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9084-A802-4A5E-AD7C-7FF78761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246F0-5FAA-4D6A-8E61-D609E926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F5F3-414D-4FC2-9E20-98FADD8A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EE601-157A-485B-8C3C-3A54F4A8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249C4-6E34-4F7A-897F-BC056F9D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8DA4-25B8-466D-8D13-8D023644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08A-05F5-41E7-84F0-087DA15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66B6-64B0-4496-A1EB-F1957C9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13FD-8355-4BAA-95DC-50DB8E54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E4C1-63D2-4EBB-BAAD-0F3AA1F4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49A7-4136-4098-AA72-D786DDF4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8D89-9675-4BB2-B005-F993DB4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5A17B-A105-46E3-97D0-66DEC789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5677-2AAC-427F-849C-C5FBFE29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A2CF6-B984-4201-8361-4651CD94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6CE8F-9FB8-4D10-8420-DB06BA7E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7E215-35E1-4BD9-9EAB-DB35D8E4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332E-B2CA-4558-8147-E9B5554E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8E57-FBFB-4720-8B4E-CE42955A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B973-595F-409B-AE72-70E2BD82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DD1D-580F-4B9A-A3D5-E5237FEB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6535-F762-4EB1-A660-D784CB7E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E15F-8420-497C-8B09-18372DA5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E898-6782-4468-AFBD-5A951C9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284BB-37BC-41BE-80C7-E91A124F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0858-3ACE-4212-9C0C-E0A25F11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6ED45-EEB1-4000-B9F5-EAC7FED8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12555-6D62-4619-9F93-08AE8B58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DD9-6D7C-485D-9D0F-C568F2AE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6944F-8B07-4694-A175-FAFEB1A7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189B-EE1F-4986-95FE-3E710624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1AB6-11D5-432B-A070-EA63D441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A6D33-E23C-4682-AF42-16F53D0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7055-199E-4339-9724-5D28EAF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872D-0E3A-459C-A72A-19EEA5F7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CE3D-D9C0-49A5-9F93-71F9AAA0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87390-8990-45B4-A5C9-D30C8852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394DA-A2B8-4AAA-B373-95A45D41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DAFCC-95FF-48D7-8348-3286B256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B08-C3DF-43E0-AA41-E448503A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DB6BC-BC6B-4A67-938D-9449C703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578C6-AF60-4FCC-9D77-6A30DC76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372F-C635-43B1-869F-81D3BC19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8C974-F547-4EA7-A7A8-2A1FCDAC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C277B-8960-4993-92E2-8D998BE4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7F85E-4573-4E9A-8DFF-ABFAF183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AED03-1B03-4814-8305-489995D2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C7633-9BE9-44FE-A9DB-D3EC224B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5480-3178-406A-A439-6D5F9D5A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2BDB5-539F-42DF-BC17-E74119D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7CF-B787-45F5-9B21-2432CB2F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CB10A-F04E-41E2-B583-FB4CBA7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256D6-3CFA-426E-80E5-B071D0F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14A19-72FC-4FAC-90CE-9AA42A9B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D7184-8CF1-49C1-BC5E-4889FB2F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4F36F-3410-450C-AB07-33C4A151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4CBE-778A-4CE1-B475-4DC85A7B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139C0-B5A3-47C7-AB82-9936971E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FFC27-4C13-4DE2-8230-C372CB1B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AE9B-2D19-4573-A078-7FB149F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923F-7333-4B19-90FB-49727AC6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787-F294-4CE9-8219-1E9454D4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CB7E9-C18B-45D0-AB74-C20CCA50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EB5C1-DD4A-4712-8E9A-FD4FAE7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B728E-ABA8-4499-8048-6CB755F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78890-89EA-4F9C-A57F-9B2FE492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5E3EB-9AC2-4459-821D-0490FA78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6FF67-79D7-4BCD-9C8C-5D853338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D4966-EA1E-49D0-9133-30D6DFED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CD1AC-4915-461C-B3CB-F59AF56C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55AE-319C-4C2B-BD9B-3C8DAE98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586C9-233A-49F5-B62A-6951E75E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94EC-652E-4877-B4E4-6AFF15F9C90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925E-91C1-4398-9977-BFE66E0553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FD65-A51E-42E1-889D-0A3DAE5DBE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C19D-2E00-4EC1-87C5-556E09F472E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7DBE-18D0-4806-BBEC-9FB521B9BA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C70-824D-4B67-9D2D-D71C3AE80E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5F35-4A3F-4647-9AA6-474610B737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40F4-6E6E-44F7-B5A8-C762F7FCB4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F7B2-E6EF-47BE-AF8B-0ECA16F98DB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C731-B7BE-4E4D-93FC-87E8B074C5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53CE-4760-4C57-AB73-8AA082CFC5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EFDA-F7A5-4494-BF07-0FEC887C42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1542-FF74-42BE-A7CD-F27892A39A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B7C4-A72C-478F-9129-0722414AF5A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6272-3BFB-4213-9B54-33BDC595E6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77ED-4157-4D2C-8624-E6F6A202A0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5C6F-1005-4455-8219-3C95CAB614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A12-7C62-4A11-AA6E-45A88AE4DC5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on.gov.ua/" TargetMode="External"/><Relationship Id="rId2" Type="http://schemas.openxmlformats.org/officeDocument/2006/relationships/hyperlink" Target="http://kharkivosvita.net.ua/" TargetMode="External"/><Relationship Id="rId3" Type="http://schemas.openxmlformats.org/officeDocument/2006/relationships/hyperlink" Target="http://www.testportal.gov.ua/" TargetMode="External"/><Relationship Id="rId4" Type="http://schemas.openxmlformats.org/officeDocument/2006/relationships/hyperlink" Target="http://zno-kharkiv.org.ua/" TargetMode="External"/><Relationship Id="rId5" Type="http://schemas.openxmlformats.org/officeDocument/2006/relationships/hyperlink" Target="http://ruodzer.narod.ru/" TargetMode="External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ostriv.in.ua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778040" y="3276360"/>
            <a:ext cx="73627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ема. Призначення і структура мережі Інтернет. Служби Інтернету. Всесвітня павутина. Адресація в Інтернеті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45" name="Рисунок 1" descr=""/>
          <p:cNvPicPr/>
          <p:nvPr/>
        </p:nvPicPr>
        <p:blipFill>
          <a:blip r:embed="rId1"/>
          <a:stretch/>
        </p:blipFill>
        <p:spPr>
          <a:xfrm>
            <a:off x="1784520" y="304920"/>
            <a:ext cx="57150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Якість доступу до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отреба у збільшенні швидкості передавання дан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Це можливо шляхом прокладання нових магістральних каналів зв'яз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Адресація в Інтернеті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ІР-адреси (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nternet Protocol Address) – </a:t>
            </a: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адреси комп'ютерів у мережі Інтернет згідно з Інтернет-протоколом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ІР-адреса складається з 4-х чисел від 0 до 255 кожне, розділене крапками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 u="sng">
                <a:solidFill>
                  <a:srgbClr val="404040"/>
                </a:solidFill>
                <a:uFillTx/>
                <a:latin typeface="Century Gothic"/>
              </a:rPr>
              <a:t>Приклади: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66.249.93.104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193.109.248.70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82.144.233.61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тандарти ІР-адресації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Pv4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ternet Protocol version 4)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 – стандарт, у якому використовуються 4 цілих числа від 0 до 255, розділених крапками (протокол Інтернету версії 4)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Можливість використання понад 4 млрд. унікальних адрес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тандарти ІР-адресації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Pv6 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nternet Protocol version 6)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– новий стандарт, у зв'язку із стрімким ростом користувачів Інтернету задля унеможливлення завершення вільних ІР-адрес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Цей стандарт передбачає для запису ІР-адрес 8 цілих чисел від 0 до 65 535, розділених двокрапками (протокол Інтернету версії 6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Pv6 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адреси показуються як вісім груп по чотири шістнадцяткові цифри, розділених двокрапками. Приклад адреси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1" lang="uk-UA" sz="2000" spc="-1" strike="noStrike">
                <a:solidFill>
                  <a:srgbClr val="404040"/>
                </a:solidFill>
                <a:latin typeface="Century Gothic"/>
              </a:rPr>
              <a:t>2001:0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db8:11a3:09d7:1f34:8a2e:07a0:765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Практична робота. Алгоритм перегляду </a:t>
            </a:r>
            <a:r>
              <a:rPr b="0" lang="en-US" sz="2900" spc="-1" strike="noStrike">
                <a:solidFill>
                  <a:srgbClr val="262626"/>
                </a:solidFill>
                <a:latin typeface="Century Gothic"/>
              </a:rPr>
              <a:t>IP-</a:t>
            </a: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адреси комп'ютера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ідкрити вікно Мережне оточе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ибрати команду Показати мережні підключення у списку Мережні завда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ідкрити вікно Підключення локальною мережею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Обрати команду Підтрим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Обрати кнопку закрит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Вигляд вікна перегляду ІР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8" name="Рисунок 3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22772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Доменні адреси в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828440" y="19047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ІР-адреса веб-ресурсу – 193.293.159.109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Доменна адреса –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hotographers.com.u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1" name="Рисунок 2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1136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Доменні 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 ресурсу в мережі, яка записана з використанням слів або їх скорочень, що розділені крапкою, називається доменним імене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менн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і імен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Міністерство освіти і науки Україн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www.mon.gov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правління освіти Харківської міської рад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http://kharkivosvita.net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країнський центр оцінювання якості осві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3"/>
              </a:rPr>
              <a:t>http://www.testportal.gov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Харківський регіональний центр оцінювання якості осві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4"/>
              </a:rPr>
              <a:t>http://zno-kharkiv.org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правління освіти Дзержинської районної у м. Харкові рад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5"/>
              </a:rPr>
              <a:t>http://ruodzer.narod.ru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менн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і імен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Вікіпеді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Проект зі створення повноцінної і точної енциклопедії для дорослих та дітей -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ru.wikipedia.org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Острів знань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Шкільний Інтернет-портал, де все для навчання і не тільки: багато корисного як для учнів і батьків, так і для вчителів -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http://ostriv.in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Шкільна Інтернет-бібліотек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Проект організовано управлінням освіти Харківської міської ради. Цікаві програми вільного використання, корисні посилання на Інтернет-ресурси, повнотекстові літературні архіви - http://kharkivosvita.net.ua/content/4/40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Розгляд пита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ризначення й структура мережі Інтернет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ція в Інтернеті, поняття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P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и, доменного імені та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ротоколи Інтернет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Способи підключення до Інтернету, функції провайдер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истема доменних іме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 системі доменних імен визначені зони – домен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ласниками доменних імен можуть бути країни, регіони, організації або окремі особ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Частина доменного імені, що записана після останньої крапки, є доменом верхнього рівн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омени верхнього рівня визначені міжнародною угодо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омени верхнього рівня поділяють на два види – функціональні (за сферою діяльності) та національні (за приналежністю до країни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Види доменів верхнього рівн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1676160" y="191448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 u="sng">
                <a:solidFill>
                  <a:srgbClr val="404040"/>
                </a:solidFill>
                <a:uFillTx/>
                <a:latin typeface="Century Gothic"/>
              </a:rPr>
              <a:t>Функціональні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du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освіт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с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m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комерцій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net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організації, повязані з мережею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gov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урядов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rg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некомерцій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638320" y="20574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 u="sng">
                <a:solidFill>
                  <a:srgbClr val="404040"/>
                </a:solidFill>
                <a:uFillTx/>
                <a:latin typeface="Century Gothic"/>
              </a:rPr>
              <a:t>Національні домен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ua -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краї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ru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- Росі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u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- Європ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us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- СШ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e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- Німеччи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NS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 (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omain Name System) 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– система доменних іме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Зіставлення доменних імен і ІР-адрес виконується автоматично спеціальною мережнею службою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NS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95" name="Рисунок 1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229200" cy="3067200"/>
          </a:xfrm>
          <a:prstGeom prst="rect">
            <a:avLst/>
          </a:prstGeom>
          <a:ln w="0">
            <a:noFill/>
          </a:ln>
        </p:spPr>
      </p:pic>
      <p:pic>
        <p:nvPicPr>
          <p:cNvPr id="1296" name="Рисунок 2" descr=""/>
          <p:cNvPicPr/>
          <p:nvPr/>
        </p:nvPicPr>
        <p:blipFill>
          <a:blip r:embed="rId2"/>
          <a:stretch/>
        </p:blipFill>
        <p:spPr>
          <a:xfrm>
            <a:off x="1495440" y="320040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Адресація інформаційних ресурсів у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 інформаційного ресурсу в мережі Інтернет називається йог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-адресою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niform (Universal) Resource Locator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– фіксований (універсальний) вказник місцезнаходження ресурсу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пис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URL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У записі 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-адреси вказують назву протоколу, за правилами якого буде передаватися файл мережею, і шлях до ресурс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Шлях до ресурсу буде включати доменне ім'я або ІР-адресу, шлях до файлу на самому комп'ютері та ім'я файл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пис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URL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ротокол: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доменне ім'я 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шлях до файлу 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ім'я файл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03" name="Рисунок 1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91440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пособи підключення до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2438280" y="1978200"/>
            <a:ext cx="640080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 u="sng">
                <a:solidFill>
                  <a:srgbClr val="404040"/>
                </a:solidFill>
                <a:uFillTx/>
                <a:latin typeface="Century Gothic"/>
              </a:rPr>
              <a:t>Канали підключення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Телефонні канал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абельні канал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анали радіозв'яз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кріплення набутих зна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609120" y="1599840"/>
            <a:ext cx="3886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Зазначити помилкові ІР-адрес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95.11.134.178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23.256.123.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66-166-166-166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91.191.19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76.78.189.189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Rectangle 3"/>
          <p:cNvSpPr/>
          <p:nvPr/>
        </p:nvSpPr>
        <p:spPr>
          <a:xfrm>
            <a:off x="4343400" y="1600200"/>
            <a:ext cx="3886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Зазначити помилкові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web </a:t>
            </a: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адре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shumsk.at.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zhnyborody.te.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photographers.com.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photographers.com.ua/topic//fotograf-weerapong-chaipuck-455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Мережа Інтернет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(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inter – </a:t>
            </a: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між, 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network</a:t>
            </a: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 мережа; </a:t>
            </a:r>
            <a:br>
              <a:rPr sz="2400"/>
            </a:b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об'єднана мережа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Найбільша та найвідоміша з глобальних мереж, що об'єднує комп'ютери та комп'ютерні мережі на основі протоколів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CP/IP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 даними ООН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ількість світових користувачів складає понад 1 млрд., в Україні – понад 8 млн. населе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Мережні протокол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Мережний протокол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— це заснований на стандартах набір правил, що визначає принципи взаємодії комп'ютерів в мережі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токол також задає загальні правила взаємодії різноманітних програм, мережевих вузлів чи систем і створює таким чином єдиний простір передачі даних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Хост - будь-який вузол мережі, що відправляє або приймає дані через мережу (host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Хости взаємодіють між собою також за певними протоколам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уваженн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ля того, щоб прийняти і обробити відповідним чином повідомлення, необхідно знати як сформовані повідомлення і що вони означають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икладами використання різних форматів повідомлень в різних протоколах можуть бути встановлення з'єднання з віддаленою машиною, відправка повідомлень електронною поштою, передача файлі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розуміло, що різні служби використовують різні формати повідомлен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Основа апаратної структури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133360" y="2286000"/>
            <a:ext cx="5808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ackbone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аб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BNS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ery-high-performance Backbone Network Service –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найшвидкісна опорна мережна послуга) – високошвидкісні магістральні канали передавання дан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Основа апаратної структури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Передаванням даних цими каналами керують потужні суперкомп'ютери, які утворюють перший рівень доступу до мережі Інтернет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Організації, що обслуговують ці суперкомп'ютери  є первинними провайдерами (постачальниками) послуг Інтернету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Провайдер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До первинних провайдерів приєднуються провайдери наступних рівнів, які у свою чергу, забезпечують доступ до каналів Інтернету своїм клієнтам – користувачам, мережам і провайдерам нижчого рівня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За отриманням доступу до мережі Інтернет (підключенням) користувачі звертаються до місцевих Інтернет-провайдрів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Схема приєднання провайдерів до мережі Інтернет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261" name="Diagram 5"/>
          <p:cNvGrpSpPr/>
          <p:nvPr/>
        </p:nvGrpSpPr>
        <p:grpSpPr>
          <a:xfrm>
            <a:off x="2799000" y="1775520"/>
            <a:ext cx="5300280" cy="4449600"/>
            <a:chOff x="2799000" y="1775520"/>
            <a:chExt cx="5300280" cy="4449600"/>
          </a:xfrm>
        </p:grpSpPr>
        <p:sp>
          <p:nvSpPr>
            <p:cNvPr id="1262" name="_s1028"/>
            <p:cNvSpPr/>
            <p:nvPr/>
          </p:nvSpPr>
          <p:spPr>
            <a:xfrm flipV="1">
              <a:off x="4918680" y="1775520"/>
              <a:ext cx="1060560" cy="889920"/>
            </a:xfrm>
            <a:custGeom>
              <a:avLst/>
              <a:gdLst>
                <a:gd name="textAreaLeft" fmla="*/ 380520 w 1060560"/>
                <a:gd name="textAreaRight" fmla="*/ 680040 w 1060560"/>
                <a:gd name="textAreaTop" fmla="*/ 319320 h 889920"/>
                <a:gd name="textAreaBottom" fmla="*/ 57060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3eacf">
                <a:alpha val="50000"/>
              </a:srgbClr>
            </a:solidFill>
            <a:ln w="572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Первинні провайдер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_s1029"/>
            <p:cNvSpPr/>
            <p:nvPr/>
          </p:nvSpPr>
          <p:spPr>
            <a:xfrm flipV="1">
              <a:off x="4388400" y="2665440"/>
              <a:ext cx="2121480" cy="889920"/>
            </a:xfrm>
            <a:custGeom>
              <a:avLst/>
              <a:gdLst>
                <a:gd name="textAreaLeft" fmla="*/ 466560 w 2121480"/>
                <a:gd name="textAreaRight" fmla="*/ 1654920 w 2121480"/>
                <a:gd name="textAreaTop" fmla="*/ 195480 h 889920"/>
                <a:gd name="textAreaBottom" fmla="*/ 69444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b9318">
                <a:alpha val="50000"/>
              </a:srgbClr>
            </a:solidFill>
            <a:ln w="57240">
              <a:solidFill>
                <a:srgbClr val="fb93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Вторинні провайдер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_s1030"/>
            <p:cNvSpPr/>
            <p:nvPr/>
          </p:nvSpPr>
          <p:spPr>
            <a:xfrm flipV="1">
              <a:off x="3859560" y="3555360"/>
              <a:ext cx="3178080" cy="889920"/>
            </a:xfrm>
            <a:custGeom>
              <a:avLst/>
              <a:gdLst>
                <a:gd name="textAreaLeft" fmla="*/ 551520 w 3178080"/>
                <a:gd name="textAreaRight" fmla="*/ 2626560 w 3178080"/>
                <a:gd name="textAreaTop" fmla="*/ 154440 h 889920"/>
                <a:gd name="textAreaBottom" fmla="*/ 73548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b4a18">
                <a:alpha val="50000"/>
              </a:srgbClr>
            </a:solidFill>
            <a:ln w="57240">
              <a:solidFill>
                <a:srgbClr val="fb4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Провайдери</a:t>
              </a:r>
              <a:r>
                <a:rPr b="1" lang="en-US" sz="2600" spc="-1" strike="noStrike">
                  <a:solidFill>
                    <a:srgbClr val="766f54"/>
                  </a:solidFill>
                  <a:latin typeface="Arial"/>
                </a:rPr>
                <a:t> </a:t>
              </a: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інших рівні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_s1031"/>
            <p:cNvSpPr/>
            <p:nvPr/>
          </p:nvSpPr>
          <p:spPr>
            <a:xfrm flipV="1">
              <a:off x="3329280" y="4445280"/>
              <a:ext cx="4239000" cy="889920"/>
            </a:xfrm>
            <a:custGeom>
              <a:avLst/>
              <a:gdLst>
                <a:gd name="textAreaLeft" fmla="*/ 637560 w 4239000"/>
                <a:gd name="textAreaRight" fmla="*/ 3601440 w 4239000"/>
                <a:gd name="textAreaTop" fmla="*/ 133920 h 889920"/>
                <a:gd name="textAreaBottom" fmla="*/ 75600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a53010">
                <a:alpha val="50000"/>
              </a:srgbClr>
            </a:solidFill>
            <a:ln w="57240">
              <a:solidFill>
                <a:srgbClr val="a53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Індивідуальні клієн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_s1032"/>
            <p:cNvSpPr/>
            <p:nvPr/>
          </p:nvSpPr>
          <p:spPr>
            <a:xfrm flipV="1">
              <a:off x="2799000" y="5334480"/>
              <a:ext cx="5300280" cy="890280"/>
            </a:xfrm>
            <a:custGeom>
              <a:avLst/>
              <a:gdLst>
                <a:gd name="textAreaLeft" fmla="*/ 723600 w 5300280"/>
                <a:gd name="textAreaRight" fmla="*/ 4576680 w 5300280"/>
                <a:gd name="textAreaTop" fmla="*/ 121320 h 890280"/>
                <a:gd name="textAreaBottom" fmla="*/ 768960 h 89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de7e18">
                <a:alpha val="50000"/>
              </a:srgbClr>
            </a:solidFill>
            <a:ln w="57240">
              <a:solidFill>
                <a:srgbClr val="de7e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Мережі-клієн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іктор Смоляк</dc:creator>
  <dc:description/>
  <dc:language>en-US</dc:language>
  <cp:lastModifiedBy>Смоляк Віктор</cp:lastModifiedBy>
  <dcterms:modified xsi:type="dcterms:W3CDTF">2014-03-07T11:55:0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