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C20-9E7C-43AA-B137-59829C28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1BE-C4DB-4810-949E-913AB072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CEC-0C34-49A6-8269-2ED9CE49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636-CCBD-4DFB-B3B2-EDB827F8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9806-9840-43C4-8629-96A6FFE8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F022-6047-4471-BF1F-18BA941E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5973-FB74-4AAB-A695-81EDC786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1E74-6510-40C4-B19F-EFE7B6AE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3C10-F441-453B-9065-EC3E3730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E213-AAEC-4E41-9491-277C081A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689B-7A48-4366-A886-C68C6D2D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52C-22B6-48E6-A092-561893EF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4161-6CCD-4D20-9EE6-C20A7F21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CF9D-F477-4A8E-9E19-E74F5742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234C-0E0A-485E-93E8-D677915F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FD8A-787D-4121-9CBD-F675BF21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D90E-225D-4E06-8D72-4179FA24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618-24C6-42C4-916D-04938966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F0E-5FC3-4076-BD25-1466BB61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F87-9B6C-4B9E-85F0-E9A8B68C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A8E-AAF1-4D2F-8BA9-F1A33F58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024-7C01-40E1-A62B-31D6520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D11-FB9E-4F32-A075-4183832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C31-BE58-4703-8365-5A9E7B46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D410-16CD-4AA2-A287-E70A7F5F0B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B122-233E-4FFF-83C5-EE30CA3C09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фесі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5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V="1">
            <a:off x="3780000" y="4876560"/>
            <a:ext cx="1782720" cy="107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23640" y="5805000"/>
            <a:ext cx="41036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4895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55897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580000" y="6021360"/>
            <a:ext cx="30448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897440" cy="61722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962520" y="3124080"/>
            <a:ext cx="2514600" cy="2667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72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азва предмету в школ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688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1134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1479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692360" y="708120"/>
            <a:ext cx="63356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566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15T20:28:20Z</dcterms:modified>
  <cp:revision>10</cp:revision>
  <dc:subject/>
  <dc:title>Зовнішній пристрій</dc:title>
</cp:coreProperties>
</file>