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190-8C2D-4115-9DEE-2A278171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B1A-F47A-4925-8A74-5378B24C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5EA-3226-4D42-9136-ACA4AF1D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2226-3AEC-4B2F-87A1-A956DFB4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BD12-EBAA-42AC-9E48-36749D7E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FDC1-47F1-473F-B898-4B4D309A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B703-B34E-4EB8-8C8D-CFD83AAF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F433-6A77-4720-8BC4-C625577B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8241-D0B7-4EB5-AB4F-9EABDB99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E860-BB5D-4C9D-92A9-34361857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3530-A542-4575-A5CB-3AA263C3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670-FFDE-41C3-80D9-2469D8CE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73C3-0798-4DD2-B2F6-9B450F0A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8F68-5FF9-4A4A-B866-ED9B60D1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F17F-A81E-4534-B416-78DC62F6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3FA9-C60E-480C-B973-207E41E4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D907-15DC-4B0F-9EE8-8E2BB8B7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603-3B26-4D05-9037-54A8255C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2DF-00C4-4FD0-9A1D-C846F9E3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F7C-C9D4-437F-8419-CEC63FE3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220-FEC5-48DF-A2A0-577DB14E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CA4-49E8-4159-9C91-DD6A9EB2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3E3E-9CB7-49A3-BBAD-DE6C4BE9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2E1-4866-4BD1-87F1-E4A910FB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B284-70C9-4AED-BA2E-6D7FD19E5E9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1509-EEE7-44A5-9E8A-104E2E81ECD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офесі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5580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 flipV="1">
            <a:off x="3780000" y="4876560"/>
            <a:ext cx="1782720" cy="107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23640" y="5805000"/>
            <a:ext cx="410364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44895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4000" y="558972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истемна пап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987640" y="1268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580000" y="6021360"/>
            <a:ext cx="30448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97440" cy="61722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962520" y="3124080"/>
            <a:ext cx="2514600" cy="2667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2723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азва предмету в школ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6880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84000" y="5734080"/>
            <a:ext cx="414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511344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1479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692360" y="708120"/>
            <a:ext cx="63356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ограма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25668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User</cp:lastModifiedBy>
  <dcterms:modified xsi:type="dcterms:W3CDTF">2007-02-15T20:28:20Z</dcterms:modified>
  <cp:revision>10</cp:revision>
  <dc:subject/>
  <dc:title>Зовнішній пристрій</dc:title>
</cp:coreProperties>
</file>