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196-00C2-47AC-B51A-84E649B4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7E04-0E2E-43BE-B08F-809F9476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464D-5ED0-482D-8725-F02152DE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44B-1B2A-4ACE-B877-4E734A82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10E0-8AB8-41EE-92D2-5A892C52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EA88-C273-4EFE-B13B-5FD31BBA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8EE5-0D55-4A88-9DFB-5B6A91C5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3A70-F9AC-448B-8970-0058024A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901B-0C31-46E4-B3F3-3D15CA21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7235-5FBE-44EB-90B8-DFFF9D88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EEDC-44CA-4618-9D2C-F7E5F513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A01-DF35-4CE1-8458-5F5EF487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0042-A7DD-4777-909E-0D361C5A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734C-83FA-46E5-8648-4F05BB8A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7523-7F73-44FE-B4B1-0EC2B05F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66CC-BBFD-4439-9EF3-B3852F18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E042-691C-42E2-A246-2DF8D8D8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2677-9FCA-4B33-B2A2-9FD997B1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42B3-E29B-4538-A4EF-B5ACC2C1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B417-A77F-4533-85C3-43BB6707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202-7C7C-4C7E-8A36-60686620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BAE-E5B7-46BF-954A-8F060EA8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C00-5324-42A4-AB88-C89C5D60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880-B963-4C23-B735-2B093B19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D0BD-1B23-45FF-9F57-0AE14906FD2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2422-EA91-47FF-9432-46A57274AFB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5661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48624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5280" y="580500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643120" y="549360"/>
            <a:ext cx="33051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5280" y="6021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467840" cy="56404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H="1">
            <a:off x="5484960" y="2819520"/>
            <a:ext cx="915840" cy="32004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аніпулято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348000" y="1773360"/>
            <a:ext cx="27432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400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ограм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1055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Область екрану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38188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84000" y="5734080"/>
            <a:ext cx="414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47530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ноп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417672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5661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484360" y="1125360"/>
            <a:ext cx="42483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истемна папка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33051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User</cp:lastModifiedBy>
  <dcterms:modified xsi:type="dcterms:W3CDTF">2007-02-05T14:46:15Z</dcterms:modified>
  <cp:revision>5</cp:revision>
  <dc:subject/>
  <dc:title>Зовнішній пристрій</dc:title>
</cp:coreProperties>
</file>