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F21-585F-4FF7-A5DD-0506C3DE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87F-52C8-4B8D-9D87-0B3199FF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C01-54B2-477F-A7CC-649C877D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A07-0395-4D40-B4E8-6484D847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6A21-F881-48F8-B57E-6F91C2CC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3485-2A5A-41F7-B3A6-494C5260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8536-95AE-4980-8250-263ED63A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BAE6-C8D6-4002-9CEE-B5F92DBB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7158-4916-4EE7-A778-DE6A4255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79DB-3189-451E-A400-F0CDC205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D6CF-86FA-48C0-9EC4-7779259C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218-E184-4BC9-9471-ECD4EFD5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698D-76F8-4950-9229-6969AD24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F46A-51D7-4617-B5D4-662220F5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7A35-74B3-4FBD-BFAF-B18D6D22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B59F-82C9-4109-9378-CB6831D2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17C5-F6E7-43FE-B96E-C8D4169E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39D-083D-47F3-94DD-3600E146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B63-0349-40BA-8140-5BEEB6E5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3FB-D944-4A1A-BE52-06F4B43A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541-11DC-43C9-8B3A-A949699D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13D-C5A9-4D5B-BD58-22B6AE5E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106-C152-4AE4-8740-5A7859DC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354-FDA9-49EB-A0F6-C1ED5997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FC86-FE09-408C-8BB3-3CD5A343A7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4817-AFBB-4F5B-8B3A-71E93946E5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48624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580500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643120" y="549360"/>
            <a:ext cx="3305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467840" cy="5640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H="1">
            <a:off x="5484960" y="2819520"/>
            <a:ext cx="915840" cy="3200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27432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ограм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1055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ласть екрану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38188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84000" y="573408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7530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ноп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417672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484360" y="1125360"/>
            <a:ext cx="42483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33051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05T14:46:15Z</dcterms:modified>
  <cp:revision>5</cp:revision>
  <dc:subject/>
  <dc:title>Зовнішній пристрій</dc:title>
</cp:coreProperties>
</file>