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924-0EB9-4C52-A6EF-97D2C3AF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207-69F4-4E38-9CD4-519F17A6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5CE-A0C8-4FCD-B701-9618506C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C37-3358-423F-88BB-94558FC8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F7FA-F279-40BF-91EA-B22364D2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15D2-0DCE-476A-9BEE-3343383A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10EF-A50A-4419-9EDA-816E7DF7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20CE-1B68-42F5-B4EB-CAC970B9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79DD-2272-4F45-8EEC-20D72F82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0108-05E5-4F29-AB6F-41C47C84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6FC8-4963-4683-B0B2-ECE108D4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A88-181D-4CDB-BBE3-9013EC60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F9DE-5208-42F2-84F6-B31E1548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DE8E-7D8B-4E66-A134-D0AA87D3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C158-7110-484D-B6BA-1E4A1B5A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9EED-0ADC-437E-9C65-1A342729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3CBD-CEAA-43F5-BE52-12C4338A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08C-3285-465E-97C4-79FFBABD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E34-00BF-4F5D-BA13-6935F751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EF9-B4B0-42AC-AC32-94FF2B17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7EE-542B-4984-A663-B4F6C83D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977-83EF-4204-832B-B7AA74F3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94B-BFA3-4540-AD7B-A38F0332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AB1-069E-4B1A-94DA-161B4294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22F3-C1CE-4E5E-9BF9-5FBBE7730D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0C41-6F32-426A-824C-2E420CD634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Універсальний пристрій для обробки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32944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Декілька комп'ютерів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473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6021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467840" cy="56404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105520" y="1981080"/>
            <a:ext cx="379440" cy="4038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0556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42920" y="3068640"/>
            <a:ext cx="41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ебл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27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5661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на папка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48006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принте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72007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6093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Фонова область екран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96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9767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Тип моніто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743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15T20:44:12Z</dcterms:modified>
  <cp:revision>6</cp:revision>
  <dc:subject/>
  <dc:title>Зовнішній пристрій</dc:title>
</cp:coreProperties>
</file>