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CF6-9E17-489D-AFED-2A33D649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8A2-1E38-4046-96A0-5D561686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0572-D3BA-43D2-820C-BA200C0D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B57-A2AF-486F-BECA-9445E57E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D2AE-2FC2-43DF-80C9-3FC9D380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BBC8-5E88-4F61-A19E-AE47819C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21E8-FEE0-49A3-B230-4EDA0F68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C567-CA62-418F-8E51-14EF4F98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A010-ED88-43DE-BA7E-974C3160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6453-6E75-4D48-AAC6-C6A63B27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0DC6-4D68-4B06-8BB7-54C1FFA1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01D-E582-4C18-B4A2-EDF4DA7E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AFE6-7893-4D67-9D49-83A9A559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82AF-E152-4472-A187-A01F474C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F820-9653-4B10-B070-F9BC3B75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7D29-6B1A-4292-82CA-463F46FF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AA50-9A83-442A-9CC6-3C1B64B0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E86-8B7F-47EB-AC0A-84B7F301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446-245E-4395-BDE5-D23E32BF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7B8-9692-4201-A204-FFE658FE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2B8-859D-4CF4-8158-5DA8F8F1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AFE-D5C4-4065-B395-590AF22B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8E3-CD01-4609-B528-4006AB14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FFF-D24B-475E-BCA2-5F5F7BEA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0FC4-E88D-4424-8C11-EE52A6930D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67A0-6FAC-4392-967F-A5267422DC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Універсальний пристрій для обробки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2944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Декілька комп'ютерів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473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467840" cy="5640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105520" y="1981080"/>
            <a:ext cx="379440" cy="4038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42920" y="306864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ебл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27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48006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принте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72007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6093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Фонова область екран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96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976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Тип моніто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743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15T20:44:12Z</dcterms:modified>
  <cp:revision>6</cp:revision>
  <dc:subject/>
  <dc:title>Зовнішній пристрій</dc:title>
</cp:coreProperties>
</file>