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768-DDD9-4F7A-9F73-DB24515E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E00C-BFED-4288-8CCC-05CFBF60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A31-1F56-4064-A725-9EF25163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CE7C-F173-43B2-9DAA-879789BA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C2FB-957D-4BC4-9613-DF7C94BB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E81F-6669-4C70-BE42-D5DCD005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2AA4-F0F9-4839-AE8D-0C24941B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32C1-C50C-4D9E-B1AE-0A0BD2D5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B572-C6CE-409A-9CAC-F8438C60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D42F-1204-4959-816A-7C79C1F9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B13A-5CE0-4224-A5D4-512DBC8C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142-AD55-4175-93F2-605593BA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4874-0979-4704-BE13-00FAFA0E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12DE-B988-480B-BD25-44DA16DF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C40A-C934-439B-995B-B3102CCF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0D07-B0C4-4B99-AB5E-62454492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E06E-B1B9-48F2-AB49-A90EA8EF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CC55-699A-4F4D-B459-A1FE4439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BB8-E848-4C50-944B-51757138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6D3A-5201-4D1B-A04E-70BE93FD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8D3-2CA4-4FC9-B646-1602C287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2F8-DFE9-4760-9333-F1FFD175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0C5-E4AA-46CB-A016-4FCF6A07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56D-44A1-433A-9724-BF9E5BB7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C1D9-B9B2-4DF6-BB63-8C6BC202212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1930-46A5-4323-B9B5-C6FBDD84F10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058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128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принте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527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комп'ютер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5391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V="1">
            <a:off x="3708360" y="5013000"/>
            <a:ext cx="2075040" cy="93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аніпулято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89600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ла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Об'єкт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41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flipH="1">
            <a:off x="4643280" y="4149720"/>
            <a:ext cx="216000" cy="1727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24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128000" cy="53830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4572000" y="3068640"/>
            <a:ext cx="71280" cy="2808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3272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1116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User</cp:lastModifiedBy>
  <dcterms:modified xsi:type="dcterms:W3CDTF">2007-02-05T15:01:05Z</dcterms:modified>
  <cp:revision>5</cp:revision>
  <dc:subject/>
  <dc:title>Зовнішній пристрій</dc:title>
</cp:coreProperties>
</file>