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72A9-0A44-41E1-A005-AFECEE6D3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E992-AFC7-424E-928B-4B2B0DFC4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EFEC-E8FD-4C16-9203-DA7AC33F8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448B-65A4-4830-9E21-61CAF473A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8E509-AD3F-4654-BDFD-3FE799A37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8F680-F3FC-4630-B5C3-E990C3B7A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A36A6-8650-418A-8320-988A47734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DE0B8-E37C-4010-B86C-E5039F178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1C8F1-252E-4708-ABB0-8558A1F15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AC875-3AF1-43E2-ABF0-78DCDE161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6642F-0FB3-4263-AE8B-D62B14D1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600C-FB1F-4FA1-A5A7-997CCC944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39DDA-7647-488C-B44C-1EF443B5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1D7B7-AC0C-4E2A-BCC6-1A0E5601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59E04-F09D-49DD-9C55-79CD4FC8B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86630-CCD5-476A-B49B-2F6DE8751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3CCF9-F08F-44E6-A16D-BA47C8CC3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8ED8-0619-408B-B7E4-992DF5F3C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D603-6A1E-4BB6-9F21-47CA0E967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E519-449A-4873-BBA2-D7CBB4359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515F-5B28-43F2-9BFE-B01BDB109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359C-1556-42AB-9547-FCA7F1F0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196C-A2AF-49E6-BB9D-74F62349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BD8D-11D5-4A51-88CE-7D1DF20F8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24003-6620-44DA-B80A-666B9CE3069D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338DA-054F-4155-8A4A-C7B64796075D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Зовнішній пристрій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7705800" cy="49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1128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Різновид принтер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1763640" y="549360"/>
            <a:ext cx="552780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Різновид комп'ютера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209080" cy="539136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 flipV="1">
            <a:off x="3708360" y="5013000"/>
            <a:ext cx="2075040" cy="934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68360" y="573408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Маніпулятор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2268360" y="549360"/>
            <a:ext cx="4896000" cy="47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Прилад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7704360" cy="549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Об'єкт 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07280" cy="54180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 flipH="1">
            <a:off x="4643280" y="4149720"/>
            <a:ext cx="216000" cy="17272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Зовнішній пристрій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842472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Клавіш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7128000" cy="538308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4572000" y="3068640"/>
            <a:ext cx="71280" cy="28083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Носій інформації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7632720" cy="54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Носій інформації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1979640" y="260280"/>
            <a:ext cx="511164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5T20:17:48Z</dcterms:created>
  <dc:creator>Administrator</dc:creator>
  <dc:description/>
  <dc:language>en-US</dc:language>
  <cp:lastModifiedBy>User</cp:lastModifiedBy>
  <dcterms:modified xsi:type="dcterms:W3CDTF">2007-02-05T15:01:05Z</dcterms:modified>
  <cp:revision>5</cp:revision>
  <dc:subject/>
  <dc:title>Зовнішній пристрій</dc:title>
</cp:coreProperties>
</file>