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F371-CE46-4A0C-B9C0-8AA7BF7D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7122-1CFF-413D-BE70-825EA828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DBFE-4AE3-4451-A300-BE839B07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8689-7C81-4372-9AD3-73576859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B311-8775-458F-89E9-177B864B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17A9-1254-474C-897C-8C106B92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1406-ED07-42D4-A0B3-6B1490AB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72FD-54C5-4126-96EB-2E857149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6608-5950-4D43-8487-2C1132DA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092F-98CB-4605-959D-401B9951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C9E0-D514-4287-897F-694BD518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6D5F-5493-4085-A95F-90805CF3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EC94-E55C-4221-B3C2-C6E14467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9348-49BB-4529-B7DF-C16A5857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698A-B3C4-410F-A2D6-6F5ED2FF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4C30-663D-488C-8E3F-FAF99BF4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AE77-6183-46C3-BC60-F5003741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AEDA-C01C-41C3-B0F9-F5C196D0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05A0-0240-4B22-B7F0-942477DB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797E-ED1A-4FD6-9E95-50E83D99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9967-5052-4C37-9F6D-AECFFF0A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550E-F428-465E-936B-60D7786D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11D3-BB2C-4C3C-B744-67221DAF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AE68-D9BD-429F-9424-C976B1BE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36CF-2A36-48F4-9192-BCF797D119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1DD2-5590-4478-AF8D-D4D236D925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000000"/>
                </a:solidFill>
                <a:latin typeface="Arial"/>
              </a:rPr>
              <a:t>Інтелектуальна гра </a:t>
            </a:r>
            <a:br>
              <a:rPr sz="5000"/>
            </a:br>
            <a:r>
              <a:rPr b="0" i="1" lang="uk-UA" sz="5000" spc="-1" strike="noStrike">
                <a:solidFill>
                  <a:srgbClr val="000000"/>
                </a:solidFill>
                <a:latin typeface="Arial"/>
              </a:rPr>
              <a:t>з інформат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8360" y="3860640"/>
            <a:ext cx="79930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_AlbionicExp"/>
              </a:rPr>
              <a:t>"ЕВРИКА"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_AlbionicExp"/>
              <a:ea typeface="a_AlbionicExp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533520" y="380880"/>
            <a:ext cx="830556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курс “Тема”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914040" y="14475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паратна частин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ераційна система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лавіатур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мп’ютерні термін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екстовий процесо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34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79280" y="2852280"/>
            <a:ext cx="874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500" spc="-1" strike="noStrike">
                <a:solidFill>
                  <a:srgbClr val="000000"/>
                </a:solidFill>
                <a:latin typeface="Arial"/>
                <a:ea typeface="Times New Roman"/>
              </a:rPr>
              <a:t>Чи потрібно вивчати інформатику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500" spc="-1" strike="noStrike">
                <a:solidFill>
                  <a:srgbClr val="000000"/>
                </a:solidFill>
                <a:latin typeface="Arial"/>
                <a:ea typeface="Times New Roman"/>
              </a:rPr>
              <a:t>у школі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826920" y="692280"/>
            <a:ext cx="7504200" cy="18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курс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Точка зору"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ітлана</cp:lastModifiedBy>
  <dcterms:modified xsi:type="dcterms:W3CDTF">2013-03-23T13:43:41Z</dcterms:modified>
  <cp:revision>6</cp:revision>
  <dc:subject/>
  <dc:title>PowerPoint Presentation</dc:title>
</cp:coreProperties>
</file>