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631B-725D-4EEE-AC34-60D10A82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3546-09E7-46B4-ADA2-41F9DF21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CBF7-1AD8-4F88-80DD-DEB916CA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2FDE-470E-4A0B-A900-C1781618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689F-E2DD-4E9E-8EE3-AD3BB541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9753-AA81-4B9B-910D-F4196FC6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518A-DB37-4A90-A16A-2E89F42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C1E7-6FEF-4213-BF0B-86D40CA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FCF4-EB2B-4C9D-955C-CE263D9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706F-3AA3-4988-9704-2CAEDE95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AABB-66A5-4064-BD7A-30F0765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1ED6-3B54-47F2-A147-861F7E0F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CCD7-C87C-4178-8002-713A9B0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0204-096F-48E2-8E2C-3CC25660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E4F-01F3-44F6-AEAA-D1F5DA9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952E-22A7-434B-AA7C-46A0E05F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B5B3-FE40-4BF7-9647-B4FD3BFD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1589-8660-43A5-BB3D-E71B7E4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8C36-9D03-4A95-A2CD-99AFA805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0C12-4327-4C45-8976-F7B6619B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5202-C667-4707-B644-36C0B5E3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07C9-27D1-4658-9D0C-D130721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F35A-F8F9-46EE-BF0E-A3D61CF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8646-74B6-4125-8A5B-3C47863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6D34-093F-4AD1-AC26-8B4EC1E87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2F35-3CC3-4350-98F5-109F07E04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000000"/>
                </a:solidFill>
                <a:latin typeface="Arial"/>
              </a:rPr>
              <a:t>Інтелектуальна гра </a:t>
            </a:r>
            <a:br>
              <a:rPr sz="5000"/>
            </a:br>
            <a:r>
              <a:rPr b="0" i="1" lang="uk-UA" sz="5000" spc="-1" strike="noStrike">
                <a:solidFill>
                  <a:srgbClr val="000000"/>
                </a:solidFill>
                <a:latin typeface="Arial"/>
              </a:rPr>
              <a:t>з інформат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8360" y="3860640"/>
            <a:ext cx="7993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_AlbionicExp"/>
              </a:rPr>
              <a:t>"ЕВРИКА"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_AlbionicExp"/>
              <a:ea typeface="a_AlbionicEx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533520" y="380880"/>
            <a:ext cx="830556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курс “Тема”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91404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паратна части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ераційна система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лавіатур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мп’ютерні термі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екстовий процесо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34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79280" y="2852280"/>
            <a:ext cx="874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500" spc="-1" strike="noStrike">
                <a:solidFill>
                  <a:srgbClr val="000000"/>
                </a:solidFill>
                <a:latin typeface="Arial"/>
                <a:ea typeface="Times New Roman"/>
              </a:rPr>
              <a:t>Чи потрібно вивчати інформатику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500" spc="-1" strike="noStrike">
                <a:solidFill>
                  <a:srgbClr val="000000"/>
                </a:solidFill>
                <a:latin typeface="Arial"/>
                <a:ea typeface="Times New Roman"/>
              </a:rPr>
              <a:t>у школі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26920" y="692280"/>
            <a:ext cx="750420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курс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очка зору"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ітлана</cp:lastModifiedBy>
  <dcterms:modified xsi:type="dcterms:W3CDTF">2013-03-23T13:43:41Z</dcterms:modified>
  <cp:revision>6</cp:revision>
  <dc:subject/>
  <dc:title>PowerPoint Presentation</dc:title>
</cp:coreProperties>
</file>