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8C2-388E-4FD0-B2FE-57480D0D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02F-E6BC-4BE8-874D-5500463B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4EE-F0AB-44D0-89D9-5E0DF9BC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C7F-FDF4-44B6-89DD-6B79CE0F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BBCF-3141-46DC-81F1-8B4BF075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30EC-D9A0-44BF-9403-11EBD0DE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3569-0D1E-4C67-82F6-395D727B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5B98-7593-434E-9916-F4D21C03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91BE-95B5-4F9E-8A57-632068C6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5F4F-F46B-449E-AF26-CC4649A7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135C-599A-4EB0-9981-5D32D38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35A-C80F-4D62-B559-3235BF45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A12A-F221-4551-BED7-D75B55DA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442C-897D-4BAC-9480-1E5AB60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9D6E-BA3C-471E-877A-4C374552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75F3-2D2B-48E5-A455-BCB16A21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FFFC-013E-4A32-9E6E-8081718A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024-6E3C-48BA-9498-C61EF49F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15A-F516-4B74-A754-943487C4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BE0-69DB-4202-A868-DD0BB109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08F-09F4-409F-B950-9636729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AA5-2BB5-4633-AC9C-1282AFB1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C36-D1E6-4904-B11B-0797A352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494-252F-4A37-8269-162E19C0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4D02-E66A-42B2-BF1F-18637E4339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0D1A-840D-431D-B0E0-0A670D897F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48624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643120" y="549360"/>
            <a:ext cx="3305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467840" cy="5640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H="1">
            <a:off x="5484960" y="2819520"/>
            <a:ext cx="915840" cy="3200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7432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1055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ласть екран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818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7530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но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417672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42483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33051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4:46:15Z</dcterms:modified>
  <cp:revision>5</cp:revision>
  <dc:subject/>
  <dc:title>Зовнішній пристрій</dc:title>
</cp:coreProperties>
</file>