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385-F098-48AB-A269-6491F041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CAA-5883-4B84-9A98-C437F767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024-2336-495E-BBDC-4D04DBBC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2DA-1D00-48F8-865B-4C61DA95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FD6-BB85-4E78-BEBD-3709B296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64EF-1DF9-4475-A6FC-284A4058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42B-5F30-42E0-82DE-72968E64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566F-4CF2-4B56-AC23-9904CA85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8167-D77F-4F80-990D-38A525C6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0C4A-69EE-405A-A4CE-E13F950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CCE-059A-4563-A13C-DD15198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2B6-044C-48A6-BF82-44131F74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1776-0F6A-446A-8543-B70E4EE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341F-C80E-4EA6-8EAF-8A05CBCD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E9DF-C684-407C-8A5A-25F08B6F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A503-3F94-446D-9D6C-34360C7F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F95A-C795-431F-AA1E-5F0BC95E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372-CB00-4565-B1FC-8EA4EAE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F2B-2BD7-4BFA-8C57-795F821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588-C637-4B24-8DD2-725E5D9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3A5-3962-4219-B283-71DB5E4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E7B-60A9-4B83-9171-5E6AD54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99B-A955-45B3-9971-BC89C38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178-6D75-479B-9E16-BC8AAC7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6AA-8D9F-41BD-B84C-A06EC23021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4CB4-2B69-4C96-8550-F6263B5823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4862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643120" y="549360"/>
            <a:ext cx="3305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H="1">
            <a:off x="5484960" y="2819520"/>
            <a:ext cx="915840" cy="32004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7432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055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ласть екрану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3818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7530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но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41767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42483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3305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4:46:15Z</dcterms:modified>
  <cp:revision>5</cp:revision>
  <dc:subject/>
  <dc:title>Зовнішній пристрій</dc:title>
</cp:coreProperties>
</file>