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C5D-5E48-4E37-ADFE-E6090759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E3FB-9C3D-43A5-901F-25564512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7D92-03F4-4341-B84F-B603A691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81C4-40D3-42F5-8128-EFBD0277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0118-F13E-412A-AA35-47C90E47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13EA-3CE6-4563-8014-116DFF5C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B9F7-CE9B-4904-A128-25FC8793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BE95-B0EF-40D9-87E0-A80A3925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9EB5-656F-42BF-9E73-04C80E73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E12D-DED0-4040-8358-B4466613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D8DA-88D4-4B71-B16F-4EEA183D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E1D-9E6F-4694-9AAB-13758A13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F29E-1DDA-4CFE-B9F6-9E9CDF91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DF32-F66A-4C11-9AF0-F546F144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7501-6C92-4184-B066-0678BB45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D2B1-E957-4574-839E-1037F154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933B-359A-4476-97AD-31DC1F90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887-8790-44F5-A512-7856CA74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6034-3CBC-4EC7-B74D-D481AFBA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449-4502-4B46-8F15-65C4D2F9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43B-E7D9-44D7-AD10-8FE97E7F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3BA-2656-4E2B-B354-4B7E7D64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282-40D6-4EC3-89CD-9DDF1986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42F-4E37-4C4A-81E4-0B113276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2E12-673F-44F2-8D01-BF7D6844146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97FE-A4A9-45FD-9080-68DBB8BFEEC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Універсальний пристрій для обробки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32944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Декілька комп'ютерів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473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6021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467840" cy="56404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5105520" y="1981080"/>
            <a:ext cx="379440" cy="4038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0556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42920" y="3068640"/>
            <a:ext cx="414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ебл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27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5661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истемна папка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48006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Різновид принте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72007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6093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Фонова область екран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960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аніпулято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9767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Тип моніто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4743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User</cp:lastModifiedBy>
  <dcterms:modified xsi:type="dcterms:W3CDTF">2007-02-15T20:44:12Z</dcterms:modified>
  <cp:revision>6</cp:revision>
  <dc:subject/>
  <dc:title>Зовнішній пристрій</dc:title>
</cp:coreProperties>
</file>