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566-5BFA-48B5-B27F-72C93CDF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71D-8C4E-4BED-98F6-9F3CBF79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B9E-8293-4146-A50A-8F5A40F7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61F-7BFE-433D-9992-1D9779CF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A63B-FBBA-4A17-8938-66D7BE8D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B3A4-7579-4166-96A2-8DACF136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1E2E-3E39-4663-B2AB-A15537A9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282C-5341-47BB-827E-07E5B985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E208-3028-4BE4-A617-A571548D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41ED-853C-441D-B27F-1E22A535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72B1-0E0D-4EA9-BAF1-384814E0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4A95-FD5C-40D3-AE5D-C084325B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20CC-F18B-47A7-97EB-DB12A99B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644F-9FCA-466B-AA63-6A0605E8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2FBA-E2D2-417B-BBBD-D88B5D46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43BE-1E90-4CB2-9D0D-918929AC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43E9-85C8-40CE-98AD-56E16A7F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B29-20C0-496C-96D0-8EDA3AF4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77E-3E78-42FF-A140-939127AD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15B-D7CC-4690-AE43-12774E71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F70-A739-4729-84B3-E287EFAF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607-44AA-4FCE-9DF6-6BAC580F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C63-F3EA-4301-A2B8-F303381C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F4D-FD7A-431A-A45D-DDCDA115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B79C-389E-4CA8-ABB7-4110E8BD7AA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FC98-41B9-47F2-AE6B-B7C3E418B8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Універсальний пристрій для обробки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32944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Декілька комп'ютерів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473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6021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467840" cy="56404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105520" y="1981080"/>
            <a:ext cx="379440" cy="4038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0556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42920" y="3068640"/>
            <a:ext cx="41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ебл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27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5661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на папка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48006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принте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72007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6093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Фонова область екран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96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9767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Тип моніто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743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User</cp:lastModifiedBy>
  <dcterms:modified xsi:type="dcterms:W3CDTF">2007-02-15T20:44:12Z</dcterms:modified>
  <cp:revision>6</cp:revision>
  <dc:subject/>
  <dc:title>Зовнішній пристрій</dc:title>
</cp:coreProperties>
</file>