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1EA-DB66-41E5-8C29-47503FC9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F07-33E7-43DB-9EBC-39DE64D0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B08-7B4A-4D03-B6D7-B9465E40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926-2B8A-4F0C-ADF2-DF9AB2C9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24A4-09E8-40CF-BE6A-204D4D58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14CF-46BD-442D-B633-56A91ADA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C62E-A6CE-4554-9939-1769BE8A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873E-E730-4419-8310-079221FE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ECCF-9D42-459D-B92A-7BFA742E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FD0D-C096-4621-875E-C5DEEADE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6D0C-2B93-4C85-B0A1-1D38FC6D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57B-B9AE-4E27-B2AE-1A4A32A2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058B-F885-412A-954E-EC462F3E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03FC-06D5-4862-8872-8152C84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2FE7-D16F-4FBB-9197-93262AF5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3606-7FB8-4C6B-A756-4A25E3F5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87D7-3E35-44AD-B62C-CA2F4DEB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3A6-94E7-4245-A1F5-3335B07D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09E-FC3E-423B-9C34-97C3A91B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F69-B417-4F0F-B67A-58CD4453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D2F-98E1-4C1C-B365-CA0558E0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B1C-22E2-469C-924F-C6596E0A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D81-3432-4CDE-B4C3-C0C1DCF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5FE-6EBB-462B-8D9E-3669CDE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94FA-D45C-4BA3-9DD4-5C2976DC090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483B-3C21-48B7-AF62-5C22A577585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принт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527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комп'ютер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391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3708360" y="5013000"/>
            <a:ext cx="207504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8960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л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'єкт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41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H="1">
            <a:off x="4643280" y="4149720"/>
            <a:ext cx="2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5383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0" y="3068640"/>
            <a:ext cx="71280" cy="280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11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05T15:01:05Z</dcterms:modified>
  <cp:revision>5</cp:revision>
  <dc:subject/>
  <dc:title>Зовнішній пристрій</dc:title>
</cp:coreProperties>
</file>