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4D72-DE25-42C5-979F-FCCDFF65E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834D-81CC-4F08-A29E-A2B5025DA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C047-B446-4DE5-A9EC-40F32DB82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59BC-9851-4CB0-B9FF-AE879E12A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9DD73-BB59-4A8E-ACC4-AB0A1DF3F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47F8A-C5CD-4F2B-81D5-1228EAB40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1FBF7-FB3A-462F-851C-763FF759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75A3A-4479-46B8-B38D-C6163043F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183A2-49E9-4A51-BFC1-6451A2C1D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489AC-5FB8-4E2B-B8C5-C958680D7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12F49-C5DB-4A68-A870-FDC0C6C3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ECFA-B42D-4FC8-B55E-EAE064E41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2CCD4-C6B8-467C-9896-089F9DFE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BFED8-CEE3-43DA-BE97-55A4BF2E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182C7-5DF0-4AFE-9950-2BF24E88D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DE9AF-B40C-42D5-8F53-EA6FD87FE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D567C-F1C1-422D-A43D-C725D7C97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6149-4844-454F-85CF-B1C127820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3EF1-B4B8-430E-A712-CABB17598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97E8-B66F-4D70-AFD3-285FBC816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9854-1F29-42EB-B6EE-353CDE9F2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83CC-5AA0-4580-96B1-E9D5BEB5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8354-A066-4ECA-AB2F-4F61CC1F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91DB-9F16-4C8E-84E8-D74DFD18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AC8E8-AB00-4FCD-8D74-3D65F0809A12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62970-DE63-42D3-95A3-FE011AEA3324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Зовнішній пристрій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7705800" cy="49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1128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Різновид принтер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1763640" y="549360"/>
            <a:ext cx="552780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Різновид комп'ютера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209080" cy="539136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 flipV="1">
            <a:off x="3708360" y="5013000"/>
            <a:ext cx="2075040" cy="934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68360" y="573408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Маніпулятор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2268360" y="549360"/>
            <a:ext cx="4896000" cy="47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Прилад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7704360" cy="549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Об'єкт 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07280" cy="54180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 flipH="1">
            <a:off x="4643280" y="4149720"/>
            <a:ext cx="216000" cy="17272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Зовнішній пристрій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842472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Клавіш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7128000" cy="538308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4572000" y="3068640"/>
            <a:ext cx="71280" cy="28083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Носій інформації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7632720" cy="54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Носій інформації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1979640" y="260280"/>
            <a:ext cx="511164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5T20:17:48Z</dcterms:created>
  <dc:creator>Administrator</dc:creator>
  <dc:description/>
  <dc:language>en-US</dc:language>
  <cp:lastModifiedBy>User</cp:lastModifiedBy>
  <dcterms:modified xsi:type="dcterms:W3CDTF">2007-02-05T15:01:05Z</dcterms:modified>
  <cp:revision>5</cp:revision>
  <dc:subject/>
  <dc:title>Зовнішній пристрій</dc:title>
</cp:coreProperties>
</file>