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E903-9B0A-4A0F-AC64-5E5151C2A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16ED-31BB-40D1-A022-402AB885B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A53B-9959-43D0-88CA-5E37F5543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FD43-71FE-48DC-8501-7F4A3BB92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A5DA5-C292-4268-B79F-1DFB09EE0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94007-B122-4857-A7EE-21C6AA5B8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54D8F-528A-4DB2-94BD-16E18C379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209A4-0780-4ECA-9462-9CE1D4E7D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11F14-0A27-413C-979D-E2BC3A158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4226F-9B2A-4745-AACD-F5953D1E8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E3B88-327F-430B-94BB-7BF3196D1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4057-E2DD-4415-929E-01973B178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A769D-0736-4AC0-85D2-6CC5A896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D09EA-326C-46F3-A342-0907AD213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8D4EC-C8B2-486E-8BC9-FACC7E711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50733-E245-4AB6-8C1E-583011355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47681-0E35-4F48-93FC-1A6762692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B9FA-A332-491B-8976-D4E6FAC93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0761-9A3C-47FF-8338-0988FB60B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8BA7-86C4-4B7F-BEAD-303A60E4A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2201-2EE2-4135-8473-575AAAFF1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4E06-2C57-4C61-8BEC-B1402802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A357-9961-4B76-91AD-77E4E11F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D3EF-34C5-4351-AB0D-0800AD5D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C1D21-6952-4436-B1D5-452D8F14AFE9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5B6F3-18C2-46BE-B772-352AAB4336A6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Зовнішній пристрій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7705800" cy="49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1128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Різновид принтер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1763640" y="549360"/>
            <a:ext cx="5527800" cy="50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3964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Різновид комп'ютера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8209080" cy="539136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 flipV="1">
            <a:off x="3708360" y="5013000"/>
            <a:ext cx="2075040" cy="934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68360" y="573408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Маніпулятор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2268360" y="549360"/>
            <a:ext cx="4896000" cy="47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964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Прилад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7704360" cy="549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Об'єкт 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07280" cy="54180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 flipH="1">
            <a:off x="4643280" y="4149720"/>
            <a:ext cx="216000" cy="17272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Зовнішній пристрій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8424720" cy="42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Клавіш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1116000" y="333360"/>
            <a:ext cx="7128000" cy="538308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4572000" y="3068640"/>
            <a:ext cx="71280" cy="28083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Носій інформації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7632720" cy="54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964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Носій інформації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1979640" y="260280"/>
            <a:ext cx="511164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5T20:17:48Z</dcterms:created>
  <dc:creator>Administrator</dc:creator>
  <dc:description/>
  <dc:language>en-US</dc:language>
  <cp:lastModifiedBy>User</cp:lastModifiedBy>
  <dcterms:modified xsi:type="dcterms:W3CDTF">2007-02-05T15:01:05Z</dcterms:modified>
  <cp:revision>5</cp:revision>
  <dc:subject/>
  <dc:title>Зовнішній пристрій</dc:title>
</cp:coreProperties>
</file>