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127-45E9-4B08-9CF9-EEEEC181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1BB-F365-4AD6-8B12-6DB14E76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FB6-64C5-4899-97A8-67122212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3FF-56AF-450B-918A-BCE72981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AA18-1F3B-4678-B447-5816288B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4F9A-4346-45C2-85D1-C90BE3AE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62CC-FD02-4480-9B2D-8564EEAD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C081-62AB-415E-A5FE-1C7A9D5B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D052-365A-4F54-9581-B7EA224A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DA4-F1BA-4EB2-AC94-5EA766C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244-1F3C-4564-BA7A-3B47440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7EE-8D3A-4F50-8D28-B5C193C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9A1C-415A-4133-A278-F4474B0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42C-1F84-403F-B67A-2B7FAA3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6C2-D6F3-4833-9C97-F5DEC5D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3FC-8ED7-43D5-A8CE-7D54D82A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95DA-B3D8-4AA0-9C1A-1AB36ABD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E2C-CCF3-425E-BA4F-2D376C85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C38-F4D4-41F5-B61B-D09C01B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B82-8A0B-4AA5-95E6-4A688328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9C5-7E7E-49F4-BCF7-69A94561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EA0-A166-41F2-BFCF-80276E8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174-01DC-452C-B2C3-BEE59AF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821-1EEA-4383-8357-8B0BE1E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466-FF7B-4394-BAE5-72BE062E5F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97CB-9115-421C-A667-3DC67328610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14" descr="j0234322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9" descr="J0289582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Line 10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1014480" y="765000"/>
            <a:ext cx="71150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виведення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68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12" descr="j0250079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3" descr="teacherlessonobject5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11" descr="j0285774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1"/>
          <a:stretch/>
        </p:blipFill>
        <p:spPr>
          <a:xfrm>
            <a:off x="3276720" y="1909800"/>
            <a:ext cx="2303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21:31Z</dcterms:modified>
  <cp:revision>12</cp:revision>
  <dc:subject/>
  <dc:title>Зовнішній пристрій</dc:title>
</cp:coreProperties>
</file>