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57F-AE90-4576-A966-CF29F2BB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9C5-EA81-4379-84E7-512133A4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573-6D28-46D0-B6F9-6227DD7F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20F-052E-4F00-B4F5-1C9A4523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41D0-02C3-4DCE-979C-88107CC3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FDF4-13AD-4FE8-A75A-DFAF6798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63AF-979A-4111-B477-230F9FE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1E04-C51C-4108-A3DD-B2B979AC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1124-871F-4644-8D82-25B1DDBB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D004-6F17-48B5-B666-F3938BCD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F30B-6813-412F-8086-4DB849D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A96-E8D5-4114-9124-D261B122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9956-0441-4F97-B5F9-C2072E6D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CF3B-2E07-4CA2-818B-42B47EB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F504-C5B9-489D-A32B-9B2D0374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6D9E-9E98-4347-934C-412374E1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9350-DD7A-4972-A936-6A924523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621-7138-4705-901B-793BF7B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F17-62B3-47C9-B657-CD490B80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B63-4B49-4DFE-A4EF-C94A7AC4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446-908F-4F73-BB41-14EAC280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639-C2A3-4F17-A07F-298273F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813-CB64-49F7-B904-4D527B3B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BEC-EDB6-4BCE-83E1-14E9B1B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A4BD-CFEB-4EAD-93B2-0253E8696C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8D3-EEDC-44C7-AAB8-6BF8005EDB0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Рисунок 1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653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23640" y="5805000"/>
            <a:ext cx="410364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14" descr="j0234322"/>
          <p:cNvPicPr/>
          <p:nvPr/>
        </p:nvPicPr>
        <p:blipFill>
          <a:blip r:embed="rId1"/>
          <a:stretch/>
        </p:blipFill>
        <p:spPr>
          <a:xfrm>
            <a:off x="2050920" y="333360"/>
            <a:ext cx="44895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55897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580000" y="6021360"/>
            <a:ext cx="304488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Picture 9" descr="J0289582"/>
          <p:cNvPicPr/>
          <p:nvPr/>
        </p:nvPicPr>
        <p:blipFill>
          <a:blip r:embed="rId1"/>
          <a:stretch/>
        </p:blipFill>
        <p:spPr>
          <a:xfrm>
            <a:off x="304920" y="228600"/>
            <a:ext cx="4897440" cy="6172200"/>
          </a:xfrm>
          <a:prstGeom prst="rect">
            <a:avLst/>
          </a:prstGeom>
          <a:ln w="0">
            <a:noFill/>
          </a:ln>
        </p:spPr>
      </p:pic>
      <p:sp>
        <p:nvSpPr>
          <p:cNvPr id="390" name="Line 10"/>
          <p:cNvSpPr/>
          <p:nvPr/>
        </p:nvSpPr>
        <p:spPr>
          <a:xfrm>
            <a:off x="3962520" y="3124080"/>
            <a:ext cx="2514600" cy="2667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Рисунок 1" descr=""/>
          <p:cNvPicPr/>
          <p:nvPr/>
        </p:nvPicPr>
        <p:blipFill>
          <a:blip r:embed="rId1"/>
          <a:stretch/>
        </p:blipFill>
        <p:spPr>
          <a:xfrm>
            <a:off x="1014480" y="765000"/>
            <a:ext cx="71150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виведення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068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12" descr="j0250079"/>
          <p:cNvPicPr/>
          <p:nvPr/>
        </p:nvPicPr>
        <p:blipFill>
          <a:blip r:embed="rId1"/>
          <a:stretch/>
        </p:blipFill>
        <p:spPr>
          <a:xfrm>
            <a:off x="1979640" y="333360"/>
            <a:ext cx="51134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3" descr="teacherlessonobject5"/>
          <p:cNvPicPr/>
          <p:nvPr/>
        </p:nvPicPr>
        <p:blipFill>
          <a:blip r:embed="rId1"/>
          <a:stretch/>
        </p:blipFill>
        <p:spPr>
          <a:xfrm>
            <a:off x="2556000" y="476280"/>
            <a:ext cx="41479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Picture 11" descr="j0285774"/>
          <p:cNvPicPr/>
          <p:nvPr/>
        </p:nvPicPr>
        <p:blipFill>
          <a:blip r:embed="rId1"/>
          <a:stretch/>
        </p:blipFill>
        <p:spPr>
          <a:xfrm>
            <a:off x="1692360" y="708120"/>
            <a:ext cx="63356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1"/>
          <a:stretch/>
        </p:blipFill>
        <p:spPr>
          <a:xfrm>
            <a:off x="3276720" y="1909800"/>
            <a:ext cx="2303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Lilya</cp:lastModifiedBy>
  <dcterms:modified xsi:type="dcterms:W3CDTF">2013-03-02T18:21:31Z</dcterms:modified>
  <cp:revision>12</cp:revision>
  <dc:subject/>
  <dc:title>Зовнішній пристрій</dc:title>
</cp:coreProperties>
</file>