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49E-549C-45B0-BD03-246C2EF7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B85-AB78-4413-B5DE-34E7CB4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F17-8F5B-49A8-B7E1-04B8077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90A-B4F6-46C3-A930-FC9FF446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623-4FAE-4813-8345-79AF1E14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B01B-86D8-4F08-80CE-C8DC113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36E3-FBAC-449F-BD87-A2343D3E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925F-FEAE-48FD-89D7-170514CC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C11-004E-472A-B6C9-10AA70E4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1846-AA02-4DF5-A9A3-6AE93B3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002-8782-45F9-A536-F7616F38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5F0-E956-451D-AA50-0817B94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C04-ED04-485A-AA9C-4B9241E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EC92-F949-4467-A4D4-CB1ADDD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DB9-3214-4319-A513-47D843E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173-70BC-4451-BA6A-89631F02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3621-64A9-4F88-A2FD-48869B5D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8E2-BAA1-49CF-B190-D8F80DD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EEA-6E1B-421B-AEA5-2C97B489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A2E-F872-41EA-99EF-449B670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0DA-1F51-4E7A-8C7C-D79CE4C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422-A718-4ECA-BD5D-46647C1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F7F-BBF3-422B-97CA-3056B02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DFF-D0FB-4598-9CDE-91E129A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AC9-0E9B-4B94-8C67-E8E53660D20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BA1-3FD1-4DF2-BD38-94C03AEA0E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teacherlessonobject3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6" descr="teacherlessonobject2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4" descr="j0285123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3" descr="j0297599"/>
          <p:cNvPicPr/>
          <p:nvPr/>
        </p:nvPicPr>
        <p:blipFill>
          <a:blip r:embed="rId1"/>
          <a:stretch/>
        </p:blipFill>
        <p:spPr>
          <a:xfrm>
            <a:off x="2050920" y="333360"/>
            <a:ext cx="540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5" descr="j0315605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j030927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5" name="Line 5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6" descr="teacherlessonobject4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5" descr="j0178385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400" name="Line 4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j0315558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5" descr="sp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14:34Z</dcterms:modified>
  <cp:revision>6</cp:revision>
  <dc:subject/>
  <dc:title>Зовнішній пристрій</dc:title>
</cp:coreProperties>
</file>