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030-AA40-4BC6-BC58-20E47F47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A0D-E920-428C-924B-D1708C5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4A8-9FAD-4256-818F-595BD8BA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AA6-C882-4C8E-974C-FE1A33F6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3D3C-4CAB-4905-B4F6-239CF942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2B03-1DC2-4E1D-A458-2B597531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9C65-5C10-4AC1-A2FB-7457B8D0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B9B8-AF8B-463D-BE60-6C2E8208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1E3-052D-4CCF-B0D9-19F3F88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14CA-D67C-447F-869E-2C9F7510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E5F-50D0-4AA7-AE22-8E6134A9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013-21A6-4E8D-BAB3-EF34FE17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7423-15A7-4921-BE80-C503A715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C337-1433-459A-9694-F96CCDBF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E63F-1662-4A04-8BF9-AD36E89C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17DF-D03D-457F-80F9-5676B1D6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49CD-D53E-421D-803B-3F0F6BEE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79F-04AA-4DD3-BA60-469F1D9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51F-D209-4373-8A0D-1D534A83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1BC-FFAD-4120-8EDA-13C6B1EE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20C-00B6-4421-9741-54994976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FCD-643E-40C0-8B04-FF2CBD8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680-076D-4D0D-954F-674095D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CE6-46A1-418D-8290-E319DF8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F940-28DE-4957-A8DE-2703456035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C06-D3E8-497C-8348-0EB58241E81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7" descr="teacherlessonobject3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6" descr="teacherlessonobject2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Picture 4" descr="j0285123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8" name="Line 5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Picture 3" descr="j0297599"/>
          <p:cNvPicPr/>
          <p:nvPr/>
        </p:nvPicPr>
        <p:blipFill>
          <a:blip r:embed="rId1"/>
          <a:stretch/>
        </p:blipFill>
        <p:spPr>
          <a:xfrm>
            <a:off x="2050920" y="333360"/>
            <a:ext cx="540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5" descr="j0315605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j0309272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5" name="Line 5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6" descr="teacherlessonobject4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5" descr="j0178385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400" name="Line 4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5" descr="j0315558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5" descr="sp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Lilya</cp:lastModifiedBy>
  <dcterms:modified xsi:type="dcterms:W3CDTF">2013-03-02T18:14:34Z</dcterms:modified>
  <cp:revision>6</cp:revision>
  <dc:subject/>
  <dc:title>Зовнішній пристрій</dc:title>
</cp:coreProperties>
</file>