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gif" ContentType="image/gif"/>
  <Override PartName="/ppt/media/image15.png" ContentType="image/png"/>
  <Override PartName="/ppt/media/image24.jpeg" ContentType="image/jpeg"/>
  <Override PartName="/ppt/media/image10.gif" ContentType="image/gif"/>
  <Override PartName="/ppt/media/image9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8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4.gif" ContentType="image/gif"/>
  <Override PartName="/ppt/media/image17.png" ContentType="image/png"/>
  <Override PartName="/ppt/media/image3.gif" ContentType="image/gif"/>
  <Override PartName="/ppt/media/image7.png" ContentType="image/png"/>
  <Override PartName="/ppt/media/image22.jpeg" ContentType="image/jpeg"/>
  <Override PartName="/ppt/media/image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E1C-6BDB-4CB5-9478-0BBEF0F1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BC7-4B98-422C-AB20-F1E3CD5D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40E-FD87-4DE1-9385-BA9FD914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5A1-EBCE-43F6-B789-93350995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00D-BC8A-4341-870C-003D1DA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69C-2A8C-4E96-9D7F-476DE031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AB2-D87D-4033-8DC9-69E91E78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577-594E-40CB-914F-1065CE3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2EC-DE6C-43DE-9716-567E2931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DB8-A15E-4BD4-A21C-3E64323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91B-AA8E-4916-B74D-B27CA6E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7AF-B66E-432B-93A3-841A540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CF21-549A-4B96-B6BC-485F8087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r.net/" TargetMode="External"/><Relationship Id="rId3" Type="http://schemas.openxmlformats.org/officeDocument/2006/relationships/hyperlink" Target="http://www.i.ua/" TargetMode="External"/><Relationship Id="rId4" Type="http://schemas.openxmlformats.org/officeDocument/2006/relationships/hyperlink" Target="http://www.mail.ru/" TargetMode="External"/><Relationship Id="rId5" Type="http://schemas.openxmlformats.org/officeDocument/2006/relationships/hyperlink" Target="http://www.hotbox.ru/" TargetMode="External"/><Relationship Id="rId6" Type="http://schemas.openxmlformats.org/officeDocument/2006/relationships/hyperlink" Target="http://www.hotmail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82000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ипи функціонуванн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лектронної пошти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бота з електронною поштою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з веб-інтерфейс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ктична робота №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Електронне листуван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з веб-інтерфейс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4608360" cy="1873080"/>
            <a:chOff x="0" y="0"/>
            <a:chExt cx="4608360" cy="1873080"/>
          </a:xfrm>
        </p:grpSpPr>
        <p:sp>
          <p:nvSpPr>
            <p:cNvPr id="70" name=""/>
            <p:cNvSpPr/>
            <p:nvPr/>
          </p:nvSpPr>
          <p:spPr>
            <a:xfrm>
              <a:off x="0" y="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54936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Завантажити веб-браузер та ввести адресу поштового веб-серве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187280" y="1197000"/>
            <a:ext cx="4608360" cy="1873080"/>
            <a:chOff x="1187280" y="1197000"/>
            <a:chExt cx="4608360" cy="1873080"/>
          </a:xfrm>
        </p:grpSpPr>
        <p:sp>
          <p:nvSpPr>
            <p:cNvPr id="73" name=""/>
            <p:cNvSpPr/>
            <p:nvPr/>
          </p:nvSpPr>
          <p:spPr>
            <a:xfrm>
              <a:off x="1187280" y="119700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174636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рати  посилання Зареєструватися та заповнити анкет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340000" y="2492280"/>
            <a:ext cx="4608360" cy="1873080"/>
            <a:chOff x="2340000" y="2492280"/>
            <a:chExt cx="4608360" cy="1873080"/>
          </a:xfrm>
        </p:grpSpPr>
        <p:sp>
          <p:nvSpPr>
            <p:cNvPr id="76" name=""/>
            <p:cNvSpPr/>
            <p:nvPr/>
          </p:nvSpPr>
          <p:spPr>
            <a:xfrm>
              <a:off x="2340000" y="249228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40000" y="304164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еревірити доступність обраного імені користувач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92360" y="3789360"/>
            <a:ext cx="4608360" cy="1873080"/>
            <a:chOff x="3492360" y="3789360"/>
            <a:chExt cx="4608360" cy="1873080"/>
          </a:xfrm>
        </p:grpSpPr>
        <p:sp>
          <p:nvSpPr>
            <p:cNvPr id="79" name=""/>
            <p:cNvSpPr/>
            <p:nvPr/>
          </p:nvSpPr>
          <p:spPr>
            <a:xfrm>
              <a:off x="3492360" y="378936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2360" y="43387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Натиснути  кнопку Я погоджуюся. Створіть мій акаун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35640" y="4984920"/>
            <a:ext cx="4608360" cy="1873080"/>
            <a:chOff x="4535640" y="4984920"/>
            <a:chExt cx="4608360" cy="1873080"/>
          </a:xfrm>
        </p:grpSpPr>
        <p:sp>
          <p:nvSpPr>
            <p:cNvPr id="82" name=""/>
            <p:cNvSpPr/>
            <p:nvPr/>
          </p:nvSpPr>
          <p:spPr>
            <a:xfrm>
              <a:off x="4535640" y="498492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35640" y="55342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тиснути посилання Я готовий – покажіть мені обліковий запи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око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SMTP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Simple Mail Transfer Protoc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POP3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(Post Office Protoc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405160" cy="244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на робота №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232000" cy="209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є завд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читати §24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’ясувати походження та історію виникнення символу @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200400" cy="3333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56000" y="393372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7559640" cy="233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561080" cy="3024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312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akula-snorkling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514600" cy="1666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03640" y="126828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”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089080" cy="176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11640" y="155736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134136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348000" y="400536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4149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3573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50028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</a:rPr>
              <a:t>д=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221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724280"/>
            <a:ext cx="1224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3097440" cy="194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47640" y="62064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62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048120" cy="165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76720" y="33336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=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836640"/>
            <a:ext cx="5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341360"/>
            <a:ext cx="50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9640" y="4581360"/>
            <a:ext cx="1944720" cy="1506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378936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484360" y="4653000"/>
            <a:ext cx="1368360" cy="1622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87640" y="364500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933720"/>
            <a:ext cx="107964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2920" y="4076640"/>
            <a:ext cx="10810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225720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6360" y="335772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=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149720"/>
            <a:ext cx="2160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900" spc="-1" strike="noStrike">
                <a:solidFill>
                  <a:srgbClr val="000000"/>
                </a:solidFill>
                <a:latin typeface="Times New Roman"/>
              </a:rPr>
              <a:t>н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и опитув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8360" y="1197000"/>
          <a:ext cx="8136000" cy="34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1360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942920" cy="1622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ей Томлін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396360" cy="5294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углас Енгельб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1566720"/>
            <a:ext cx="7920000" cy="529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уренс Роберт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8756"/>
          <a:stretch/>
        </p:blipFill>
        <p:spPr>
          <a:xfrm>
            <a:off x="539640" y="1341360"/>
            <a:ext cx="8209080" cy="6167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43369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1800000" cy="259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Times New Roman"/>
              </a:rPr>
              <a:t>Електронна пошта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– це сукупність засобів, призначених для обміну електронними повідомленнями між користувачами комп’ютерної мереж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Times New Roman"/>
              </a:rPr>
              <a:t>Поштовий сервер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– комп’ютер і відповідне програмне забезпечення, за допомогою якого підтримується робота електронної пошт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4653000"/>
            <a:ext cx="1800360" cy="130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360"/>
            <a:ext cx="849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&lt;ім’я_поштової_скриньки_користувача&gt;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3789360"/>
            <a:ext cx="849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&lt;доменне_ім’я_поштового_сервера&gt;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132084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Безкоштовні поштові веб-сервер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українськ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mail.oboz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webmail.meta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kr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mail.bigmir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російськ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hotbo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англомовн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gmail.c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851280" y="4724280"/>
            <a:ext cx="1511280" cy="1381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01:13Z</dcterms:created>
  <dc:creator>Улянка</dc:creator>
  <dc:description/>
  <dc:language>en-US</dc:language>
  <cp:lastModifiedBy>Home</cp:lastModifiedBy>
  <dcterms:modified xsi:type="dcterms:W3CDTF">2013-02-25T15:38:24Z</dcterms:modified>
  <cp:revision>5</cp:revision>
  <dc:subject/>
  <dc:title>Слайд 1</dc:title>
</cp:coreProperties>
</file>