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7BD-1856-4BD5-B05A-5276DC4E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288-24E4-45A3-8C81-041A027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078-0857-4570-A885-61D1C4D5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A2F-4225-414D-9A7D-CEC609F0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36F1-B8BA-4EF3-8FC4-5944AF97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C10-F12C-41E7-A3CE-0F91CE39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6F8A-A15E-4FB0-AA09-DB1DC30A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F440-13AA-46C3-B7A7-5DBB7DA4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61D4-BB7E-49B7-96FA-A2C70C68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1387-3218-410D-BC34-2F504B4D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3D8F-4291-43E5-8E1F-7CA2833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D17-30E1-4171-A5E6-960FF14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332-6FEE-4ADE-A458-FF1CBE9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CEB-C510-47C3-BC50-6CCB9A7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C0FC-F33B-4F47-A01C-8AFFF1F7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164-92D0-4462-8248-5995A3E1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D023-1AA3-43A9-B542-9F487DF4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715-DD70-4A68-9727-A1FFD4E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AE2-39D1-4E24-B90D-C503BCEA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7E4-FB02-4FB5-A2AA-B54E489A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9CC-26B0-4AD3-AE10-B6E882D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68F-E89C-40BB-9625-C5D05E9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A5E-C3A2-48C4-993F-DE86AA3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DCD-64F2-4D21-8443-EB9CC63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8BF-98DD-4C30-B2CB-9F03F39FC3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EFD3-2A2F-4C9B-8B89-90605FDAC62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Рисунок 1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5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23640" y="5805000"/>
            <a:ext cx="410364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14" descr="j0234322"/>
          <p:cNvPicPr/>
          <p:nvPr/>
        </p:nvPicPr>
        <p:blipFill>
          <a:blip r:embed="rId1"/>
          <a:stretch/>
        </p:blipFill>
        <p:spPr>
          <a:xfrm>
            <a:off x="2050920" y="333360"/>
            <a:ext cx="4489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80000" y="6021360"/>
            <a:ext cx="3044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9" descr="J0289582"/>
          <p:cNvPicPr/>
          <p:nvPr/>
        </p:nvPicPr>
        <p:blipFill>
          <a:blip r:embed="rId1"/>
          <a:stretch/>
        </p:blipFill>
        <p:spPr>
          <a:xfrm>
            <a:off x="304920" y="22860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390" name="Line 10"/>
          <p:cNvSpPr/>
          <p:nvPr/>
        </p:nvSpPr>
        <p:spPr>
          <a:xfrm>
            <a:off x="3962520" y="3124080"/>
            <a:ext cx="2514600" cy="266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1014480" y="765000"/>
            <a:ext cx="71150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виведення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068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12" descr="j0250079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3" descr="teacherlessonobject5"/>
          <p:cNvPicPr/>
          <p:nvPr/>
        </p:nvPicPr>
        <p:blipFill>
          <a:blip r:embed="rId1"/>
          <a:stretch/>
        </p:blipFill>
        <p:spPr>
          <a:xfrm>
            <a:off x="2556000" y="476280"/>
            <a:ext cx="41479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11" descr="j0285774"/>
          <p:cNvPicPr/>
          <p:nvPr/>
        </p:nvPicPr>
        <p:blipFill>
          <a:blip r:embed="rId1"/>
          <a:stretch/>
        </p:blipFill>
        <p:spPr>
          <a:xfrm>
            <a:off x="1692360" y="708120"/>
            <a:ext cx="63356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1"/>
          <a:stretch/>
        </p:blipFill>
        <p:spPr>
          <a:xfrm>
            <a:off x="3276720" y="1909800"/>
            <a:ext cx="2303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21:31Z</dcterms:modified>
  <cp:revision>12</cp:revision>
  <dc:subject/>
  <dc:title>Зовнішній пристрій</dc:title>
</cp:coreProperties>
</file>