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625-1562-4623-AC5E-DFB9CADC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57C-54C4-4D61-8CFB-7FA92722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2F3-06BB-4CE8-8299-6C53C279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2E8-6BDD-4419-ABD6-83BECE84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4968-2CEF-49A6-951D-CA25188D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0E61-D706-49D9-AE22-46E3139D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50DB-ABB0-49D0-A565-FD0AC28C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07F3-D124-4AD7-8A05-9E683032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6467-BDA5-4D8E-806D-3B8E26CB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A21A-F049-4255-A5CC-669FFF72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6485-B510-46FE-BB12-1E951F65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EEA-24C5-44C0-B941-F6E0411E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5B28-00A6-46EC-9C8E-C80D1FA6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6BE4-874E-490F-A4F2-196CCAC4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8D84-9DF9-466F-83D2-0B728883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BAE1-0CB1-4555-A772-D86FA584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4C1C-7826-4595-B24B-1D7568FF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4F4-6857-483A-A9F3-4435BB5D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A32-14A0-4016-AB70-7B927220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5DC-1110-4561-A717-5A37FC8A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40B-A0E4-4EF8-AC4E-78F434BC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91E-F755-4269-9501-CF9749E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BF0-AB4A-4F1A-BD36-68AF98AC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02C-F6E5-4FB9-866F-803566FC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2B49-0371-44AB-9DD5-EFFFE81314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B779-5B4E-4735-ABF0-EBF5E49F7BA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Рисунок 1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4653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23640" y="5805000"/>
            <a:ext cx="410364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Picture 14" descr="j0234322"/>
          <p:cNvPicPr/>
          <p:nvPr/>
        </p:nvPicPr>
        <p:blipFill>
          <a:blip r:embed="rId1"/>
          <a:stretch/>
        </p:blipFill>
        <p:spPr>
          <a:xfrm>
            <a:off x="2050920" y="333360"/>
            <a:ext cx="44895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55897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истемна пап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1"/>
          <a:stretch/>
        </p:blipFill>
        <p:spPr>
          <a:xfrm>
            <a:off x="3276720" y="198900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580000" y="6021360"/>
            <a:ext cx="304488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Клаві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Picture 9" descr="J0289582"/>
          <p:cNvPicPr/>
          <p:nvPr/>
        </p:nvPicPr>
        <p:blipFill>
          <a:blip r:embed="rId1"/>
          <a:stretch/>
        </p:blipFill>
        <p:spPr>
          <a:xfrm>
            <a:off x="304920" y="228600"/>
            <a:ext cx="4897440" cy="6172200"/>
          </a:xfrm>
          <a:prstGeom prst="rect">
            <a:avLst/>
          </a:prstGeom>
          <a:ln w="0">
            <a:noFill/>
          </a:ln>
        </p:spPr>
      </p:pic>
      <p:sp>
        <p:nvSpPr>
          <p:cNvPr id="390" name="Line 10"/>
          <p:cNvSpPr/>
          <p:nvPr/>
        </p:nvSpPr>
        <p:spPr>
          <a:xfrm>
            <a:off x="3962520" y="3124080"/>
            <a:ext cx="2514600" cy="2667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Рисунок 1" descr=""/>
          <p:cNvPicPr/>
          <p:nvPr/>
        </p:nvPicPr>
        <p:blipFill>
          <a:blip r:embed="rId1"/>
          <a:stretch/>
        </p:blipFill>
        <p:spPr>
          <a:xfrm>
            <a:off x="1014480" y="765000"/>
            <a:ext cx="71150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 виведення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068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84000" y="5734080"/>
            <a:ext cx="414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Носій інформації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12" descr="j0250079"/>
          <p:cNvPicPr/>
          <p:nvPr/>
        </p:nvPicPr>
        <p:blipFill>
          <a:blip r:embed="rId1"/>
          <a:stretch/>
        </p:blipFill>
        <p:spPr>
          <a:xfrm>
            <a:off x="1979640" y="333360"/>
            <a:ext cx="51134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Зовнішній пристрій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3" descr="teacherlessonobject5"/>
          <p:cNvPicPr/>
          <p:nvPr/>
        </p:nvPicPr>
        <p:blipFill>
          <a:blip r:embed="rId1"/>
          <a:stretch/>
        </p:blipFill>
        <p:spPr>
          <a:xfrm>
            <a:off x="2556000" y="476280"/>
            <a:ext cx="41479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57340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стрі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Picture 11" descr="j0285774"/>
          <p:cNvPicPr/>
          <p:nvPr/>
        </p:nvPicPr>
        <p:blipFill>
          <a:blip r:embed="rId1"/>
          <a:stretch/>
        </p:blipFill>
        <p:spPr>
          <a:xfrm>
            <a:off x="1692360" y="708120"/>
            <a:ext cx="63356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ограма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10" descr=""/>
          <p:cNvPicPr/>
          <p:nvPr/>
        </p:nvPicPr>
        <p:blipFill>
          <a:blip r:embed="rId1"/>
          <a:stretch/>
        </p:blipFill>
        <p:spPr>
          <a:xfrm>
            <a:off x="3276720" y="1909800"/>
            <a:ext cx="2303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0:17:48Z</dcterms:created>
  <dc:creator>Administrator</dc:creator>
  <dc:description/>
  <dc:language>en-US</dc:language>
  <cp:lastModifiedBy>Lilya</cp:lastModifiedBy>
  <dcterms:modified xsi:type="dcterms:W3CDTF">2013-03-02T18:21:31Z</dcterms:modified>
  <cp:revision>12</cp:revision>
  <dc:subject/>
  <dc:title>Зовнішній пристрій</dc:title>
</cp:coreProperties>
</file>