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E4D-797F-426A-9C08-90C492F6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8D3-2E79-4BE4-8382-81870AD7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223-02E5-4E1F-ADFE-19C8B766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14C-C07B-4EE0-91D6-1D78F775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468-5950-4EB8-B8CB-1FE8399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1724-9A9D-40B2-9794-BD8F2E2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63C-3DEF-4243-85C4-DD4DFE6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C7FD-3F45-440A-BE6B-230F4B75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745C-FCA9-43AC-926F-59B5DF5D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6C0-1B8B-4EDD-95E5-C97FB6F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E61D-8670-4898-8F3B-58566EC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D3F-181A-4367-9045-FBDB2A7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6BA7-8EF0-4263-90D9-C825B3B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B59B-A5BD-4565-88DB-A2F766C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32A4-0449-4C66-BEE5-6362136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12BB-B791-49D2-AE77-9569A8B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A4E1-4227-4634-8A2A-FDBAC663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2D4-302E-408C-8BA1-AF49DFA4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F9E-698A-45D0-8F01-FDC0BB1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EF4-5968-4C7B-B405-B5DBCF17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F02-FFCB-4021-884A-CDDD14A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AF3-6A99-4366-BCF2-82C99A9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EDE-063A-4B2B-A600-37A38BF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B60-024C-4B47-A5DF-4D79765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EBC-03DB-4095-B9C8-C2A7E5B29B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D893-8173-45BE-8524-17486272715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teacherlessonobject3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6" descr="teacherlessonobject2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4" descr="j0285123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3" descr="j0297599"/>
          <p:cNvPicPr/>
          <p:nvPr/>
        </p:nvPicPr>
        <p:blipFill>
          <a:blip r:embed="rId1"/>
          <a:stretch/>
        </p:blipFill>
        <p:spPr>
          <a:xfrm>
            <a:off x="2050920" y="333360"/>
            <a:ext cx="540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5" descr="j0315605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j030927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5" name="Line 5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6" descr="teacherlessonobject4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5" descr="j0178385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400" name="Line 4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j0315558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5" descr="sp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14:34Z</dcterms:modified>
  <cp:revision>6</cp:revision>
  <dc:subject/>
  <dc:title>Зовнішній пристрій</dc:title>
</cp:coreProperties>
</file>