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39A-1561-44CE-A6BA-F1811FA0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6B0-0F5E-42E5-8D90-C811789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7E3-8606-4C9E-B3DA-C9B4FAA5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888-6C33-422A-ACF6-79F2E738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900A-22A1-459E-A9DF-9703AF68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3E38-B6E6-4703-81A3-AF62FE4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110C-A76A-4706-9190-0A7FC050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48A-7EDB-435F-A508-2F86818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CDB8-0AEC-4B2A-A901-5CF0B95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0187-AD02-4E65-BB00-9DCBB21C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F29A-7DE0-4174-8CAB-A547D0E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D11-5699-4FB2-8D9F-1C5135B3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CA88-0D54-4180-B36B-2649CAD2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636-1C19-4DC3-8783-C01669D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832-F55C-4AB7-BB8F-F287F93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8D4F-1DC2-49A9-AD52-BA541B47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3E97-F4B3-49A6-827B-B0935961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42C-8AF8-41F1-98AA-74A6EBBF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3F4-5A42-4B4A-B530-545F7738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223-7B4E-4AB6-8AE2-70272E5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90E-BBC5-46FC-B990-C2165166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1A6-7EB5-4DB2-A447-8CC6CF41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31F-CD5E-4B27-BD47-16B6B51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35A-358C-4895-B7C1-1A785CA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396-B8BE-4FEA-9D71-3FED26050C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F2ED-B8C7-46CE-BCB4-64ACB0F5621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teacherlessonobject3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6" descr="teacherlessonobject2"/>
          <p:cNvPicPr/>
          <p:nvPr/>
        </p:nvPicPr>
        <p:blipFill>
          <a:blip r:embed="rId1"/>
          <a:stretch/>
        </p:blipFill>
        <p:spPr>
          <a:xfrm>
            <a:off x="1979640" y="260280"/>
            <a:ext cx="5111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Різновид комп'ютера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4" descr="j0285123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5391360"/>
          </a:xfrm>
          <a:prstGeom prst="rect">
            <a:avLst/>
          </a:prstGeom>
          <a:ln w="0">
            <a:noFill/>
          </a:ln>
        </p:spPr>
      </p:pic>
      <p:sp>
        <p:nvSpPr>
          <p:cNvPr id="388" name="Line 5"/>
          <p:cNvSpPr/>
          <p:nvPr/>
        </p:nvSpPr>
        <p:spPr>
          <a:xfrm flipV="1">
            <a:off x="3708360" y="5013000"/>
            <a:ext cx="207504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Маніпулято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Picture 3" descr="j0297599"/>
          <p:cNvPicPr/>
          <p:nvPr/>
        </p:nvPicPr>
        <p:blipFill>
          <a:blip r:embed="rId1"/>
          <a:stretch/>
        </p:blipFill>
        <p:spPr>
          <a:xfrm>
            <a:off x="2050920" y="333360"/>
            <a:ext cx="540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л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5" descr="j0315605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Об'єкт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j030927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418000"/>
          </a:xfrm>
          <a:prstGeom prst="rect">
            <a:avLst/>
          </a:prstGeom>
          <a:ln w="0">
            <a:noFill/>
          </a:ln>
        </p:spPr>
      </p:pic>
      <p:sp>
        <p:nvSpPr>
          <p:cNvPr id="395" name="Line 5"/>
          <p:cNvSpPr/>
          <p:nvPr/>
        </p:nvSpPr>
        <p:spPr>
          <a:xfrm flipH="1">
            <a:off x="4643280" y="4149720"/>
            <a:ext cx="216000" cy="1727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6" descr="teacherlessonobject4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5" descr="j0178385"/>
          <p:cNvPicPr/>
          <p:nvPr/>
        </p:nvPicPr>
        <p:blipFill>
          <a:blip r:embed="rId1"/>
          <a:stretch/>
        </p:blipFill>
        <p:spPr>
          <a:xfrm>
            <a:off x="1116000" y="333360"/>
            <a:ext cx="7128000" cy="5383080"/>
          </a:xfrm>
          <a:prstGeom prst="rect">
            <a:avLst/>
          </a:prstGeom>
          <a:ln w="0">
            <a:noFill/>
          </a:ln>
        </p:spPr>
      </p:pic>
      <p:sp>
        <p:nvSpPr>
          <p:cNvPr id="400" name="Line 4"/>
          <p:cNvSpPr/>
          <p:nvPr/>
        </p:nvSpPr>
        <p:spPr>
          <a:xfrm>
            <a:off x="4572000" y="3068640"/>
            <a:ext cx="71280" cy="280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j0315558"/>
          <p:cNvPicPr/>
          <p:nvPr/>
        </p:nvPicPr>
        <p:blipFill>
          <a:blip r:embed="rId1"/>
          <a:stretch/>
        </p:blipFill>
        <p:spPr>
          <a:xfrm>
            <a:off x="755640" y="260280"/>
            <a:ext cx="7632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5" descr="sp"/>
          <p:cNvPicPr/>
          <p:nvPr/>
        </p:nvPicPr>
        <p:blipFill>
          <a:blip r:embed="rId1"/>
          <a:stretch/>
        </p:blipFill>
        <p:spPr>
          <a:xfrm>
            <a:off x="1763640" y="549360"/>
            <a:ext cx="55278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14:34Z</dcterms:modified>
  <cp:revision>6</cp:revision>
  <dc:subject/>
  <dc:title>Зовнішній пристрій</dc:title>
</cp:coreProperties>
</file>