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E9CA-9C71-4D93-9B47-E348EE83C9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F8E1-3268-460C-A0D2-4C21E374B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66D1-1569-47F0-AF41-5397D5585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змір файлу дорівнює числу символів (включаючи керуючі), тобто у файлі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н символ займає 1 байт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TF (Rich Text Forma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ільний межплатформен-ний формат зберігання розмічених текстових документів, запропонова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іншими розробниками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, doc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Є виконуваним файлом, містить не тільки текстову інформацію, але й про формати, стилях документа і його елементів, записану на особливому внутрішньому мовою програмуванн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6316-BA66-4A2F-AA63-720FEF1358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E9A-2FEF-468F-B2DD-23E466AD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A1A-2EA6-4303-AF32-032DB76A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EE5-66B9-4ED6-84A1-9AFB7C22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270-F131-4682-B018-5AE25E60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FBEF-DFA3-4EB8-A504-7EEF5554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5FEC-029A-45CD-B9A4-CBF8EC37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A102-0107-4603-9875-F3520941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EB73-C30E-49BA-95F5-CD43978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FC11-4E72-478E-A8D3-C68387C5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7368-4083-4C53-8D87-7A537581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B673-3B92-4D94-A972-7CF7C49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B6E-ED1F-4EE1-8BBD-CDED172C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79F-6B5B-4702-B5B0-78E73E9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CAB6-D6AF-462A-9580-74FE2C3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87F8-5DAE-4F54-9793-7669D367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B2D2-A84F-492C-837E-F51086F8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EF39-9EE0-4BD6-9D29-66909A5A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DF28-3087-407B-B84B-C1B510F5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4DD8E-70C5-4F86-9E74-0974B9C3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63C6-662C-4612-B43E-D2706AEB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E7F1-4DCD-4403-B053-C1BF17FD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7AFF-9B5D-48CE-B745-19C298D3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723-8E48-4B08-B528-41A4C6BE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930C-2346-4C22-A447-59E57EFD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E925-17E4-4C18-B91F-07849D8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D0AA-CCE4-4574-AA4E-EED4319A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313D-D25A-4594-9246-E299E45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5CEB-87AD-4C60-AD54-0AEF990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C6B6-3F44-47CF-851E-BD54EE98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EFD8-9D12-47FE-B98C-EAC2C1E6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4BA2-F2E8-49E7-975B-5DA947B1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6B84-AACA-423F-8F23-7926DC9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E93C5-A8C4-4FCB-AB26-3892D41D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248-AB0A-47F1-B50D-635308C9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4E87-17B6-470F-A36F-8F809D86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C095-0284-4456-AABF-643DF3D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A0DC2-7417-4FCC-9A29-2D26C168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A0A0-B2D8-4A28-8466-BC9BAB6B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5F29-BC66-4D4B-A772-E85EE0B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DD5D-3979-4ECA-AE2F-18B1F19D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B365-930B-4DF7-903D-3B966082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DB34A-D1C0-4793-A77C-C496FAB3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2D2F-D17D-414D-ABA6-4640185E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71E2-25CA-4D79-B1DF-DACBA0B3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F42-2727-4DAF-B939-7029C1C7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CADA-74F2-468C-8DA7-7B3BA08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7855-9ABF-46C3-9646-E44316BB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95880-1A9A-4E79-AF98-53A8E030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6ED5-A536-49FB-94EF-962435F7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62BB3-D44C-45F5-A880-F027B623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3704-31C9-4DD6-99A4-7BAC89D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71C68-6D43-42AB-BEDF-4F8C185B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5A4F6-EA02-48EE-8B83-51E383C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849F-712B-4DE8-80D2-2FFA8EF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5063-2E66-4C11-872D-E83EA392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938-1A16-4E5E-AA59-42709612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4E7A-74FB-4B34-B7D0-B1B30917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7FCE3-DA53-450E-A4FC-DC1F9810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CD50-B91D-4C5D-9994-F13D76BE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D131-8AE5-4C21-B1B6-3BEFD173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DF970-5D23-4099-A5B6-E5C0D48B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A8933-58E0-490F-92E4-C60E9E5D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54C83-6EEE-4FBD-8A42-BB4A9E88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7775-E932-42DE-B1F3-0499769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A8F8-FA8F-4167-A945-EAC9F1D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83C8-A74B-4E9F-B3BE-1A2A8E2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002-6BC9-4784-AECB-A0400E15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02A9B-1E86-425C-A402-467E263F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0362-58EF-4BA1-88C3-059E51DE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7A7BB-D833-424F-971E-8E7190B1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4D7-A83B-4730-A7A6-D6CACC4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60F-3092-473B-BC32-3D8CFE9C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017F-2383-443C-BB77-C57D15246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44DF-C4B4-4608-BF7D-C2E7F774A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59A-E56D-4632-A94D-BCBF6D4C9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79A8-215D-4E00-9FA6-4B5D0B89CA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2BBE-A2AB-4257-B336-0EF548DEC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0CA6-7731-4814-9B7A-66C81340B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Призначення, класиф</a:t>
            </a:r>
            <a:r>
              <a:rPr b="1" lang="uk-UA" sz="4800" spc="-1" strike="noStrike">
                <a:solidFill>
                  <a:srgbClr val="562b71"/>
                </a:solidFill>
                <a:latin typeface="Calibri"/>
              </a:rPr>
              <a:t>і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кація і можливост</a:t>
            </a:r>
            <a:r>
              <a:rPr b="1" lang="uk-UA" sz="4800" spc="-1" strike="noStrike">
                <a:solidFill>
                  <a:srgbClr val="562b71"/>
                </a:solidFill>
                <a:latin typeface="Calibri"/>
              </a:rPr>
              <a:t>і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 систем обробки текстів.</a:t>
            </a:r>
            <a:br>
              <a:rPr sz="4800"/>
            </a:br>
            <a:r>
              <a:rPr b="1" lang="ru-RU" sz="5400" spc="-1" strike="noStrike">
                <a:solidFill>
                  <a:srgbClr val="562b71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562b71"/>
                </a:solidFill>
                <a:latin typeface="Calibri"/>
              </a:rPr>
              <a:t>Огляд середовища 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текстового процесора </a:t>
            </a:r>
            <a:r>
              <a:rPr b="1" lang="en-US" sz="4800" spc="-1" strike="noStrike">
                <a:solidFill>
                  <a:srgbClr val="562b71"/>
                </a:solidFill>
                <a:latin typeface="Tw Cen MT"/>
              </a:rPr>
              <a:t>Microsoft Word 2007</a:t>
            </a:r>
            <a:r>
              <a:rPr b="1" lang="ru-RU" sz="4800" spc="-1" strike="noStrike">
                <a:solidFill>
                  <a:srgbClr val="562b71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62b71"/>
                </a:solidFill>
                <a:latin typeface="Calibri"/>
              </a:rPr>
              <a:t>Вимоги до апаратної частини та ОС комп'ютера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0" y="1214280"/>
          <a:ext cx="9144000" cy="564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з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a2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Що потрібно м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a2d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ndows XP(SP2)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 пізні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аратна час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сор 500МГц, ОЗП оперативно запам’ятовуючий пристрій – 256МБ і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ісце на жорсткому дис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Г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дільна здат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Х600 і біл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9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ід'єднання до Інтерн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ація та завантаження додат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0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2b71"/>
                </a:solidFill>
                <a:latin typeface="Calibri"/>
              </a:rPr>
              <a:t>Що ми можемо робити у </a:t>
            </a:r>
            <a:r>
              <a:rPr b="1" lang="en-US" sz="2400" spc="-1" strike="noStrike">
                <a:solidFill>
                  <a:srgbClr val="562b71"/>
                </a:solidFill>
                <a:latin typeface="Tw Cen MT"/>
              </a:rPr>
              <a:t>Word 2007</a:t>
            </a:r>
            <a:r>
              <a:rPr b="1" lang="ru-RU" sz="2400" spc="-1" strike="noStrike">
                <a:solidFill>
                  <a:srgbClr val="562b71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32" name="Схема 3" descr=""/>
          <p:cNvPicPr/>
          <p:nvPr/>
        </p:nvPicPr>
        <p:blipFill>
          <a:blip r:embed="rId1"/>
          <a:stretch/>
        </p:blipFill>
        <p:spPr>
          <a:xfrm>
            <a:off x="0" y="444600"/>
            <a:ext cx="8858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2b71"/>
                </a:solidFill>
                <a:latin typeface="Calibri"/>
              </a:rPr>
              <a:t>Знайомство з </a:t>
            </a:r>
            <a:r>
              <a:rPr b="1" lang="en-US" sz="2800" spc="-1" strike="noStrike">
                <a:solidFill>
                  <a:srgbClr val="562b71"/>
                </a:solidFill>
                <a:latin typeface="Tw Cen MT"/>
              </a:rPr>
              <a:t>Microsoft Word 2007</a:t>
            </a:r>
            <a:endParaRPr b="0" lang="en-US" sz="28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35" name="Рисунок 3" descr="интерфейс_ворд.bmp"/>
          <p:cNvPicPr/>
          <p:nvPr/>
        </p:nvPicPr>
        <p:blipFill>
          <a:blip r:embed="rId1"/>
          <a:stretch/>
        </p:blipFill>
        <p:spPr>
          <a:xfrm>
            <a:off x="0" y="785880"/>
            <a:ext cx="8326440" cy="6000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336" name="Стрелка влево 6"/>
          <p:cNvSpPr/>
          <p:nvPr/>
        </p:nvSpPr>
        <p:spPr>
          <a:xfrm>
            <a:off x="5357880" y="71424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лево 7"/>
          <p:cNvSpPr/>
          <p:nvPr/>
        </p:nvSpPr>
        <p:spPr>
          <a:xfrm>
            <a:off x="5143680" y="928800"/>
            <a:ext cx="1500120" cy="428400"/>
          </a:xfrm>
          <a:prstGeom prst="leftArrow">
            <a:avLst>
              <a:gd name="adj1" fmla="val 50000"/>
              <a:gd name="adj2" fmla="val 50029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і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8"/>
          <p:cNvSpPr/>
          <p:nvPr/>
        </p:nvSpPr>
        <p:spPr>
          <a:xfrm>
            <a:off x="285840" y="1000080"/>
            <a:ext cx="4786200" cy="2142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9"/>
          <p:cNvSpPr/>
          <p:nvPr/>
        </p:nvSpPr>
        <p:spPr>
          <a:xfrm>
            <a:off x="0" y="1214280"/>
            <a:ext cx="8001000" cy="7146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трелка влево 10"/>
          <p:cNvSpPr/>
          <p:nvPr/>
        </p:nvSpPr>
        <p:spPr>
          <a:xfrm>
            <a:off x="7215120" y="1214280"/>
            <a:ext cx="192888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трелка влево 11"/>
          <p:cNvSpPr/>
          <p:nvPr/>
        </p:nvSpPr>
        <p:spPr>
          <a:xfrm>
            <a:off x="214200" y="28576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лево 12"/>
          <p:cNvSpPr/>
          <p:nvPr/>
        </p:nvSpPr>
        <p:spPr>
          <a:xfrm rot="5400000">
            <a:off x="1607040" y="2321640"/>
            <a:ext cx="928440" cy="428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3"/>
          <p:cNvSpPr/>
          <p:nvPr/>
        </p:nvSpPr>
        <p:spPr>
          <a:xfrm>
            <a:off x="1143000" y="2857680"/>
            <a:ext cx="2143080" cy="42840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іні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5"/>
          <p:cNvSpPr/>
          <p:nvPr/>
        </p:nvSpPr>
        <p:spPr>
          <a:xfrm>
            <a:off x="3429000" y="3571920"/>
            <a:ext cx="35002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лево 16"/>
          <p:cNvSpPr/>
          <p:nvPr/>
        </p:nvSpPr>
        <p:spPr>
          <a:xfrm rot="16200000">
            <a:off x="4893480" y="58222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лево 17"/>
          <p:cNvSpPr/>
          <p:nvPr/>
        </p:nvSpPr>
        <p:spPr>
          <a:xfrm rot="10800000">
            <a:off x="6791400" y="5097600"/>
            <a:ext cx="1533600" cy="49824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8"/>
          <p:cNvSpPr/>
          <p:nvPr/>
        </p:nvSpPr>
        <p:spPr>
          <a:xfrm>
            <a:off x="3143160" y="5214960"/>
            <a:ext cx="407196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9"/>
          <p:cNvSpPr/>
          <p:nvPr/>
        </p:nvSpPr>
        <p:spPr>
          <a:xfrm>
            <a:off x="2143080" y="6572160"/>
            <a:ext cx="371484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2b71"/>
                </a:solidFill>
                <a:latin typeface="Calibri"/>
              </a:rPr>
              <a:t>Формати файлів документів</a:t>
            </a:r>
            <a:endParaRPr b="0" lang="en-US" sz="3200" spc="-1" strike="noStrike">
              <a:solidFill>
                <a:srgbClr val="562b71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000080" y="714240"/>
          <a:ext cx="7048440" cy="5535720"/>
        </p:xfrm>
        <a:graphic>
          <a:graphicData uri="http://schemas.openxmlformats.org/drawingml/2006/table">
            <a:tbl>
              <a:tblPr/>
              <a:tblGrid>
                <a:gridCol w="1619280"/>
                <a:gridCol w="5429160"/>
              </a:tblGrid>
              <a:tr h="64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ичайний текс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розбиттям на абзаци і без їх властив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тований текст у формат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T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умен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екст, малюнки, вставлені об’єкти, значення їх властив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умен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блон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аблон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,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сторі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62b71"/>
                </a:solidFill>
                <a:latin typeface="Calibri"/>
              </a:rPr>
              <a:t>Огляд середовища  процесора </a:t>
            </a:r>
            <a:r>
              <a:rPr b="0" lang="en-US" sz="4000" spc="-1" strike="noStrike">
                <a:solidFill>
                  <a:srgbClr val="562b71"/>
                </a:solidFill>
                <a:latin typeface="Tw Cen MT"/>
              </a:rPr>
              <a:t>Word.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755640" y="1855800"/>
            <a:ext cx="597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вантаження текстового процесо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ловне вікно текстового процес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ворення, відкриття, редагування та збереження текст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ання довідкової систе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2b71"/>
                </a:solidFill>
                <a:latin typeface="Calibri"/>
              </a:rPr>
              <a:t>Використані джерела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ru.wikipedia.org/w/index.ph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ru.openoffice.org/about-downloads.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www.ixbt.com/soft/texteditors-4.shtm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sountien.com/index.php?showtopic=3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www.pspad.com/ru/pspad.ht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100000"/>
              </a:lnSpc>
              <a:spcBef>
                <a:spcPts val="751"/>
              </a:spcBef>
              <a:buClr>
                <a:srgbClr val="6ba2df"/>
              </a:buClr>
              <a:buSzPct val="9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http://www.kursiv.ru/kursivnew/kursiv_magazine/archive/61/52.ph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24000" y="4042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78cc"/>
                </a:solidFill>
                <a:latin typeface="Calibri"/>
              </a:rPr>
              <a:t>Оцініть у відсотках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икористання різних видів інформації у навчанні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(в сумі 100%)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Текстова + числов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рафичн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вукова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ідео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Диаграмма 3"/>
          <p:cNvGraphicFramePr/>
          <p:nvPr/>
        </p:nvGraphicFramePr>
        <p:xfrm>
          <a:off x="4680" y="115920"/>
          <a:ext cx="8948880" cy="62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15920"/>
                    <a:ext cx="894888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4436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2b71"/>
                </a:solidFill>
                <a:latin typeface="Calibri"/>
              </a:rPr>
              <a:t>Класифікація програм для роботи з текстом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4" name="Прямоугольник с двумя скругленными противолежащими углами 4"/>
          <p:cNvSpPr/>
          <p:nvPr/>
        </p:nvSpPr>
        <p:spPr>
          <a:xfrm>
            <a:off x="285840" y="1285920"/>
            <a:ext cx="2571840" cy="127944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Текстові реда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с двумя скругленными противолежащими углами 5"/>
          <p:cNvSpPr/>
          <p:nvPr/>
        </p:nvSpPr>
        <p:spPr>
          <a:xfrm>
            <a:off x="214200" y="4857840"/>
            <a:ext cx="2643480" cy="10713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Видавничі сис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с двумя скругленными противолежащими углами 6"/>
          <p:cNvSpPr/>
          <p:nvPr/>
        </p:nvSpPr>
        <p:spPr>
          <a:xfrm>
            <a:off x="214200" y="3071880"/>
            <a:ext cx="2643480" cy="114912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Текстові проце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трелка вправо 7"/>
          <p:cNvSpPr/>
          <p:nvPr/>
        </p:nvSpPr>
        <p:spPr>
          <a:xfrm>
            <a:off x="3071880" y="1757520"/>
            <a:ext cx="571320" cy="428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трелка вправо 9"/>
          <p:cNvSpPr/>
          <p:nvPr/>
        </p:nvSpPr>
        <p:spPr>
          <a:xfrm>
            <a:off x="3071880" y="34290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трелка вправо 10"/>
          <p:cNvSpPr/>
          <p:nvPr/>
        </p:nvSpPr>
        <p:spPr>
          <a:xfrm>
            <a:off x="3086280" y="50832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1"/>
          <p:cNvSpPr/>
          <p:nvPr/>
        </p:nvSpPr>
        <p:spPr>
          <a:xfrm>
            <a:off x="3786120" y="1328760"/>
            <a:ext cx="5143680" cy="128592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Це програми , що дозволяють вводити , редагувати, форматувати та зберігати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3"/>
          <p:cNvSpPr/>
          <p:nvPr/>
        </p:nvSpPr>
        <p:spPr>
          <a:xfrm>
            <a:off x="3857760" y="2963880"/>
            <a:ext cx="5072040" cy="13572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Це програма, що дозволяє вводити редагувати й форматувати текс, вставляти малюнки й таблиці, перевіряти правопис, складати зміст, воконувати перенос слів та багато інших складних опера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5"/>
          <p:cNvSpPr/>
          <p:nvPr/>
        </p:nvSpPr>
        <p:spPr>
          <a:xfrm>
            <a:off x="3857760" y="4726080"/>
            <a:ext cx="5072040" cy="11430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це програми, за допомогою якої можна створювати високоякісні оригінальні макети, що містять текс і графічні зображення для тиражування в  друкар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62b71"/>
                </a:solidFill>
                <a:latin typeface="Calibri"/>
              </a:rPr>
              <a:t>Наприклад: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овi редактори (Multi_Edit, Блокнот, WordPad, Твiр, Лексикон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ов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ори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(Microsoft Word, Word Prefect, OpenOffice, Word_Star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ьн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внич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и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(Adobe PageMaker, Corel Ventura, Publisher, QuarkXPress,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62b71"/>
                </a:solidFill>
                <a:latin typeface="Calibri"/>
              </a:rPr>
              <a:t>Класификація текстових процесорів</a:t>
            </a:r>
            <a:endParaRPr b="0" lang="en-US" sz="36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296" name="Схема 2" descr=""/>
          <p:cNvPicPr/>
          <p:nvPr/>
        </p:nvPicPr>
        <p:blipFill>
          <a:blip r:embed="rId1"/>
          <a:stretch/>
        </p:blipFill>
        <p:spPr>
          <a:xfrm>
            <a:off x="-60480" y="1395360"/>
            <a:ext cx="922356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Схема 7" descr=""/>
          <p:cNvPicPr/>
          <p:nvPr/>
        </p:nvPicPr>
        <p:blipFill>
          <a:blip r:embed="rId1"/>
          <a:stretch/>
        </p:blipFill>
        <p:spPr>
          <a:xfrm>
            <a:off x="0" y="212760"/>
            <a:ext cx="9150480" cy="664524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2084760" y="21420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ожливості текстових редакт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819000" y="1125360"/>
            <a:ext cx="6912000" cy="5256360"/>
          </a:xfrm>
          <a:prstGeom prst="rect">
            <a:avLst/>
          </a:prstGeom>
          <a:ln w="0">
            <a:noFill/>
          </a:ln>
        </p:spPr>
      </p:pic>
      <p:sp>
        <p:nvSpPr>
          <p:cNvPr id="300" name="Стрелка влево 2"/>
          <p:cNvSpPr/>
          <p:nvPr/>
        </p:nvSpPr>
        <p:spPr>
          <a:xfrm>
            <a:off x="4275000" y="987480"/>
            <a:ext cx="2357640" cy="42840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176364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Текстовий редактор «Блокн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3571920"/>
            <a:ext cx="35002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3143160" y="5214960"/>
            <a:ext cx="407196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трелка влево 6"/>
          <p:cNvSpPr/>
          <p:nvPr/>
        </p:nvSpPr>
        <p:spPr>
          <a:xfrm rot="10800000">
            <a:off x="6024600" y="5108040"/>
            <a:ext cx="1533600" cy="4986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трелка влево 7"/>
          <p:cNvSpPr/>
          <p:nvPr/>
        </p:nvSpPr>
        <p:spPr>
          <a:xfrm>
            <a:off x="2556000" y="135396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2b71"/>
                </a:solidFill>
                <a:latin typeface="Calibri"/>
              </a:rPr>
              <a:t>Історія</a:t>
            </a:r>
            <a:r>
              <a:rPr b="1" lang="en-US" sz="4000" spc="-1" strike="noStrike">
                <a:solidFill>
                  <a:srgbClr val="562b71"/>
                </a:solidFill>
                <a:latin typeface="Tw Cen MT"/>
              </a:rPr>
              <a:t>Word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07" name="Picture 2" descr="Splash in Microsoft Word 1.1"/>
          <p:cNvPicPr/>
          <p:nvPr/>
        </p:nvPicPr>
        <p:blipFill>
          <a:blip r:embed="rId1"/>
          <a:stretch/>
        </p:blipFill>
        <p:spPr>
          <a:xfrm>
            <a:off x="3429000" y="571680"/>
            <a:ext cx="3214800" cy="20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Splash in Microsoft Word 2.0"/>
          <p:cNvPicPr/>
          <p:nvPr/>
        </p:nvPicPr>
        <p:blipFill>
          <a:blip r:embed="rId2"/>
          <a:stretch/>
        </p:blipFill>
        <p:spPr>
          <a:xfrm>
            <a:off x="3786120" y="928800"/>
            <a:ext cx="3214800" cy="2627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Splash in Microsoft Word 5.0"/>
          <p:cNvPicPr/>
          <p:nvPr/>
        </p:nvPicPr>
        <p:blipFill>
          <a:blip r:embed="rId3"/>
          <a:stretch/>
        </p:blipFill>
        <p:spPr>
          <a:xfrm>
            <a:off x="4000680" y="1143000"/>
            <a:ext cx="2724120" cy="17622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с двумя скругленными противолежащими углами 6"/>
          <p:cNvSpPr/>
          <p:nvPr/>
        </p:nvSpPr>
        <p:spPr>
          <a:xfrm>
            <a:off x="428760" y="642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0 в.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с двумя скругленными противолежащими углами 7"/>
          <p:cNvSpPr/>
          <p:nvPr/>
        </p:nvSpPr>
        <p:spPr>
          <a:xfrm>
            <a:off x="428760" y="1214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1 в.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с двумя скругленными противолежащими углами 8"/>
          <p:cNvSpPr/>
          <p:nvPr/>
        </p:nvSpPr>
        <p:spPr>
          <a:xfrm>
            <a:off x="428760" y="1785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3 в.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Splash in Microsoft Word 6.0"/>
          <p:cNvPicPr/>
          <p:nvPr/>
        </p:nvPicPr>
        <p:blipFill>
          <a:blip r:embed="rId4"/>
          <a:stretch/>
        </p:blipFill>
        <p:spPr>
          <a:xfrm>
            <a:off x="3714840" y="1357200"/>
            <a:ext cx="4800600" cy="31622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с двумя скругленными противолежащими углами 10"/>
          <p:cNvSpPr/>
          <p:nvPr/>
        </p:nvSpPr>
        <p:spPr>
          <a:xfrm>
            <a:off x="428760" y="2357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3 в.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0" descr="Splash in Microsoft Word 95"/>
          <p:cNvPicPr/>
          <p:nvPr/>
        </p:nvPicPr>
        <p:blipFill>
          <a:blip r:embed="rId5"/>
          <a:stretch/>
        </p:blipFill>
        <p:spPr>
          <a:xfrm>
            <a:off x="4000680" y="1785960"/>
            <a:ext cx="4686120" cy="26956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с двумя скругленными противолежащими углами 12"/>
          <p:cNvSpPr/>
          <p:nvPr/>
        </p:nvSpPr>
        <p:spPr>
          <a:xfrm>
            <a:off x="428760" y="2928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5 в.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2" descr="Splash in Microsoft Word 97"/>
          <p:cNvPicPr/>
          <p:nvPr/>
        </p:nvPicPr>
        <p:blipFill>
          <a:blip r:embed="rId6"/>
          <a:stretch/>
        </p:blipFill>
        <p:spPr>
          <a:xfrm>
            <a:off x="4214880" y="2143080"/>
            <a:ext cx="3809880" cy="23526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с двумя скругленными противолежащими углами 14"/>
          <p:cNvSpPr/>
          <p:nvPr/>
        </p:nvSpPr>
        <p:spPr>
          <a:xfrm>
            <a:off x="428760" y="3500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1997 в.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4" descr="Splash in Microsoft Word 2000"/>
          <p:cNvPicPr/>
          <p:nvPr/>
        </p:nvPicPr>
        <p:blipFill>
          <a:blip r:embed="rId7"/>
          <a:stretch/>
        </p:blipFill>
        <p:spPr>
          <a:xfrm>
            <a:off x="4429080" y="2500200"/>
            <a:ext cx="3809880" cy="235296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с двумя скругленными противолежащими углами 16"/>
          <p:cNvSpPr/>
          <p:nvPr/>
        </p:nvSpPr>
        <p:spPr>
          <a:xfrm>
            <a:off x="428760" y="4071960"/>
            <a:ext cx="264312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0 в.9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с двумя скругленными противолежащими углами 17"/>
          <p:cNvSpPr/>
          <p:nvPr/>
        </p:nvSpPr>
        <p:spPr>
          <a:xfrm>
            <a:off x="428760" y="4643280"/>
            <a:ext cx="264312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1 в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с двумя скругленными противолежащими углами 18"/>
          <p:cNvSpPr/>
          <p:nvPr/>
        </p:nvSpPr>
        <p:spPr>
          <a:xfrm>
            <a:off x="357120" y="5214960"/>
            <a:ext cx="271476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3 в.1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6" descr="Splash in Microsoft Word XP"/>
          <p:cNvPicPr/>
          <p:nvPr/>
        </p:nvPicPr>
        <p:blipFill>
          <a:blip r:embed="rId8"/>
          <a:stretch/>
        </p:blipFill>
        <p:spPr>
          <a:xfrm>
            <a:off x="4714920" y="264312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8" descr="Splash in Microsoft Word 2003"/>
          <p:cNvPicPr/>
          <p:nvPr/>
        </p:nvPicPr>
        <p:blipFill>
          <a:blip r:embed="rId9"/>
          <a:stretch/>
        </p:blipFill>
        <p:spPr>
          <a:xfrm>
            <a:off x="4643280" y="3071880"/>
            <a:ext cx="4038840" cy="211464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с двумя скругленными противолежащими углами 23"/>
          <p:cNvSpPr/>
          <p:nvPr/>
        </p:nvSpPr>
        <p:spPr>
          <a:xfrm>
            <a:off x="357120" y="5786280"/>
            <a:ext cx="2714760" cy="50040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07 в.1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с двумя скругленными противолежащими углами 24"/>
          <p:cNvSpPr/>
          <p:nvPr/>
        </p:nvSpPr>
        <p:spPr>
          <a:xfrm>
            <a:off x="357120" y="6357960"/>
            <a:ext cx="2714760" cy="500040"/>
          </a:xfrm>
          <a:prstGeom prst="pie">
            <a:avLst/>
          </a:prstGeom>
          <a:solidFill>
            <a:srgbClr val="b3a2c7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Calibri"/>
              </a:rPr>
              <a:t>2010 в.1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2" descr="Новые возможности Office 2010"/>
          <p:cNvPicPr/>
          <p:nvPr/>
        </p:nvPicPr>
        <p:blipFill>
          <a:blip r:embed="rId10"/>
          <a:stretch/>
        </p:blipFill>
        <p:spPr>
          <a:xfrm>
            <a:off x="4929120" y="3286080"/>
            <a:ext cx="4000680" cy="333396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25" descr="2007.bmp"/>
          <p:cNvPicPr/>
          <p:nvPr/>
        </p:nvPicPr>
        <p:blipFill>
          <a:blip r:embed="rId11"/>
          <a:stretch/>
        </p:blipFill>
        <p:spPr>
          <a:xfrm>
            <a:off x="3214800" y="2500200"/>
            <a:ext cx="4746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19:49Z</dcterms:created>
  <dc:creator>Pupil4</dc:creator>
  <dc:description/>
  <dc:language>en-US</dc:language>
  <cp:lastModifiedBy>maria</cp:lastModifiedBy>
  <dcterms:modified xsi:type="dcterms:W3CDTF">2013-03-18T12:46:14Z</dcterms:modified>
  <cp:revision>128</cp:revision>
  <dc:subject/>
  <dc:title>Слайд 1</dc:title>
</cp:coreProperties>
</file>