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919-2E0B-4004-8C72-A6683C8363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6705-0D6A-41D0-BD3C-1CDA33EAF5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F3E5-D15F-4031-8BA0-366241C3CB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змір файлу дорівнює числу символів (включаючи керуючі), тобто у файлі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н символ займає 1 байт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TF (Rich Text Forma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ільний межплатформен-ний формат зберігання розмічених текстових документів, запропонова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іншими розробниками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, doc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Є виконуваним файлом, містить не тільки текстову інформацію, але й про формати, стилях документа і його елементів, записану на особливому внутрішньому мовою програмуванн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3D33-8EC8-4BFD-98BC-54F044665B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B50-096E-4680-A94D-D880FC52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D02-8204-422A-9905-7922FEAD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8C4-64AE-488A-9AF1-F62A8CEC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FC8-81BF-4A46-B854-F5D3851E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F057-9A14-4E8B-840C-86E898CD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B7CB-AC70-4EB3-BA26-7A30865B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10F9-0A8A-4539-AEEB-C1608CD4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9DF8-D062-4E9E-8B1E-9F0E605D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5C97-77EA-4032-905A-DD32A32B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EC8E-075F-423A-BED6-AC51DA60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3B3D-9963-4A4B-91D5-A19A7A2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5A9-AF27-4BFA-AB89-859CE477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7B24-C6E5-47C5-B3E1-D934A25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7F41-562B-4603-82BE-9E2DCF3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6760-2466-400E-833D-B36DED5F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F145-3B13-4590-9065-89546AA5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224-3F54-42CD-A08F-5E24A614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C23C-02DF-4955-80C4-8C34870D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BABC-87AA-45D6-AEBD-DC4B3B9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537C-F843-47FA-A94C-6669387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E018-5A51-4437-9F29-E78F5A4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9DB6-2C61-4AE5-B064-F6DE9CAB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A7B-7D48-47C5-8E8B-48D4AD38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D649-FD66-4CC5-B1CE-7D85920B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AD01-5050-4A3C-8F4C-D0CD39D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5604-94AC-4655-AA47-196F7B7D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0DF5-6BFB-41CA-A80F-91716E54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101D-F2C7-4EB6-8384-CF81BFB6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5E7E-A8D3-48A0-A19C-9C34937C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FA61-1E9F-47D3-80D3-2193C53F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6E63-5C1B-433F-858B-7C051FF4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AD63-98F6-4651-BF86-252BFB4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CAE7-4199-4DB2-B7CF-FB887BF8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26C-7D8C-4D8D-B8A2-4BD2E34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507F-7CAE-4968-BF6F-30D722C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0287-1FC9-4844-BC45-6B0F72C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2C7C-C348-4682-BAAB-AFF3D94E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A7E6-3854-4199-BAB3-1475F29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B1E6-0971-494A-9DEA-20FEEF28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CC52-6187-4FD2-85FB-75033D1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508B-0A7C-4C5F-8BE7-6CF90BA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326D-CD6B-4511-8735-EAED1D22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ABF4-03B9-443B-A5C2-0410E52B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85C8-06E6-45BB-A475-28360311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4FE-8AD2-402A-9D03-5A9AA66C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B02C-89D1-4BFF-A323-466E65CD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E1C73-72BF-4054-A82B-C1BBD799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41CB-1925-4FED-8574-2688C3B1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D5E9-0515-4343-930F-AF5867C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180F-0420-4017-AEA3-F14A2472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EFC3-F787-4C5D-A2CC-04FC529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4D44-3A81-4CDC-8FA1-47B226D2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DCC1-5B09-4AD4-8945-B5A1A25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A0B04-421E-4BB7-B0B3-4C0179BF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5BFA1-EC81-48F1-8E25-8900FBC9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F0A-9513-4B11-A311-7C861B35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ECE2B-C968-40BB-9CAE-CA7B41B6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69365-9AC7-4345-B976-933824F0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FE6B7-A95B-4150-AC44-F8D99D38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B91F1-8A8A-411E-B453-3896D1E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6186-9E38-4D3B-8805-3E0C879A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42DEB-FE4D-4318-BB65-A013E77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70C5-F582-45B6-BC50-442AE4D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F931-170E-44B1-B415-4F15797B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A1CC-F01F-4013-88C6-60559B24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481B-EC5D-447C-9134-8397E16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EF8-F3FD-4601-8A52-C257575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846A-35A7-41AB-8886-8FDE1B6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3FB17-CCEB-43DD-B174-7075B2DB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3D98-6332-4257-A162-FC241569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C61-2068-4958-896B-D920057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7F2-552A-4EAA-BB5A-8A4D9C8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274-2FAB-47EC-812F-43C7C5DC2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CA81-29CD-40AC-96BE-46FB01E7E6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091-4B1D-47FF-8337-F2DC804AA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4BC-6E0B-4532-8337-4D6E1DB84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3B61-8769-4C91-BAD9-7FE274FDF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7901-93AE-402C-96C1-D7D83522F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Призначення, класиф</a:t>
            </a:r>
            <a:r>
              <a:rPr b="1" lang="uk-UA" sz="4800" spc="-1" strike="noStrike">
                <a:solidFill>
                  <a:srgbClr val="562b71"/>
                </a:solidFill>
                <a:latin typeface="Calibri"/>
              </a:rPr>
              <a:t>і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кація і можливост</a:t>
            </a:r>
            <a:r>
              <a:rPr b="1" lang="uk-UA" sz="4800" spc="-1" strike="noStrike">
                <a:solidFill>
                  <a:srgbClr val="562b71"/>
                </a:solidFill>
                <a:latin typeface="Calibri"/>
              </a:rPr>
              <a:t>і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 систем обробки текстів.</a:t>
            </a:r>
            <a:br>
              <a:rPr sz="4800"/>
            </a:br>
            <a:r>
              <a:rPr b="1" lang="ru-RU" sz="5400" spc="-1" strike="noStrike">
                <a:solidFill>
                  <a:srgbClr val="562b71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562b71"/>
                </a:solidFill>
                <a:latin typeface="Calibri"/>
              </a:rPr>
              <a:t>Огляд середовища 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текстового процесора </a:t>
            </a:r>
            <a:r>
              <a:rPr b="1" lang="en-US" sz="4800" spc="-1" strike="noStrike">
                <a:solidFill>
                  <a:srgbClr val="562b71"/>
                </a:solidFill>
                <a:latin typeface="Tw Cen MT"/>
              </a:rPr>
              <a:t>Microsoft Word 2007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62b71"/>
                </a:solidFill>
                <a:latin typeface="Calibri"/>
              </a:rPr>
              <a:t>Вимоги до апаратної частини та ОС комп'ютера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0" y="1214280"/>
          <a:ext cx="9144000" cy="564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з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a2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Що потрібно м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a2d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ndows XP(SP2)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 пізні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аратна час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сор 500МГц, ОЗП оперативно запам’ятовуючий пристрій – 256МБ і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ісце на жорсткому дис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Г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дільна здат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Х600 і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ід'єднання до Інтерн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ація та завантаження додат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2b71"/>
                </a:solidFill>
                <a:latin typeface="Calibri"/>
              </a:rPr>
              <a:t>Що ми можемо робити у </a:t>
            </a:r>
            <a:r>
              <a:rPr b="1" lang="en-US" sz="2400" spc="-1" strike="noStrike">
                <a:solidFill>
                  <a:srgbClr val="562b71"/>
                </a:solidFill>
                <a:latin typeface="Tw Cen MT"/>
              </a:rPr>
              <a:t>Word 2007</a:t>
            </a:r>
            <a:r>
              <a:rPr b="1" lang="ru-RU" sz="2400" spc="-1" strike="noStrike">
                <a:solidFill>
                  <a:srgbClr val="562b71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32" name="Схема 3" descr=""/>
          <p:cNvPicPr/>
          <p:nvPr/>
        </p:nvPicPr>
        <p:blipFill>
          <a:blip r:embed="rId1"/>
          <a:stretch/>
        </p:blipFill>
        <p:spPr>
          <a:xfrm>
            <a:off x="0" y="444600"/>
            <a:ext cx="8858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Calibri"/>
              </a:rPr>
              <a:t>Знайомство з </a:t>
            </a:r>
            <a:r>
              <a:rPr b="1" lang="en-US" sz="2800" spc="-1" strike="noStrike">
                <a:solidFill>
                  <a:srgbClr val="562b71"/>
                </a:solidFill>
                <a:latin typeface="Tw Cen MT"/>
              </a:rPr>
              <a:t>Microsoft Word 2007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35" name="Рисунок 3" descr="интерфейс_ворд.bmp"/>
          <p:cNvPicPr/>
          <p:nvPr/>
        </p:nvPicPr>
        <p:blipFill>
          <a:blip r:embed="rId1"/>
          <a:stretch/>
        </p:blipFill>
        <p:spPr>
          <a:xfrm>
            <a:off x="0" y="785880"/>
            <a:ext cx="8326440" cy="6000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336" name="Стрелка влево 6"/>
          <p:cNvSpPr/>
          <p:nvPr/>
        </p:nvSpPr>
        <p:spPr>
          <a:xfrm>
            <a:off x="5357880" y="71424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лево 7"/>
          <p:cNvSpPr/>
          <p:nvPr/>
        </p:nvSpPr>
        <p:spPr>
          <a:xfrm>
            <a:off x="5143680" y="928800"/>
            <a:ext cx="1500120" cy="428400"/>
          </a:xfrm>
          <a:prstGeom prst="leftArrow">
            <a:avLst>
              <a:gd name="adj1" fmla="val 50000"/>
              <a:gd name="adj2" fmla="val 50029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і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8"/>
          <p:cNvSpPr/>
          <p:nvPr/>
        </p:nvSpPr>
        <p:spPr>
          <a:xfrm>
            <a:off x="285840" y="1000080"/>
            <a:ext cx="4786200" cy="2142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"/>
          <p:cNvSpPr/>
          <p:nvPr/>
        </p:nvSpPr>
        <p:spPr>
          <a:xfrm>
            <a:off x="0" y="1214280"/>
            <a:ext cx="8001000" cy="7146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лево 10"/>
          <p:cNvSpPr/>
          <p:nvPr/>
        </p:nvSpPr>
        <p:spPr>
          <a:xfrm>
            <a:off x="7215120" y="1214280"/>
            <a:ext cx="192888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трелка влево 11"/>
          <p:cNvSpPr/>
          <p:nvPr/>
        </p:nvSpPr>
        <p:spPr>
          <a:xfrm>
            <a:off x="214200" y="28576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лево 12"/>
          <p:cNvSpPr/>
          <p:nvPr/>
        </p:nvSpPr>
        <p:spPr>
          <a:xfrm rot="5400000">
            <a:off x="1607040" y="2321640"/>
            <a:ext cx="928440" cy="428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3"/>
          <p:cNvSpPr/>
          <p:nvPr/>
        </p:nvSpPr>
        <p:spPr>
          <a:xfrm>
            <a:off x="1143000" y="2857680"/>
            <a:ext cx="2143080" cy="42840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іні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5"/>
          <p:cNvSpPr/>
          <p:nvPr/>
        </p:nvSpPr>
        <p:spPr>
          <a:xfrm>
            <a:off x="3429000" y="3571920"/>
            <a:ext cx="35002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лево 16"/>
          <p:cNvSpPr/>
          <p:nvPr/>
        </p:nvSpPr>
        <p:spPr>
          <a:xfrm rot="16200000">
            <a:off x="4893480" y="58222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лево 17"/>
          <p:cNvSpPr/>
          <p:nvPr/>
        </p:nvSpPr>
        <p:spPr>
          <a:xfrm rot="10800000">
            <a:off x="6791400" y="5097600"/>
            <a:ext cx="1533600" cy="49824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8"/>
          <p:cNvSpPr/>
          <p:nvPr/>
        </p:nvSpPr>
        <p:spPr>
          <a:xfrm>
            <a:off x="3143160" y="5214960"/>
            <a:ext cx="407196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9"/>
          <p:cNvSpPr/>
          <p:nvPr/>
        </p:nvSpPr>
        <p:spPr>
          <a:xfrm>
            <a:off x="2143080" y="6572160"/>
            <a:ext cx="371484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2b71"/>
                </a:solidFill>
                <a:latin typeface="Calibri"/>
              </a:rPr>
              <a:t>Формати файлів документів</a:t>
            </a:r>
            <a:endParaRPr b="0" lang="en-US" sz="3200" spc="-1" strike="noStrike">
              <a:solidFill>
                <a:srgbClr val="562b71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00080" y="714240"/>
          <a:ext cx="7048440" cy="5535720"/>
        </p:xfrm>
        <a:graphic>
          <a:graphicData uri="http://schemas.openxmlformats.org/drawingml/2006/table">
            <a:tbl>
              <a:tblPr/>
              <a:tblGrid>
                <a:gridCol w="1619280"/>
                <a:gridCol w="5429160"/>
              </a:tblGrid>
              <a:tr h="64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ичайний текс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розбиттям на абзаци і без їх властив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тований текст у формат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T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умен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екст, малюнки, вставлені об’єкти, значення їх властив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умен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блон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блон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,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сторі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62b71"/>
                </a:solidFill>
                <a:latin typeface="Calibri"/>
              </a:rPr>
              <a:t>Огляд середовища  процесора </a:t>
            </a:r>
            <a:r>
              <a:rPr b="0" lang="en-US" sz="4000" spc="-1" strike="noStrike">
                <a:solidFill>
                  <a:srgbClr val="562b71"/>
                </a:solidFill>
                <a:latin typeface="Tw Cen MT"/>
              </a:rPr>
              <a:t>Word.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755640" y="1855800"/>
            <a:ext cx="59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вантаження текстового процесо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ловне вікно текстового процес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ення, відкриття, редагування та збереження текст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ання довідкової 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2b71"/>
                </a:solidFill>
                <a:latin typeface="Calibri"/>
              </a:rPr>
              <a:t>Використані джерела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ru.wikipedia.org/w/index.ph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ru.openoffice.org/about-downloads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www.ixbt.com/soft/texteditors-4.s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sountien.com/index.php?showtopic=3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www.pspad.com/ru/pspad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www.kursiv.ru/kursivnew/kursiv_magazine/archive/61/52.ph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24000" y="4042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78cc"/>
                </a:solidFill>
                <a:latin typeface="Calibri"/>
              </a:rPr>
              <a:t>Оцініть у відсотка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икористання різних видів інформації у навчанні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(в сумі 100%)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Текстова + числов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рафичн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вуков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ідео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Диаграмма 3"/>
          <p:cNvGraphicFramePr/>
          <p:nvPr/>
        </p:nvGraphicFramePr>
        <p:xfrm>
          <a:off x="4680" y="115920"/>
          <a:ext cx="8948880" cy="62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15920"/>
                    <a:ext cx="894888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4436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2b71"/>
                </a:solidFill>
                <a:latin typeface="Calibri"/>
              </a:rPr>
              <a:t>Класифікація програм для роботи з текстом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4" name="Прямоугольник с двумя скругленными противолежащими углами 4"/>
          <p:cNvSpPr/>
          <p:nvPr/>
        </p:nvSpPr>
        <p:spPr>
          <a:xfrm>
            <a:off x="285840" y="1285920"/>
            <a:ext cx="2571840" cy="127944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Текстові реда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с двумя скругленными противолежащими углами 5"/>
          <p:cNvSpPr/>
          <p:nvPr/>
        </p:nvSpPr>
        <p:spPr>
          <a:xfrm>
            <a:off x="214200" y="4857840"/>
            <a:ext cx="2643480" cy="10713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Видавничі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с двумя скругленными противолежащими углами 6"/>
          <p:cNvSpPr/>
          <p:nvPr/>
        </p:nvSpPr>
        <p:spPr>
          <a:xfrm>
            <a:off x="214200" y="3071880"/>
            <a:ext cx="2643480" cy="114912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Текстові проце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трелка вправо 7"/>
          <p:cNvSpPr/>
          <p:nvPr/>
        </p:nvSpPr>
        <p:spPr>
          <a:xfrm>
            <a:off x="3071880" y="1757520"/>
            <a:ext cx="571320" cy="428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трелка вправо 9"/>
          <p:cNvSpPr/>
          <p:nvPr/>
        </p:nvSpPr>
        <p:spPr>
          <a:xfrm>
            <a:off x="3071880" y="34290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трелка вправо 10"/>
          <p:cNvSpPr/>
          <p:nvPr/>
        </p:nvSpPr>
        <p:spPr>
          <a:xfrm>
            <a:off x="3086280" y="50832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1"/>
          <p:cNvSpPr/>
          <p:nvPr/>
        </p:nvSpPr>
        <p:spPr>
          <a:xfrm>
            <a:off x="3786120" y="1328760"/>
            <a:ext cx="5143680" cy="128592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Це програми , що дозволяють вводити , редагувати, форматувати та зберігати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3"/>
          <p:cNvSpPr/>
          <p:nvPr/>
        </p:nvSpPr>
        <p:spPr>
          <a:xfrm>
            <a:off x="3857760" y="2963880"/>
            <a:ext cx="5072040" cy="13572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Це програма, що дозволяє вводити редагувати й форматувати текс, вставляти малюнки й таблиці, перевіряти правопис, складати зміст, воконувати перенос слів та багато інших складних опера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5"/>
          <p:cNvSpPr/>
          <p:nvPr/>
        </p:nvSpPr>
        <p:spPr>
          <a:xfrm>
            <a:off x="3857760" y="4726080"/>
            <a:ext cx="5072040" cy="11430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це програми, за допомогою якої можна створювати високоякісні оригінальні макети, що містять текс і графічні зображення для тиражування в  друкар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62b71"/>
                </a:solidFill>
                <a:latin typeface="Calibri"/>
              </a:rPr>
              <a:t>Наприклад: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овi редактори (Multi_Edit, Блокнот, WordPad, Твiр, Лексикон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ов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ори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(Microsoft Word, Word Prefect, OpenOffice, Word_Star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ьн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внич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и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(Adobe PageMaker, Corel Ventura, Publisher, QuarkXPress,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2b71"/>
                </a:solidFill>
                <a:latin typeface="Calibri"/>
              </a:rPr>
              <a:t>Класификація текстових процесорів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296" name="Схема 2" descr=""/>
          <p:cNvPicPr/>
          <p:nvPr/>
        </p:nvPicPr>
        <p:blipFill>
          <a:blip r:embed="rId1"/>
          <a:stretch/>
        </p:blipFill>
        <p:spPr>
          <a:xfrm>
            <a:off x="-60480" y="1395360"/>
            <a:ext cx="922356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Схема 7" descr=""/>
          <p:cNvPicPr/>
          <p:nvPr/>
        </p:nvPicPr>
        <p:blipFill>
          <a:blip r:embed="rId1"/>
          <a:stretch/>
        </p:blipFill>
        <p:spPr>
          <a:xfrm>
            <a:off x="0" y="212760"/>
            <a:ext cx="9150480" cy="664524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2084760" y="21420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ожливості текстових редакт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819000" y="1125360"/>
            <a:ext cx="6912000" cy="5256360"/>
          </a:xfrm>
          <a:prstGeom prst="rect">
            <a:avLst/>
          </a:prstGeom>
          <a:ln w="0">
            <a:noFill/>
          </a:ln>
        </p:spPr>
      </p:pic>
      <p:sp>
        <p:nvSpPr>
          <p:cNvPr id="300" name="Стрелка влево 2"/>
          <p:cNvSpPr/>
          <p:nvPr/>
        </p:nvSpPr>
        <p:spPr>
          <a:xfrm>
            <a:off x="4275000" y="987480"/>
            <a:ext cx="2357640" cy="42840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176364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Текстовий редактор «Блокн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3571920"/>
            <a:ext cx="35002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3143160" y="5214960"/>
            <a:ext cx="407196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трелка влево 6"/>
          <p:cNvSpPr/>
          <p:nvPr/>
        </p:nvSpPr>
        <p:spPr>
          <a:xfrm rot="10800000">
            <a:off x="6024600" y="5108040"/>
            <a:ext cx="1533600" cy="4986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трелка влево 7"/>
          <p:cNvSpPr/>
          <p:nvPr/>
        </p:nvSpPr>
        <p:spPr>
          <a:xfrm>
            <a:off x="2556000" y="135396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2b71"/>
                </a:solidFill>
                <a:latin typeface="Calibri"/>
              </a:rPr>
              <a:t>Історія</a:t>
            </a:r>
            <a:r>
              <a:rPr b="1" lang="en-US" sz="4000" spc="-1" strike="noStrike">
                <a:solidFill>
                  <a:srgbClr val="562b71"/>
                </a:solidFill>
                <a:latin typeface="Tw Cen MT"/>
              </a:rPr>
              <a:t>Word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07" name="Picture 2" descr="Splash in Microsoft Word 1.1"/>
          <p:cNvPicPr/>
          <p:nvPr/>
        </p:nvPicPr>
        <p:blipFill>
          <a:blip r:embed="rId1"/>
          <a:stretch/>
        </p:blipFill>
        <p:spPr>
          <a:xfrm>
            <a:off x="3429000" y="571680"/>
            <a:ext cx="3214800" cy="20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Splash in Microsoft Word 2.0"/>
          <p:cNvPicPr/>
          <p:nvPr/>
        </p:nvPicPr>
        <p:blipFill>
          <a:blip r:embed="rId2"/>
          <a:stretch/>
        </p:blipFill>
        <p:spPr>
          <a:xfrm>
            <a:off x="3786120" y="928800"/>
            <a:ext cx="3214800" cy="2627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Splash in Microsoft Word 5.0"/>
          <p:cNvPicPr/>
          <p:nvPr/>
        </p:nvPicPr>
        <p:blipFill>
          <a:blip r:embed="rId3"/>
          <a:stretch/>
        </p:blipFill>
        <p:spPr>
          <a:xfrm>
            <a:off x="4000680" y="1143000"/>
            <a:ext cx="2724120" cy="17622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с двумя скругленными противолежащими углами 6"/>
          <p:cNvSpPr/>
          <p:nvPr/>
        </p:nvSpPr>
        <p:spPr>
          <a:xfrm>
            <a:off x="428760" y="642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0 в.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с двумя скругленными противолежащими углами 7"/>
          <p:cNvSpPr/>
          <p:nvPr/>
        </p:nvSpPr>
        <p:spPr>
          <a:xfrm>
            <a:off x="428760" y="1214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1 в.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с двумя скругленными противолежащими углами 8"/>
          <p:cNvSpPr/>
          <p:nvPr/>
        </p:nvSpPr>
        <p:spPr>
          <a:xfrm>
            <a:off x="428760" y="1785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3 в.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Splash in Microsoft Word 6.0"/>
          <p:cNvPicPr/>
          <p:nvPr/>
        </p:nvPicPr>
        <p:blipFill>
          <a:blip r:embed="rId4"/>
          <a:stretch/>
        </p:blipFill>
        <p:spPr>
          <a:xfrm>
            <a:off x="3714840" y="1357200"/>
            <a:ext cx="4800600" cy="31622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с двумя скругленными противолежащими углами 10"/>
          <p:cNvSpPr/>
          <p:nvPr/>
        </p:nvSpPr>
        <p:spPr>
          <a:xfrm>
            <a:off x="428760" y="2357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3 в.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Splash in Microsoft Word 95"/>
          <p:cNvPicPr/>
          <p:nvPr/>
        </p:nvPicPr>
        <p:blipFill>
          <a:blip r:embed="rId5"/>
          <a:stretch/>
        </p:blipFill>
        <p:spPr>
          <a:xfrm>
            <a:off x="4000680" y="1785960"/>
            <a:ext cx="4686120" cy="26956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с двумя скругленными противолежащими углами 12"/>
          <p:cNvSpPr/>
          <p:nvPr/>
        </p:nvSpPr>
        <p:spPr>
          <a:xfrm>
            <a:off x="428760" y="2928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5 в.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Splash in Microsoft Word 97"/>
          <p:cNvPicPr/>
          <p:nvPr/>
        </p:nvPicPr>
        <p:blipFill>
          <a:blip r:embed="rId6"/>
          <a:stretch/>
        </p:blipFill>
        <p:spPr>
          <a:xfrm>
            <a:off x="4214880" y="2143080"/>
            <a:ext cx="3809880" cy="23526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с двумя скругленными противолежащими углами 14"/>
          <p:cNvSpPr/>
          <p:nvPr/>
        </p:nvSpPr>
        <p:spPr>
          <a:xfrm>
            <a:off x="428760" y="3500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7 в.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4" descr="Splash in Microsoft Word 2000"/>
          <p:cNvPicPr/>
          <p:nvPr/>
        </p:nvPicPr>
        <p:blipFill>
          <a:blip r:embed="rId7"/>
          <a:stretch/>
        </p:blipFill>
        <p:spPr>
          <a:xfrm>
            <a:off x="4429080" y="2500200"/>
            <a:ext cx="3809880" cy="235296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с двумя скругленными противолежащими углами 16"/>
          <p:cNvSpPr/>
          <p:nvPr/>
        </p:nvSpPr>
        <p:spPr>
          <a:xfrm>
            <a:off x="428760" y="4071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0 в.9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с двумя скругленными противолежащими углами 17"/>
          <p:cNvSpPr/>
          <p:nvPr/>
        </p:nvSpPr>
        <p:spPr>
          <a:xfrm>
            <a:off x="428760" y="4643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1 в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с двумя скругленными противолежащими углами 18"/>
          <p:cNvSpPr/>
          <p:nvPr/>
        </p:nvSpPr>
        <p:spPr>
          <a:xfrm>
            <a:off x="357120" y="5214960"/>
            <a:ext cx="271476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3 в.1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6" descr="Splash in Microsoft Word XP"/>
          <p:cNvPicPr/>
          <p:nvPr/>
        </p:nvPicPr>
        <p:blipFill>
          <a:blip r:embed="rId8"/>
          <a:stretch/>
        </p:blipFill>
        <p:spPr>
          <a:xfrm>
            <a:off x="4714920" y="264312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8" descr="Splash in Microsoft Word 2003"/>
          <p:cNvPicPr/>
          <p:nvPr/>
        </p:nvPicPr>
        <p:blipFill>
          <a:blip r:embed="rId9"/>
          <a:stretch/>
        </p:blipFill>
        <p:spPr>
          <a:xfrm>
            <a:off x="4643280" y="3071880"/>
            <a:ext cx="4038840" cy="211464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с двумя скругленными противолежащими углами 23"/>
          <p:cNvSpPr/>
          <p:nvPr/>
        </p:nvSpPr>
        <p:spPr>
          <a:xfrm>
            <a:off x="357120" y="5786280"/>
            <a:ext cx="271476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7 в.1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с двумя скругленными противолежащими углами 24"/>
          <p:cNvSpPr/>
          <p:nvPr/>
        </p:nvSpPr>
        <p:spPr>
          <a:xfrm>
            <a:off x="357120" y="6357960"/>
            <a:ext cx="271476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10 в.1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2" descr="Новые возможности Office 2010"/>
          <p:cNvPicPr/>
          <p:nvPr/>
        </p:nvPicPr>
        <p:blipFill>
          <a:blip r:embed="rId10"/>
          <a:stretch/>
        </p:blipFill>
        <p:spPr>
          <a:xfrm>
            <a:off x="4929120" y="3286080"/>
            <a:ext cx="4000680" cy="333396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25" descr="2007.bmp"/>
          <p:cNvPicPr/>
          <p:nvPr/>
        </p:nvPicPr>
        <p:blipFill>
          <a:blip r:embed="rId11"/>
          <a:stretch/>
        </p:blipFill>
        <p:spPr>
          <a:xfrm>
            <a:off x="3214800" y="2500200"/>
            <a:ext cx="4746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19:49Z</dcterms:created>
  <dc:creator>Pupil4</dc:creator>
  <dc:description/>
  <dc:language>en-US</dc:language>
  <cp:lastModifiedBy>maria</cp:lastModifiedBy>
  <dcterms:modified xsi:type="dcterms:W3CDTF">2013-03-18T12:46:14Z</dcterms:modified>
  <cp:revision>128</cp:revision>
  <dc:subject/>
  <dc:title>Слайд 1</dc:title>
</cp:coreProperties>
</file>