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gif" ContentType="image/gi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3A7-7931-4192-B620-E287713D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64D-473E-40F8-8B3E-2B053F47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B4F-3A2A-4FDD-B973-606F04D3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351-4D79-4AC0-97F6-D298DCF6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9E5B-501D-469D-AB1E-8FDDDE19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C039-4843-4565-BD9D-3523C947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C2D5-DEED-4E7E-BDF2-CAF82F5D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8354-8FA0-4C53-A699-19A01D20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1CA2-4AA5-4EA8-AF6C-BFBCE1BA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D9B4-3D76-4107-AF66-2FD4AA5E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EE21-F90B-40D7-9675-46EB9885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8C9-299C-491F-8E05-F52D18B6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6B1B-0EEF-4980-B58C-7016CEE3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1879-1F80-47A9-9440-DF1669FA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FCA0-E650-4562-B22B-B6B70E2C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CF96-D6A6-431B-8301-35906540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F9B4-386E-4292-A609-C4533A5F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91F-76F0-43EE-B540-9718EBD5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5DCD-1F30-4B35-AF04-2992744B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E86-FE9E-47CE-ABAB-B0D68855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E3D-54C5-43BE-8DB4-EA098D16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B92-49D5-40CE-8DE5-BC52523A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DBC-F2B8-486B-AE6F-A57CFD31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8F2-491E-45DF-AF5D-47E972D0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C56E-C3C3-4F62-A00A-A9E5C91CEF0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998C-12E2-45E4-9800-6CA763726C1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4560" y="2349000"/>
            <a:ext cx="82090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Forte"/>
              </a:rPr>
              <a:t>Електронні таблиці зручні тим, що дані в них розміщуються у вигляді</a:t>
            </a:r>
            <a:r>
              <a:rPr b="1" i="1" lang="en-US" sz="4800" spc="-1" strike="noStrike">
                <a:solidFill>
                  <a:srgbClr val="006666"/>
                </a:solidFill>
                <a:latin typeface="Forte"/>
              </a:rPr>
              <a:t>…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95280" y="333360"/>
            <a:ext cx="2543040" cy="2103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647800" y="476280"/>
            <a:ext cx="64962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Verdana"/>
              </a:rPr>
              <a:t>Кожна комірка таблиці має своє </a:t>
            </a:r>
            <a:r>
              <a:rPr b="1" i="1" lang="en-US" sz="4800" spc="-1" strike="noStrike">
                <a:solidFill>
                  <a:srgbClr val="006666"/>
                </a:solidFill>
                <a:latin typeface="Verdana"/>
              </a:rPr>
              <a:t>…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6666"/>
                </a:solidFill>
                <a:latin typeface="Verdana"/>
              </a:rPr>
              <a:t>Сукупність комірок ЕТ називається …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76360" y="2728800"/>
            <a:ext cx="37083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7345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i="1" lang="ru-RU" sz="4800" spc="-1" strike="noStrike">
                <a:solidFill>
                  <a:srgbClr val="006666"/>
                </a:solidFill>
                <a:latin typeface="Verdana"/>
              </a:rPr>
              <a:t>Файли, в яких зберігаються ЕТ, ще називаються </a:t>
            </a:r>
            <a:r>
              <a:rPr b="1" i="1" lang="en-US" sz="4800" spc="-1" strike="noStrike">
                <a:solidFill>
                  <a:srgbClr val="006666"/>
                </a:solidFill>
                <a:latin typeface="Verdana"/>
              </a:rPr>
              <a:t>…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5157720"/>
            <a:ext cx="7561440" cy="0"/>
          </a:xfrm>
          <a:prstGeom prst="line">
            <a:avLst/>
          </a:prstGeom>
          <a:ln w="146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77080" y="69228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Times New Roman"/>
              </a:rPr>
              <a:t>Ім’я файла (книги) в ЕТ </a:t>
            </a:r>
            <a:r>
              <a:rPr b="1" lang="ru-RU" sz="4800" spc="-1" strike="noStrike">
                <a:solidFill>
                  <a:srgbClr val="006666"/>
                </a:solidFill>
                <a:latin typeface="Times New Roman"/>
              </a:rPr>
              <a:t>Еxcel </a:t>
            </a:r>
            <a:r>
              <a:rPr b="1" i="1" lang="ru-RU" sz="4800" spc="-1" strike="noStrike">
                <a:solidFill>
                  <a:srgbClr val="006666"/>
                </a:solidFill>
                <a:latin typeface="Times New Roman"/>
              </a:rPr>
              <a:t>має розширення </a:t>
            </a:r>
            <a:r>
              <a:rPr b="1" i="1" lang="en-US" sz="4800" spc="-1" strike="noStrike">
                <a:solidFill>
                  <a:srgbClr val="006666"/>
                </a:solidFill>
                <a:latin typeface="Times New Roman"/>
              </a:rPr>
              <a:t>…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2067120" cy="221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51280" y="3789360"/>
            <a:ext cx="4680000" cy="0"/>
          </a:xfrm>
          <a:prstGeom prst="line">
            <a:avLst/>
          </a:prstGeom>
          <a:ln w="146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Times New Roman"/>
              </a:rPr>
              <a:t>Кожна книга в Excel складається з </a:t>
            </a:r>
            <a:r>
              <a:rPr b="1" i="1" lang="en-US" sz="4800" spc="-1" strike="noStrike">
                <a:solidFill>
                  <a:srgbClr val="006666"/>
                </a:solidFill>
                <a:latin typeface="Times New Roman"/>
              </a:rPr>
              <a:t>…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38163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6666"/>
                </a:solidFill>
                <a:latin typeface="Verdana"/>
              </a:rPr>
              <a:t>Скільки кроків робить Майстер діаграм для побудови діаграми</a:t>
            </a:r>
            <a:r>
              <a:rPr b="0" i="1" lang="uk-UA" sz="4800" spc="-1" strike="noStrike">
                <a:solidFill>
                  <a:srgbClr val="006666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5084640"/>
            <a:ext cx="7561440" cy="0"/>
          </a:xfrm>
          <a:prstGeom prst="line">
            <a:avLst/>
          </a:prstGeom>
          <a:ln w="146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 u="sng">
                <a:solidFill>
                  <a:srgbClr val="006666"/>
                </a:solidFill>
                <a:uFillTx/>
                <a:latin typeface="Verdana"/>
              </a:rPr>
              <a:t>Молодці!!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5:19:03Z</dcterms:created>
  <dc:creator>mashka</dc:creator>
  <dc:description/>
  <dc:language>en-US</dc:language>
  <cp:lastModifiedBy>mashka</cp:lastModifiedBy>
  <dcterms:modified xsi:type="dcterms:W3CDTF">2013-03-12T16:39:20Z</dcterms:modified>
  <cp:revision>3</cp:revision>
  <dc:subject/>
  <dc:title>Електронні таблиці зручні тим, що дані в них розміщуються у вигляді…</dc:title>
</cp:coreProperties>
</file>