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gif" ContentType="image/gi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29D-1CD3-487F-9881-7C3A7B40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B0C-87EC-4353-8B67-673234BB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B2D-89FA-4BE8-A487-2C4336AC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175-9D4B-4E01-90E1-47EDB07B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C85A-41C2-4F9D-9225-615519E1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97BE-2C36-4905-883D-2DA93B0B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EB79-01E5-409A-AE16-237246F0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4C57-3F3C-436C-B446-CD716424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50A9-3F7B-401A-951E-15BB2335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D1CA-826C-45C6-9E4C-296E6B83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9372-4BAD-4E49-ACD0-63DE5996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11F-F681-4939-93FA-5D013C5F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441C-62B6-4663-80B6-FC37A7D1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91A3-6780-44B1-A837-9CF9495B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A3E2-B5A7-411F-B577-3BFCA489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B792-5978-4544-BA76-8285CD32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E755-3794-4D2B-8360-3C2FA9C8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2CF-96FE-4E4A-952A-624BDB8E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ACE-ADB0-4A57-B055-E2B5A45E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600-D6B1-4D7D-A165-74D39174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14F-ECFF-4E1B-91DD-197415DC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FEA-4C1C-45B0-8956-3A62863C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426-3EEC-4594-B80B-6A8D53C7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1A6-C86A-466E-8D59-598E0289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6925-E76D-453E-9A4C-A1758F78CED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E007-9B93-478D-A247-07A3918E0E9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4560" y="2349000"/>
            <a:ext cx="82090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Forte"/>
              </a:rPr>
              <a:t>Електронні таблиці зручні тим, що дані в них розміщуються у вигляді</a:t>
            </a:r>
            <a:r>
              <a:rPr b="1" i="1" lang="en-US" sz="4800" spc="-1" strike="noStrike">
                <a:solidFill>
                  <a:srgbClr val="006666"/>
                </a:solidFill>
                <a:latin typeface="Forte"/>
              </a:rPr>
              <a:t>…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95280" y="333360"/>
            <a:ext cx="2543040" cy="2103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647800" y="476280"/>
            <a:ext cx="64962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Verdana"/>
              </a:rPr>
              <a:t>Кожна комірка таблиці має своє </a:t>
            </a:r>
            <a:r>
              <a:rPr b="1" i="1" lang="en-US" sz="4800" spc="-1" strike="noStrike">
                <a:solidFill>
                  <a:srgbClr val="006666"/>
                </a:solidFill>
                <a:latin typeface="Verdana"/>
              </a:rPr>
              <a:t>…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6666"/>
                </a:solidFill>
                <a:latin typeface="Verdana"/>
              </a:rPr>
              <a:t>Сукупність комірок ЕТ називається …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76360" y="2728800"/>
            <a:ext cx="37083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7345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i="1" lang="ru-RU" sz="4800" spc="-1" strike="noStrike">
                <a:solidFill>
                  <a:srgbClr val="006666"/>
                </a:solidFill>
                <a:latin typeface="Verdana"/>
              </a:rPr>
              <a:t>Файли, в яких зберігаються ЕТ, ще називаються </a:t>
            </a:r>
            <a:r>
              <a:rPr b="1" i="1" lang="en-US" sz="4800" spc="-1" strike="noStrike">
                <a:solidFill>
                  <a:srgbClr val="006666"/>
                </a:solidFill>
                <a:latin typeface="Verdana"/>
              </a:rPr>
              <a:t>…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5157720"/>
            <a:ext cx="7561440" cy="0"/>
          </a:xfrm>
          <a:prstGeom prst="line">
            <a:avLst/>
          </a:prstGeom>
          <a:ln w="146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77080" y="69228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Times New Roman"/>
              </a:rPr>
              <a:t>Ім’я файла (книги) в ЕТ </a:t>
            </a:r>
            <a:r>
              <a:rPr b="1" lang="ru-RU" sz="4800" spc="-1" strike="noStrike">
                <a:solidFill>
                  <a:srgbClr val="006666"/>
                </a:solidFill>
                <a:latin typeface="Times New Roman"/>
              </a:rPr>
              <a:t>Еxcel </a:t>
            </a:r>
            <a:r>
              <a:rPr b="1" i="1" lang="ru-RU" sz="4800" spc="-1" strike="noStrike">
                <a:solidFill>
                  <a:srgbClr val="006666"/>
                </a:solidFill>
                <a:latin typeface="Times New Roman"/>
              </a:rPr>
              <a:t>має розширення </a:t>
            </a:r>
            <a:r>
              <a:rPr b="1" i="1" lang="en-US" sz="4800" spc="-1" strike="noStrike">
                <a:solidFill>
                  <a:srgbClr val="006666"/>
                </a:solidFill>
                <a:latin typeface="Times New Roman"/>
              </a:rPr>
              <a:t>…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2067120" cy="221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51280" y="3789360"/>
            <a:ext cx="4680000" cy="0"/>
          </a:xfrm>
          <a:prstGeom prst="line">
            <a:avLst/>
          </a:prstGeom>
          <a:ln w="146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Times New Roman"/>
              </a:rPr>
              <a:t>Кожна книга в Excel складається з </a:t>
            </a:r>
            <a:r>
              <a:rPr b="1" i="1" lang="en-US" sz="4800" spc="-1" strike="noStrike">
                <a:solidFill>
                  <a:srgbClr val="006666"/>
                </a:solidFill>
                <a:latin typeface="Times New Roman"/>
              </a:rPr>
              <a:t>…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38163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6666"/>
                </a:solidFill>
                <a:latin typeface="Verdana"/>
              </a:rPr>
              <a:t>Скільки кроків робить Майстер діаграм для побудови діаграми</a:t>
            </a:r>
            <a:r>
              <a:rPr b="0" i="1" lang="uk-UA" sz="4800" spc="-1" strike="noStrike">
                <a:solidFill>
                  <a:srgbClr val="006666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5084640"/>
            <a:ext cx="7561440" cy="0"/>
          </a:xfrm>
          <a:prstGeom prst="line">
            <a:avLst/>
          </a:prstGeom>
          <a:ln w="146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 u="sng">
                <a:solidFill>
                  <a:srgbClr val="006666"/>
                </a:solidFill>
                <a:uFillTx/>
                <a:latin typeface="Verdana"/>
              </a:rPr>
              <a:t>Молодці!!!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5:19:03Z</dcterms:created>
  <dc:creator>mashka</dc:creator>
  <dc:description/>
  <dc:language>en-US</dc:language>
  <cp:lastModifiedBy>mashka</cp:lastModifiedBy>
  <dcterms:modified xsi:type="dcterms:W3CDTF">2013-03-12T16:39:20Z</dcterms:modified>
  <cp:revision>3</cp:revision>
  <dc:subject/>
  <dc:title>Електронні таблиці зручні тим, що дані в них розміщуються у вигляді…</dc:title>
</cp:coreProperties>
</file>