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613-8BBC-402E-8BCC-EFE57531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872-83B6-407E-B93C-F571EEA8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DF5-AE32-4746-82B0-CE5CCF75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7DD-7AAC-4D2C-A51A-634AEACF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76A-028D-4D04-88D8-2A16CDA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1008-324F-40BD-A199-C5597F4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7A73-640A-4154-AD23-A23AEF60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9E68-78C4-4C1C-9109-6AE7605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A6EF-D448-4057-AAEC-7E4AE5F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197F-95EB-4DCE-AEB0-F95BC998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9251-A672-41ED-9121-83B20616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528-33D3-4A9C-945A-5FC24386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1BDC-9683-4CE4-B75E-3BD7488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B221-4358-4432-8267-C8BDCA3F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ED51-2BF0-454D-9132-E7C2BCE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F3E7-64DE-4A7C-9E45-0CDE5999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010-9DB1-4289-87F3-BAE27A82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6AB9B-9D67-42C3-95F0-BBFCDED8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9990E-CA0B-44B1-B0AE-66958FC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90403-5B08-4692-AF7B-420873B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6F0CD-2E5F-432D-AE14-2B86138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83CB9-8214-4D55-A6D9-49AC6400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0E9-3DAA-4669-87B1-CACD58DD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026B1-548B-4554-A7E5-4A708004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5199C-15C5-40F0-9288-2F71C3D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30BE4-7774-495B-832D-7672BAC0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69899-8029-4109-8CBF-7B2D7E6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7DC1-9C6D-492F-9D6A-D30E721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72FF1-EA2D-461A-8053-7D7004A0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41AAD-FE60-437D-91F5-F1A05EC2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7F82-E87D-4433-AE36-A753535F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B07D-4E70-4879-BB37-88334F4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DBDAD-1754-4718-B87C-D3D5418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E2A-9D57-46AE-B00C-9C32D6C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718A-63ED-4B99-B204-32B5820E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7EC7-B6A3-468D-8DB5-9C3236FB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DB818-A56C-496A-83EF-B29E738B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4EB9-6B54-47B8-A5AD-87F0978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C82A-FBF9-4C11-BE03-99FD344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8198-2039-4F40-A073-6622879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B3728-BE8D-4306-8685-D2963BF2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6A61-28A7-4551-8032-AECB928A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E1525-0C9D-441B-9CDB-D9975457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AB9-5D0D-4537-AE9E-4E19BB8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05B-A7A1-41C3-9B54-8CCD812B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A2D-B0F4-4C1D-A533-89419AF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F9F-D68B-4123-80C6-F6793E18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0AC-EAFF-45DB-8404-8A62228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504-A251-43F5-A51F-506E23380DA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EFC-AD1D-45C1-94CA-A40529FDCC4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503D-D855-4A29-A797-899D01EE2A55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D80-BF03-4D3B-A493-53EDFA37C98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9" descr="3.jpg"/>
          <p:cNvPicPr/>
          <p:nvPr/>
        </p:nvPicPr>
        <p:blipFill>
          <a:blip r:embed="rId1"/>
          <a:stretch/>
        </p:blipFill>
        <p:spPr>
          <a:xfrm>
            <a:off x="142920" y="2643120"/>
            <a:ext cx="2300400" cy="38577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1" descr="3.jpg"/>
          <p:cNvPicPr/>
          <p:nvPr/>
        </p:nvPicPr>
        <p:blipFill>
          <a:blip r:embed="rId2"/>
          <a:stretch/>
        </p:blipFill>
        <p:spPr>
          <a:xfrm>
            <a:off x="6715080" y="2571840"/>
            <a:ext cx="2349720" cy="3938400"/>
          </a:xfrm>
          <a:prstGeom prst="rect">
            <a:avLst/>
          </a:prstGeom>
          <a:ln w="0">
            <a:noFill/>
          </a:ln>
        </p:spPr>
      </p:pic>
      <p:sp>
        <p:nvSpPr>
          <p:cNvPr id="21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Группа 7"/>
          <p:cNvGrpSpPr/>
          <p:nvPr/>
        </p:nvGrpSpPr>
        <p:grpSpPr>
          <a:xfrm>
            <a:off x="1000080" y="1571760"/>
            <a:ext cx="5429160" cy="1000080"/>
            <a:chOff x="1000080" y="1571760"/>
            <a:chExt cx="5429160" cy="1000080"/>
          </a:xfrm>
        </p:grpSpPr>
        <p:sp>
          <p:nvSpPr>
            <p:cNvPr id="218" name="Выноска-облако 8"/>
            <p:cNvSpPr/>
            <p:nvPr/>
          </p:nvSpPr>
          <p:spPr>
            <a:xfrm>
              <a:off x="1000080" y="1571760"/>
              <a:ext cx="5429160" cy="1000080"/>
            </a:xfrm>
            <a:prstGeom prst="cloudCallout">
              <a:avLst>
                <a:gd name="adj1" fmla="val -34217"/>
                <a:gd name="adj2" fmla="val 266300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Box 9"/>
            <p:cNvSpPr/>
            <p:nvPr/>
          </p:nvSpPr>
          <p:spPr>
            <a:xfrm>
              <a:off x="1500120" y="1704960"/>
              <a:ext cx="46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аведені словосполучення замінити на протилежні по змісту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Выноска-облако 12"/>
          <p:cNvSpPr/>
          <p:nvPr/>
        </p:nvSpPr>
        <p:spPr>
          <a:xfrm flipH="1">
            <a:off x="3071880" y="3135240"/>
            <a:ext cx="3743280" cy="1079640"/>
          </a:xfrm>
          <a:prstGeom prst="cloudCallout">
            <a:avLst>
              <a:gd name="adj1" fmla="val -64416"/>
              <a:gd name="adj2" fmla="val 97370"/>
            </a:avLst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3"/>
          <p:cNvSpPr/>
          <p:nvPr/>
        </p:nvSpPr>
        <p:spPr>
          <a:xfrm flipH="1">
            <a:off x="3142440" y="31431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Непотрібна кнопка»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функціональна клавіш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152280" y="190512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обчислювального пристрою з давньогрецької перекладається як той, що  «вимірює арифметик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Арифмо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6" descr="39.jpg"/>
          <p:cNvPicPr/>
          <p:nvPr/>
        </p:nvPicPr>
        <p:blipFill>
          <a:blip r:embed="rId1"/>
          <a:stretch/>
        </p:blipFill>
        <p:spPr>
          <a:xfrm>
            <a:off x="1643040" y="3643200"/>
            <a:ext cx="4597560" cy="2847960"/>
          </a:xfrm>
          <a:prstGeom prst="rect">
            <a:avLst/>
          </a:prstGeom>
          <a:ln w="0">
            <a:noFill/>
          </a:ln>
        </p:spPr>
      </p:pic>
      <p:sp>
        <p:nvSpPr>
          <p:cNvPr id="265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52280" y="1905120"/>
            <a:ext cx="877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ї системної програми з англійської перекладається як «перекладач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Трансля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Рисунок 6" descr="40.jpg"/>
          <p:cNvPicPr/>
          <p:nvPr/>
        </p:nvPicPr>
        <p:blipFill>
          <a:blip r:embed="rId1"/>
          <a:stretch/>
        </p:blipFill>
        <p:spPr>
          <a:xfrm>
            <a:off x="1857240" y="3214800"/>
            <a:ext cx="3378240" cy="3365280"/>
          </a:xfrm>
          <a:prstGeom prst="rect">
            <a:avLst/>
          </a:prstGeom>
          <a:ln w="0">
            <a:noFill/>
          </a:ln>
        </p:spPr>
      </p:pic>
      <p:sp>
        <p:nvSpPr>
          <p:cNvPr id="26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об’єкта на екрані перекладається як «мальований запис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іктогр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Рисунок 6" descr="41.jpg"/>
          <p:cNvPicPr/>
          <p:nvPr/>
        </p:nvPicPr>
        <p:blipFill>
          <a:blip r:embed="rId1"/>
          <a:stretch/>
        </p:blipFill>
        <p:spPr>
          <a:xfrm>
            <a:off x="1500120" y="3000240"/>
            <a:ext cx="2576520" cy="3786480"/>
          </a:xfrm>
          <a:prstGeom prst="rect">
            <a:avLst/>
          </a:prstGeom>
          <a:ln w="0">
            <a:noFill/>
          </a:ln>
        </p:spPr>
      </p:pic>
      <p:sp>
        <p:nvSpPr>
          <p:cNvPr id="273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о в інформатиці перекладається як «текст, що перевищує норм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Гіпертек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Рисунок 6" descr="42.jpg"/>
          <p:cNvPicPr/>
          <p:nvPr/>
        </p:nvPicPr>
        <p:blipFill>
          <a:blip r:embed="rId1"/>
          <a:stretch/>
        </p:blipFill>
        <p:spPr>
          <a:xfrm>
            <a:off x="214200" y="3143160"/>
            <a:ext cx="5429520" cy="3573720"/>
          </a:xfrm>
          <a:prstGeom prst="rect">
            <a:avLst/>
          </a:prstGeom>
          <a:ln w="0">
            <a:noFill/>
          </a:ln>
        </p:spPr>
      </p:pic>
      <p:sp>
        <p:nvSpPr>
          <p:cNvPr id="277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ке поняття в обчислювальній техніці перекладається з англійської як «міжлицьовий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Інтерфей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Рисунок 7" descr="43.jpg"/>
          <p:cNvPicPr/>
          <p:nvPr/>
        </p:nvPicPr>
        <p:blipFill>
          <a:blip r:embed="rId1"/>
          <a:stretch/>
        </p:blipFill>
        <p:spPr>
          <a:xfrm>
            <a:off x="2286000" y="3429000"/>
            <a:ext cx="4286160" cy="323208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152280" y="190512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звучний мікроф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286240" y="192888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вукова коло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Рисунок 6" descr="31.jpg"/>
          <p:cNvPicPr/>
          <p:nvPr/>
        </p:nvPicPr>
        <p:blipFill>
          <a:blip r:embed="rId1"/>
          <a:stretch/>
        </p:blipFill>
        <p:spPr>
          <a:xfrm>
            <a:off x="785880" y="257184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8" descr="31_1.jpg"/>
          <p:cNvPicPr/>
          <p:nvPr/>
        </p:nvPicPr>
        <p:blipFill>
          <a:blip r:embed="rId2"/>
          <a:stretch/>
        </p:blipFill>
        <p:spPr>
          <a:xfrm>
            <a:off x="5429160" y="2516040"/>
            <a:ext cx="299736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52280" y="1905120"/>
            <a:ext cx="42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пельна клавіа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000760" y="19288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труменний прин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Рисунок 6" descr="32.jpg"/>
          <p:cNvPicPr/>
          <p:nvPr/>
        </p:nvPicPr>
        <p:blipFill>
          <a:blip r:embed="rId1"/>
          <a:srcRect l="0" t="0" r="0" b="-98"/>
          <a:stretch/>
        </p:blipFill>
        <p:spPr>
          <a:xfrm>
            <a:off x="49320" y="3500280"/>
            <a:ext cx="4451400" cy="25718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9" descr="321.jpg"/>
          <p:cNvPicPr/>
          <p:nvPr/>
        </p:nvPicPr>
        <p:blipFill>
          <a:blip r:embed="rId2"/>
          <a:stretch/>
        </p:blipFill>
        <p:spPr>
          <a:xfrm>
            <a:off x="5214960" y="3024360"/>
            <a:ext cx="38577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ий комп’ют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00760" y="192888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Глобальна мереж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Рисунок 6" descr="33.jpg"/>
          <p:cNvPicPr/>
          <p:nvPr/>
        </p:nvPicPr>
        <p:blipFill>
          <a:blip r:embed="rId1"/>
          <a:stretch/>
        </p:blipFill>
        <p:spPr>
          <a:xfrm>
            <a:off x="0" y="3357720"/>
            <a:ext cx="4456080" cy="2857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7" descr="331.jpg"/>
          <p:cNvPicPr/>
          <p:nvPr/>
        </p:nvPicPr>
        <p:blipFill>
          <a:blip r:embed="rId2"/>
          <a:stretch/>
        </p:blipFill>
        <p:spPr>
          <a:xfrm>
            <a:off x="4764240" y="3143160"/>
            <a:ext cx="4265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з’єднувальна ни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786200" y="19764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’єднувальний каб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Рисунок 6" descr="341.jpg"/>
          <p:cNvPicPr/>
          <p:nvPr/>
        </p:nvPicPr>
        <p:blipFill>
          <a:blip r:embed="rId1"/>
          <a:stretch/>
        </p:blipFill>
        <p:spPr>
          <a:xfrm>
            <a:off x="5059440" y="3000240"/>
            <a:ext cx="3941640" cy="28576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34.jpg"/>
          <p:cNvPicPr/>
          <p:nvPr/>
        </p:nvPicPr>
        <p:blipFill>
          <a:blip r:embed="rId2"/>
          <a:stretch/>
        </p:blipFill>
        <p:spPr>
          <a:xfrm>
            <a:off x="500040" y="2786040"/>
            <a:ext cx="25750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ична дета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500800" y="19288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истемний бл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Заголовок 12"/>
          <p:cNvSpPr/>
          <p:nvPr/>
        </p:nvSpPr>
        <p:spPr>
          <a:xfrm>
            <a:off x="509760" y="72396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Рисунок 7" descr="35.jpg"/>
          <p:cNvPicPr/>
          <p:nvPr/>
        </p:nvPicPr>
        <p:blipFill>
          <a:blip r:embed="rId1"/>
          <a:stretch/>
        </p:blipFill>
        <p:spPr>
          <a:xfrm>
            <a:off x="357120" y="2714760"/>
            <a:ext cx="2643120" cy="3235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351.jpg"/>
          <p:cNvPicPr/>
          <p:nvPr/>
        </p:nvPicPr>
        <p:blipFill>
          <a:blip r:embed="rId2"/>
          <a:stretch/>
        </p:blipFill>
        <p:spPr>
          <a:xfrm>
            <a:off x="5389560" y="2714760"/>
            <a:ext cx="36831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152280" y="1905120"/>
            <a:ext cx="43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ективна рахівниц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57800" y="197640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Персональний комп’юте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Все навпа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Рисунок 9" descr="36.jpg"/>
          <p:cNvPicPr/>
          <p:nvPr/>
        </p:nvPicPr>
        <p:blipFill>
          <a:blip r:embed="rId1"/>
          <a:stretch/>
        </p:blipFill>
        <p:spPr>
          <a:xfrm>
            <a:off x="142920" y="2428920"/>
            <a:ext cx="2928960" cy="36432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10" descr="361.jpg"/>
          <p:cNvPicPr/>
          <p:nvPr/>
        </p:nvPicPr>
        <p:blipFill>
          <a:blip r:embed="rId2"/>
          <a:stretch/>
        </p:blipFill>
        <p:spPr>
          <a:xfrm>
            <a:off x="4398840" y="2928960"/>
            <a:ext cx="4673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8" descr="37.jpg"/>
          <p:cNvPicPr/>
          <p:nvPr/>
        </p:nvPicPr>
        <p:blipFill>
          <a:blip r:embed="rId1"/>
          <a:stretch/>
        </p:blipFill>
        <p:spPr>
          <a:xfrm>
            <a:off x="2643120" y="4311720"/>
            <a:ext cx="3186360" cy="25462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7" descr="3.jpg"/>
          <p:cNvPicPr/>
          <p:nvPr/>
        </p:nvPicPr>
        <p:blipFill>
          <a:blip r:embed="rId2"/>
          <a:stretch/>
        </p:blipFill>
        <p:spPr>
          <a:xfrm>
            <a:off x="142920" y="2143080"/>
            <a:ext cx="2641680" cy="4429080"/>
          </a:xfrm>
          <a:prstGeom prst="rect">
            <a:avLst/>
          </a:prstGeom>
          <a:ln w="0">
            <a:noFill/>
          </a:ln>
        </p:spPr>
      </p:pic>
      <p:sp>
        <p:nvSpPr>
          <p:cNvPr id="25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Группа 8"/>
          <p:cNvGrpSpPr/>
          <p:nvPr/>
        </p:nvGrpSpPr>
        <p:grpSpPr>
          <a:xfrm>
            <a:off x="2928960" y="2071800"/>
            <a:ext cx="3714840" cy="928440"/>
            <a:chOff x="2928960" y="2071800"/>
            <a:chExt cx="3714840" cy="928440"/>
          </a:xfrm>
        </p:grpSpPr>
        <p:sp>
          <p:nvSpPr>
            <p:cNvPr id="256" name="Выноска-облако 9"/>
            <p:cNvSpPr/>
            <p:nvPr/>
          </p:nvSpPr>
          <p:spPr>
            <a:xfrm>
              <a:off x="2928960" y="2071800"/>
              <a:ext cx="3714840" cy="928440"/>
            </a:xfrm>
            <a:prstGeom prst="cloudCallout">
              <a:avLst>
                <a:gd name="adj1" fmla="val -68083"/>
                <a:gd name="adj2" fmla="val 208092"/>
              </a:avLst>
            </a:prstGeom>
            <a:solidFill>
              <a:srgbClr val="ffffff"/>
            </a:solidFill>
            <a:ln w="19080">
              <a:solidFill>
                <a:srgbClr val="3b3b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Box 10"/>
            <p:cNvSpPr/>
            <p:nvPr/>
          </p:nvSpPr>
          <p:spPr>
            <a:xfrm>
              <a:off x="3270960" y="2195280"/>
              <a:ext cx="317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слівний переклад іноземних слів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52280" y="19051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ва якого пристрою в комп’ютері з англійської перекладається як «радісна палка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286680" y="57150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жойс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Рисунок 7" descr="38.jpg"/>
          <p:cNvPicPr/>
          <p:nvPr/>
        </p:nvPicPr>
        <p:blipFill>
          <a:blip r:embed="rId1"/>
          <a:stretch/>
        </p:blipFill>
        <p:spPr>
          <a:xfrm>
            <a:off x="2428920" y="3000240"/>
            <a:ext cx="3771720" cy="3772080"/>
          </a:xfrm>
          <a:prstGeom prst="rect">
            <a:avLst/>
          </a:prstGeom>
          <a:ln w="0">
            <a:noFill/>
          </a:ln>
        </p:spPr>
      </p:pic>
      <p:sp>
        <p:nvSpPr>
          <p:cNvPr id="26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rebuchet MS"/>
              </a:rPr>
              <a:t>Іноземні сло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8:34:00Z</dcterms:created>
  <dc:creator>Евгений Родиков</dc:creator>
  <dc:description/>
  <dc:language>en-US</dc:language>
  <cp:lastModifiedBy>user1</cp:lastModifiedBy>
  <dcterms:modified xsi:type="dcterms:W3CDTF">2013-02-28T17:50:55Z</dcterms:modified>
  <cp:revision>2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a000000000001024140</vt:lpwstr>
  </property>
</Properties>
</file>