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suction.wav" ContentType="audio/x-wav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ABE-8E03-4247-BA0B-CE26C402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5AE3-30FD-4EB2-ACFD-05B09123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349-374D-4953-8814-52017AED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BCF-D1C1-4878-A979-20B73C70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C18F-69FC-48D0-99C1-5FBC9B35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C6EF-2A4A-4B6D-9AAF-E9B8096E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5F1A-35B6-477D-8F50-FD2B0FCB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4B46-49C1-4D69-9BEA-622F649F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C264-9968-4065-BE14-981AC469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4FB0-33E2-43F9-BDE1-AC441A71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50A8-2FF2-4727-98EF-85C734E3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97B7-1A13-4EDF-9A1E-B9F4E5C2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ED48-C736-4985-8F65-0147C0CC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74D5-8DEC-4B70-B388-E51893D4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C1F6-5E03-422E-B6EC-4D596BEB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3CFB-67A3-4F44-A15A-9D9C8E42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63EF-88D0-43FD-8331-BA7BD892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7C7-6A54-4326-AC99-E52BD7A0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9BA-99AF-4DEF-987E-0EBE4533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6E84-6831-4A6B-96CC-695F0AB6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352-DD82-4DA1-A28C-36BC113A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4C5-8714-4026-AFF6-B66CAF2B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7422-4CB2-4FC9-BA49-F688751A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A3B-7797-4EA1-81A5-C62CD984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10045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40052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5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808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38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f0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4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71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41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b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a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1717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D86F-4A79-4331-A204-5DACFA9691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10045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40052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5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808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38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f0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4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71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41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b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a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1717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CA3B-EEC4-4746-9A8B-43D75FCF9E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4.xml"/><Relationship Id="rId3" Type="http://schemas.openxmlformats.org/officeDocument/2006/relationships/slide" Target="slide7.xml"/><Relationship Id="rId4" Type="http://schemas.openxmlformats.org/officeDocument/2006/relationships/slide" Target="slide20.xml"/><Relationship Id="rId5" Type="http://schemas.openxmlformats.org/officeDocument/2006/relationships/slide" Target="slide8.xml"/><Relationship Id="rId6" Type="http://schemas.openxmlformats.org/officeDocument/2006/relationships/slide" Target="slide13.xml"/><Relationship Id="rId7" Type="http://schemas.openxmlformats.org/officeDocument/2006/relationships/slide" Target="slide21.xml"/><Relationship Id="rId8" Type="http://schemas.openxmlformats.org/officeDocument/2006/relationships/slide" Target="slide12.xml"/><Relationship Id="rId9" Type="http://schemas.openxmlformats.org/officeDocument/2006/relationships/slide" Target="slide18.xml"/><Relationship Id="rId10" Type="http://schemas.openxmlformats.org/officeDocument/2006/relationships/slide" Target="slide25.xml"/><Relationship Id="rId11" Type="http://schemas.openxmlformats.org/officeDocument/2006/relationships/slide" Target="slide15.xml"/><Relationship Id="rId12" Type="http://schemas.openxmlformats.org/officeDocument/2006/relationships/slide" Target="slide22.xml"/><Relationship Id="rId13" Type="http://schemas.openxmlformats.org/officeDocument/2006/relationships/slide" Target="slide14.xml"/><Relationship Id="rId14" Type="http://schemas.openxmlformats.org/officeDocument/2006/relationships/slide" Target="slide26.xml"/><Relationship Id="rId15" Type="http://schemas.openxmlformats.org/officeDocument/2006/relationships/slide" Target="slide9.xml"/><Relationship Id="rId16" Type="http://schemas.openxmlformats.org/officeDocument/2006/relationships/slide" Target="slide23.xml"/><Relationship Id="rId17" Type="http://schemas.openxmlformats.org/officeDocument/2006/relationships/slide" Target="slide27.xml"/><Relationship Id="rId18" Type="http://schemas.openxmlformats.org/officeDocument/2006/relationships/slide" Target="slide10.xml"/><Relationship Id="rId19" Type="http://schemas.openxmlformats.org/officeDocument/2006/relationships/slide" Target="slide21.xml"/><Relationship Id="rId20" Type="http://schemas.openxmlformats.org/officeDocument/2006/relationships/slide" Target="slide11.xml"/><Relationship Id="rId21" Type="http://schemas.openxmlformats.org/officeDocument/2006/relationships/slide" Target="slide28.xml"/><Relationship Id="rId22" Type="http://schemas.openxmlformats.org/officeDocument/2006/relationships/slide" Target="slide17.xml"/><Relationship Id="rId23" Type="http://schemas.openxmlformats.org/officeDocument/2006/relationships/slide" Target="slide16.xml"/><Relationship Id="rId24" Type="http://schemas.openxmlformats.org/officeDocument/2006/relationships/slide" Target="slide29.xml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2786040" y="2643120"/>
            <a:ext cx="5905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"/>
              </a:rPr>
              <a:t>Інтелектуальна гра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"/>
              <a:ea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2143080" y="4500720"/>
            <a:ext cx="561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"/>
              </a:rPr>
              <a:t>з інформатик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"/>
              <a:ea typeface="Arial"/>
            </a:endParaRPr>
          </a:p>
        </p:txBody>
      </p:sp>
      <p:sp>
        <p:nvSpPr>
          <p:cNvPr id="164" name="WordArt 5"/>
          <p:cNvSpPr txBox="1"/>
          <p:nvPr/>
        </p:nvSpPr>
        <p:spPr>
          <a:xfrm>
            <a:off x="1584360" y="3286080"/>
            <a:ext cx="7559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„</a:t>
            </a: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йрозумніший”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5" name="Picture 6" descr="BD21328_"/>
          <p:cNvPicPr/>
          <p:nvPr/>
        </p:nvPicPr>
        <p:blipFill>
          <a:blip r:embed="rId1"/>
          <a:stretch/>
        </p:blipFill>
        <p:spPr>
          <a:xfrm>
            <a:off x="1000080" y="5357880"/>
            <a:ext cx="7596360" cy="154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http://img1.liveinternet.ru/images/attach/c/2/65/851/65851715_1288201535_43287.png"/>
          <p:cNvPicPr/>
          <p:nvPr/>
        </p:nvPicPr>
        <p:blipFill>
          <a:blip r:embed="rId2"/>
          <a:stretch/>
        </p:blipFill>
        <p:spPr>
          <a:xfrm>
            <a:off x="0" y="0"/>
            <a:ext cx="4632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142920" y="1643040"/>
            <a:ext cx="82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ілянка доріжки магнітного диску. — Ділянка на стадіоні для глядачів або для проведення  змагань з окремого виду спор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214200" y="37148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ек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оугольник 8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fe5c5c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Рисунок 10" descr="63.jpg"/>
          <p:cNvPicPr/>
          <p:nvPr/>
        </p:nvPicPr>
        <p:blipFill>
          <a:blip r:embed="rId1"/>
          <a:stretch/>
        </p:blipFill>
        <p:spPr>
          <a:xfrm>
            <a:off x="1785960" y="3857760"/>
            <a:ext cx="6492960" cy="2779560"/>
          </a:xfrm>
          <a:prstGeom prst="rect">
            <a:avLst/>
          </a:prstGeom>
          <a:ln w="0">
            <a:noFill/>
          </a:ln>
        </p:spPr>
      </p:pic>
      <p:sp>
        <p:nvSpPr>
          <p:cNvPr id="207" name="Заголовок 12"/>
          <p:cNvSpPr/>
          <p:nvPr/>
        </p:nvSpPr>
        <p:spPr>
          <a:xfrm>
            <a:off x="214200" y="571680"/>
            <a:ext cx="8587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спор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6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10" descr="64.jpg"/>
          <p:cNvPicPr/>
          <p:nvPr/>
        </p:nvPicPr>
        <p:blipFill>
          <a:blip r:embed="rId1"/>
          <a:stretch/>
        </p:blipFill>
        <p:spPr>
          <a:xfrm>
            <a:off x="1071720" y="4071960"/>
            <a:ext cx="7251480" cy="2786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142920" y="164304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ип типології локальної мережі. — Один з пари предметів, що використовуються у  спортивній гімнастиц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14200" y="342900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ільц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8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fe5c5c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Заголовок 12"/>
          <p:cNvSpPr/>
          <p:nvPr/>
        </p:nvSpPr>
        <p:spPr>
          <a:xfrm>
            <a:off x="214200" y="571680"/>
            <a:ext cx="8587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спор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6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142920" y="164304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рама для обслуговування периферійного пристрою. — Шофер на англійській мов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214200" y="37148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райве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9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Рисунок 10" descr="65.jpg"/>
          <p:cNvPicPr/>
          <p:nvPr/>
        </p:nvPicPr>
        <p:blipFill>
          <a:blip r:embed="rId1"/>
          <a:stretch/>
        </p:blipFill>
        <p:spPr>
          <a:xfrm>
            <a:off x="1928880" y="3214800"/>
            <a:ext cx="6438960" cy="3529080"/>
          </a:xfrm>
          <a:prstGeom prst="rect">
            <a:avLst/>
          </a:prstGeom>
          <a:ln w="0">
            <a:noFill/>
          </a:ln>
        </p:spPr>
      </p:pic>
      <p:sp>
        <p:nvSpPr>
          <p:cNvPr id="219" name="Заголовок 12"/>
          <p:cNvSpPr/>
          <p:nvPr/>
        </p:nvSpPr>
        <p:spPr>
          <a:xfrm>
            <a:off x="214200" y="571680"/>
            <a:ext cx="8587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транспор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6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142920" y="164304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чка підключення зовнішніх пристроїв до шини комп’ютера. — Місце для стоянки та розвантаження суде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214200" y="37148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Рисунок 10" descr="66.jpg"/>
          <p:cNvPicPr/>
          <p:nvPr/>
        </p:nvPicPr>
        <p:blipFill>
          <a:blip r:embed="rId1"/>
          <a:stretch/>
        </p:blipFill>
        <p:spPr>
          <a:xfrm>
            <a:off x="1571760" y="4214880"/>
            <a:ext cx="6643440" cy="2330280"/>
          </a:xfrm>
          <a:prstGeom prst="rect">
            <a:avLst/>
          </a:prstGeom>
          <a:ln w="0">
            <a:noFill/>
          </a:ln>
        </p:spPr>
      </p:pic>
      <p:sp>
        <p:nvSpPr>
          <p:cNvPr id="225" name="Заголовок 12"/>
          <p:cNvSpPr/>
          <p:nvPr/>
        </p:nvSpPr>
        <p:spPr>
          <a:xfrm>
            <a:off x="214200" y="571680"/>
            <a:ext cx="8587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транспор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6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142920" y="1643040"/>
            <a:ext cx="82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 називали пристрій в ЕОМ, який використовували для введення та виведення інформації. — Місце в порту для завантаження і розвантаження суде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3500280" y="357192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Термін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9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Рисунок 10" descr="67.jpg"/>
          <p:cNvPicPr/>
          <p:nvPr/>
        </p:nvPicPr>
        <p:blipFill>
          <a:blip r:embed="rId1"/>
          <a:stretch/>
        </p:blipFill>
        <p:spPr>
          <a:xfrm>
            <a:off x="1000080" y="4143240"/>
            <a:ext cx="7323120" cy="2648160"/>
          </a:xfrm>
          <a:prstGeom prst="rect">
            <a:avLst/>
          </a:prstGeom>
          <a:ln w="0">
            <a:noFill/>
          </a:ln>
        </p:spPr>
      </p:pic>
      <p:sp>
        <p:nvSpPr>
          <p:cNvPr id="231" name="Заголовок 12"/>
          <p:cNvSpPr/>
          <p:nvPr/>
        </p:nvSpPr>
        <p:spPr>
          <a:xfrm>
            <a:off x="214200" y="571680"/>
            <a:ext cx="8587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транспор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6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142920" y="164304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рахування усіх папок (каталогів), у які вкладено файл. — Напрям, маршрут рух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14200" y="37148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Шл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ямоугольник 9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Рисунок 10" descr="69.jpg"/>
          <p:cNvPicPr/>
          <p:nvPr/>
        </p:nvPicPr>
        <p:blipFill>
          <a:blip r:embed="rId1"/>
          <a:stretch/>
        </p:blipFill>
        <p:spPr>
          <a:xfrm>
            <a:off x="714240" y="4214880"/>
            <a:ext cx="7675560" cy="2286000"/>
          </a:xfrm>
          <a:prstGeom prst="rect">
            <a:avLst/>
          </a:prstGeom>
          <a:ln w="0">
            <a:noFill/>
          </a:ln>
        </p:spPr>
      </p:pic>
      <p:sp>
        <p:nvSpPr>
          <p:cNvPr id="237" name="Заголовок 12"/>
          <p:cNvSpPr/>
          <p:nvPr/>
        </p:nvSpPr>
        <p:spPr>
          <a:xfrm>
            <a:off x="214200" y="571680"/>
            <a:ext cx="8587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транспор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6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10" descr="70.jpg"/>
          <p:cNvPicPr/>
          <p:nvPr/>
        </p:nvPicPr>
        <p:blipFill>
          <a:blip r:embed="rId1"/>
          <a:stretch/>
        </p:blipFill>
        <p:spPr>
          <a:xfrm>
            <a:off x="1643040" y="4165560"/>
            <a:ext cx="6500880" cy="26924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142920" y="1643040"/>
            <a:ext cx="8215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упа ліній електричних з’єднань, які забезпечують передачу даних та керуючих сигналів між компонентами комп’ютера. — Деталь автомобіля, мотоцикла, велосипе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4071960" y="428616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Ши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9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Заголовок 12"/>
          <p:cNvSpPr/>
          <p:nvPr/>
        </p:nvSpPr>
        <p:spPr>
          <a:xfrm>
            <a:off x="214200" y="571680"/>
            <a:ext cx="8587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транспор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6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142920" y="1643040"/>
            <a:ext cx="82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трій для зв’язку у комп’ютерній мережі. — Штучна споруда, призначена для руху через річку, яр, озеро та інші перешкод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71880" y="321480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іс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9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Заголовок 12"/>
          <p:cNvSpPr/>
          <p:nvPr/>
        </p:nvSpPr>
        <p:spPr>
          <a:xfrm>
            <a:off x="214200" y="571680"/>
            <a:ext cx="8587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транспор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11" descr="http://it.techexpert.ua/itsolutions/bildingnetwork/lanwan/PublishingImages/3.jpg"/>
          <p:cNvPicPr/>
          <p:nvPr/>
        </p:nvPicPr>
        <p:blipFill>
          <a:blip r:embed="rId1"/>
          <a:stretch/>
        </p:blipFill>
        <p:spPr>
          <a:xfrm>
            <a:off x="571680" y="3714840"/>
            <a:ext cx="3214440" cy="2922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http://www.loc.gov/exhibits/empire/images/p87_32x__00023_.jpg"/>
          <p:cNvPicPr/>
          <p:nvPr/>
        </p:nvPicPr>
        <p:blipFill>
          <a:blip r:embed="rId2"/>
          <a:stretch/>
        </p:blipFill>
        <p:spPr>
          <a:xfrm>
            <a:off x="4357800" y="3571920"/>
            <a:ext cx="4046400" cy="309240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6">
            <a:hlinkClick r:id="rId3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біологі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42920" y="164304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ізація даних на диску відбувається у вигляді … – Багаторічна рослина з твердим стовбур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Прямоугольник 11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5143680" y="335772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ере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Рисунок 9" descr="47.jpg"/>
          <p:cNvPicPr/>
          <p:nvPr/>
        </p:nvPicPr>
        <p:blipFill>
          <a:blip r:embed="rId1"/>
          <a:stretch/>
        </p:blipFill>
        <p:spPr>
          <a:xfrm>
            <a:off x="1071720" y="3887640"/>
            <a:ext cx="7358040" cy="297036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6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10" descr="48.jpg"/>
          <p:cNvPicPr/>
          <p:nvPr/>
        </p:nvPicPr>
        <p:blipFill>
          <a:blip r:embed="rId1"/>
          <a:stretch/>
        </p:blipFill>
        <p:spPr>
          <a:xfrm>
            <a:off x="1285920" y="3343320"/>
            <a:ext cx="7207200" cy="35146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42920" y="164304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люта, в якій отримують зарплатню болгарські програмісти. – Велика хижа тварина родини кошач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11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5357880" y="378612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Л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біологі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6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6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>
            <a:lum bright="18000"/>
          </a:blip>
          <a:srcRect l="0" t="0" r="111" b="0"/>
          <a:stretch/>
        </p:blipFill>
        <p:spPr>
          <a:xfrm>
            <a:off x="611280" y="3000240"/>
            <a:ext cx="4174920" cy="3424320"/>
          </a:xfrm>
          <a:prstGeom prst="rect">
            <a:avLst/>
          </a:prstGeom>
          <a:ln w="0">
            <a:noFill/>
          </a:ln>
        </p:spPr>
      </p:pic>
      <p:sp>
        <p:nvSpPr>
          <p:cNvPr id="168" name="WordArt 3"/>
          <p:cNvSpPr txBox="1"/>
          <p:nvPr/>
        </p:nvSpPr>
        <p:spPr>
          <a:xfrm>
            <a:off x="1187280" y="907920"/>
            <a:ext cx="67694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азва комп'ютера у мережі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5867280" y="3627360"/>
            <a:ext cx="441360" cy="509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800000"/>
                </a:solidFill>
                <a:latin typeface="Calibri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5292720" y="3627360"/>
            <a:ext cx="441360" cy="509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800000"/>
                </a:solidFill>
                <a:latin typeface="Calibri"/>
              </a:rPr>
              <a:t>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6443640" y="3627360"/>
            <a:ext cx="441360" cy="509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800000"/>
                </a:solidFill>
                <a:latin typeface="Calibri"/>
              </a:rPr>
              <a:t>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7093080" y="3627360"/>
            <a:ext cx="442800" cy="509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800000"/>
                </a:solidFill>
                <a:latin typeface="Calibri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7736040" y="3625920"/>
            <a:ext cx="441000" cy="5094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800000"/>
                </a:solidFill>
                <a:latin typeface="Calibri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8294760" y="3627360"/>
            <a:ext cx="442800" cy="509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Calibri"/>
              </a:rPr>
              <a:t>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10" descr="49.jpg"/>
          <p:cNvPicPr/>
          <p:nvPr/>
        </p:nvPicPr>
        <p:blipFill>
          <a:blip r:embed="rId1"/>
          <a:stretch/>
        </p:blipFill>
        <p:spPr>
          <a:xfrm>
            <a:off x="1143000" y="3206880"/>
            <a:ext cx="6888240" cy="36511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42920" y="164304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новид паперу для друкування на принтері. – Орган повітряного живлення та газообміну росл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оугольник 11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714680" y="335772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Ли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біологі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142920" y="164304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аргонна назва символу, що використовується в адресі електронної пошти. – Домашня твар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оугольник 11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3643200" y="3500280"/>
            <a:ext cx="27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об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Рисунок 10" descr="51.jpg"/>
          <p:cNvPicPr/>
          <p:nvPr/>
        </p:nvPicPr>
        <p:blipFill>
          <a:blip r:embed="rId1"/>
          <a:stretch/>
        </p:blipFill>
        <p:spPr>
          <a:xfrm>
            <a:off x="1071720" y="4643280"/>
            <a:ext cx="3373200" cy="200196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12" descr="511.jpg"/>
          <p:cNvPicPr/>
          <p:nvPr/>
        </p:nvPicPr>
        <p:blipFill>
          <a:blip r:embed="rId2"/>
          <a:stretch/>
        </p:blipFill>
        <p:spPr>
          <a:xfrm>
            <a:off x="4786200" y="4643280"/>
            <a:ext cx="3373560" cy="1984680"/>
          </a:xfrm>
          <a:prstGeom prst="rect">
            <a:avLst/>
          </a:prstGeom>
          <a:ln w="0">
            <a:noFill/>
          </a:ln>
        </p:spPr>
      </p:pic>
      <p:sp>
        <p:nvSpPr>
          <p:cNvPr id="275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біологі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4"/>
          <p:cNvSpPr/>
          <p:nvPr/>
        </p:nvSpPr>
        <p:spPr>
          <a:xfrm>
            <a:off x="142920" y="1643040"/>
            <a:ext cx="82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стина оператора повторення або веб-сторінки на мові НТ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– Організм людини в його зовнішніх, фізичних форм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Прямоугольник 11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Рисунок 10" descr="52.jpg"/>
          <p:cNvPicPr/>
          <p:nvPr/>
        </p:nvPicPr>
        <p:blipFill>
          <a:blip r:embed="rId1"/>
          <a:stretch/>
        </p:blipFill>
        <p:spPr>
          <a:xfrm>
            <a:off x="1071720" y="3666960"/>
            <a:ext cx="5286240" cy="31910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12" descr="521.jpg"/>
          <p:cNvPicPr/>
          <p:nvPr/>
        </p:nvPicPr>
        <p:blipFill>
          <a:blip r:embed="rId2"/>
          <a:stretch/>
        </p:blipFill>
        <p:spPr>
          <a:xfrm>
            <a:off x="6357960" y="3181320"/>
            <a:ext cx="1797120" cy="3676680"/>
          </a:xfrm>
          <a:prstGeom prst="rect">
            <a:avLst/>
          </a:prstGeom>
          <a:ln w="0">
            <a:noFill/>
          </a:ln>
        </p:spPr>
      </p:pic>
      <p:sp>
        <p:nvSpPr>
          <p:cNvPr id="281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біологі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000680" y="364320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Ті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6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285840" y="1785960"/>
            <a:ext cx="807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коли так називають мікропроцесор. – Головний відділ центральної нервової системи всіх хребетних та великого числа  безхребетних твар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Прямоугольник 11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біологі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4214880" y="428616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оз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" descr="Файл:Chimp Brain in a jar.jpg"/>
          <p:cNvPicPr/>
          <p:nvPr/>
        </p:nvPicPr>
        <p:blipFill>
          <a:blip r:embed="rId1"/>
          <a:stretch/>
        </p:blipFill>
        <p:spPr>
          <a:xfrm>
            <a:off x="5929200" y="4071960"/>
            <a:ext cx="2014560" cy="2538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http://upload.wikimedia.org/wikipedia/commons/thumb/0/02/80486dx2-large.jpg/220px-80486dx2-large.jpg"/>
          <p:cNvPicPr/>
          <p:nvPr/>
        </p:nvPicPr>
        <p:blipFill>
          <a:blip r:embed="rId2"/>
          <a:stretch/>
        </p:blipFill>
        <p:spPr>
          <a:xfrm>
            <a:off x="500040" y="4059360"/>
            <a:ext cx="3371760" cy="251280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6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8575560" y="636264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В</a:t>
            </a:r>
            <a:r>
              <a:rPr b="0" lang="uk-UA" sz="4800" spc="-1" strike="noStrike">
                <a:solidFill>
                  <a:srgbClr val="ccccff"/>
                </a:solidFill>
                <a:latin typeface="Arial"/>
              </a:rPr>
              <a:t>іриш </a:t>
            </a: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 – не віри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14200" y="1744560"/>
            <a:ext cx="814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 вірите ви, що на логарифмічній линійці (на якій уміли рахувати ваші бабусі, дідусі і деякі батьки) точність обчислень складала 3 знаки після ко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6858000" y="6087960"/>
            <a:ext cx="141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Та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Рисунок 7" descr="17.jpg"/>
          <p:cNvPicPr/>
          <p:nvPr/>
        </p:nvPicPr>
        <p:blipFill>
          <a:blip r:embed="rId1"/>
          <a:stretch/>
        </p:blipFill>
        <p:spPr>
          <a:xfrm>
            <a:off x="214200" y="3978360"/>
            <a:ext cx="4857840" cy="2700360"/>
          </a:xfrm>
          <a:prstGeom prst="rect">
            <a:avLst/>
          </a:prstGeom>
          <a:ln w="0">
            <a:noFill/>
          </a:ln>
        </p:spPr>
      </p:pic>
      <p:sp>
        <p:nvSpPr>
          <p:cNvPr id="296" name="Прямоугольник 6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Віриш – не віри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79280" y="1905120"/>
            <a:ext cx="825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 вірите ви в те, що операційна систем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опускає існування в одній папці файлів з іменами список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т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писок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7215120" y="464328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Н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Рисунок 7" descr="19.jpg"/>
          <p:cNvPicPr/>
          <p:nvPr/>
        </p:nvPicPr>
        <p:blipFill>
          <a:blip r:embed="rId1"/>
          <a:stretch/>
        </p:blipFill>
        <p:spPr>
          <a:xfrm>
            <a:off x="3071880" y="4143240"/>
            <a:ext cx="2786040" cy="2549520"/>
          </a:xfrm>
          <a:prstGeom prst="rect">
            <a:avLst/>
          </a:prstGeom>
          <a:ln w="0">
            <a:noFill/>
          </a:ln>
        </p:spPr>
      </p:pic>
      <p:sp>
        <p:nvSpPr>
          <p:cNvPr id="302" name="Прямоугольник 6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Віриш – не віри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228600" y="1905120"/>
            <a:ext cx="812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 вірите ви в те, що мову програмування  Паскаль створив Блез Паскал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429680" y="5929200"/>
            <a:ext cx="157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Н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Рисунок 7" descr="20.jpg"/>
          <p:cNvPicPr/>
          <p:nvPr/>
        </p:nvPicPr>
        <p:blipFill>
          <a:blip r:embed="rId1"/>
          <a:stretch/>
        </p:blipFill>
        <p:spPr>
          <a:xfrm>
            <a:off x="2143080" y="3841920"/>
            <a:ext cx="4786200" cy="301608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6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Віриш – не віри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250920" y="1905120"/>
            <a:ext cx="8107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 вірите ви в існування моделей  персональних комп’ютерів, у яких  був відсутній жорсткий дис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143840" y="6087960"/>
            <a:ext cx="127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Та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Рисунок 7" descr="18.jpg"/>
          <p:cNvPicPr/>
          <p:nvPr/>
        </p:nvPicPr>
        <p:blipFill>
          <a:blip r:embed="rId1"/>
          <a:stretch/>
        </p:blipFill>
        <p:spPr>
          <a:xfrm>
            <a:off x="2786040" y="3639960"/>
            <a:ext cx="3786120" cy="299088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6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Віриш – не віри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152280" y="1905120"/>
            <a:ext cx="820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 виріте ви в те, що комп’ютерні віруси з’явилися в 5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оках ХХ столітт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7286760" y="6000840"/>
            <a:ext cx="171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Н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Рисунок 6" descr="21.jpg"/>
          <p:cNvPicPr/>
          <p:nvPr/>
        </p:nvPicPr>
        <p:blipFill>
          <a:blip r:embed="rId1"/>
          <a:stretch/>
        </p:blipFill>
        <p:spPr>
          <a:xfrm>
            <a:off x="3071880" y="2928960"/>
            <a:ext cx="2881080" cy="378612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6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Віриш – не віри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52280" y="1905120"/>
            <a:ext cx="827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 вірите ви в те, що після виконання   дефрагментації, об’єм вільного місця на диску збільшить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7286760" y="6000840"/>
            <a:ext cx="171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Н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Рисунок 8" descr="22.jpg"/>
          <p:cNvPicPr/>
          <p:nvPr/>
        </p:nvPicPr>
        <p:blipFill>
          <a:blip r:embed="rId1"/>
          <a:stretch/>
        </p:blipFill>
        <p:spPr>
          <a:xfrm>
            <a:off x="2571840" y="3875040"/>
            <a:ext cx="4071960" cy="298296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6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2347920" y="26028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00"/>
                </a:solidFill>
                <a:latin typeface="Comic Sans MS"/>
              </a:rPr>
              <a:t>Категорії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893880" y="1184400"/>
            <a:ext cx="72007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c2a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2afff"/>
                </a:solidFill>
                <a:latin typeface="Arial"/>
              </a:rPr>
              <a:t>Пристрої введення інформації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c2a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2afff"/>
                </a:solidFill>
                <a:latin typeface="Arial"/>
              </a:rPr>
              <a:t>Пристрої для виведення інформації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c2a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2afff"/>
                </a:solidFill>
                <a:latin typeface="Arial"/>
              </a:rPr>
              <a:t>Апаратне забезпечення П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c2a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2afff"/>
                </a:solidFill>
                <a:latin typeface="Arial"/>
              </a:rPr>
              <a:t>Програмне забезпеченн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c2a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2afff"/>
                </a:solidFill>
                <a:latin typeface="Arial"/>
              </a:rPr>
              <a:t>Носії інформації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c2a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2afff"/>
                </a:solidFill>
                <a:latin typeface="Arial"/>
              </a:rPr>
              <a:t>Графічний редактор Pai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c2a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2afff"/>
                </a:solidFill>
                <a:latin typeface="Arial"/>
              </a:rPr>
              <a:t>Службові програми Window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c2a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2afff"/>
                </a:solidFill>
                <a:latin typeface="Arial"/>
              </a:rPr>
              <a:t>Вірусологія П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c2a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2afff"/>
                </a:solidFill>
                <a:latin typeface="Arial"/>
              </a:rPr>
              <a:t>Архівація дани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c2a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2afff"/>
                </a:solidFill>
                <a:latin typeface="Arial"/>
              </a:rPr>
              <a:t>Робочий стіл Window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c2a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2afff"/>
                </a:solidFill>
                <a:latin typeface="Arial"/>
              </a:rPr>
              <a:t>Робота з файлами та паками в Window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c2a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2afff"/>
                </a:solidFill>
                <a:latin typeface="Arial"/>
              </a:rPr>
              <a:t>Таємниц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WordArt 5"/>
          <p:cNvSpPr txBox="1"/>
          <p:nvPr/>
        </p:nvSpPr>
        <p:spPr>
          <a:xfrm>
            <a:off x="785880" y="5634000"/>
            <a:ext cx="7559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ітаємо переможців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9" name="Picture 13" descr="http://img1.liveinternet.ru/images/attach/c/2/65/851/65851715_1288201535_43287.png"/>
          <p:cNvPicPr/>
          <p:nvPr/>
        </p:nvPicPr>
        <p:blipFill>
          <a:blip r:embed="rId1"/>
          <a:stretch/>
        </p:blipFill>
        <p:spPr>
          <a:xfrm>
            <a:off x="0" y="214200"/>
            <a:ext cx="91454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14200" y="2155680"/>
          <a:ext cx="8642520" cy="4702320"/>
        </p:xfrm>
        <a:graphic>
          <a:graphicData uri="http://schemas.openxmlformats.org/drawingml/2006/table">
            <a:tbl>
              <a:tblPr/>
              <a:tblGrid>
                <a:gridCol w="1440000"/>
                <a:gridCol w="1441440"/>
                <a:gridCol w="1476360"/>
                <a:gridCol w="1403280"/>
                <a:gridCol w="1476360"/>
                <a:gridCol w="1405080"/>
              </a:tblGrid>
              <a:tr h="117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1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357120" y="1071720"/>
          <a:ext cx="8569440" cy="4701960"/>
        </p:xfrm>
        <a:graphic>
          <a:graphicData uri="http://schemas.openxmlformats.org/drawingml/2006/table">
            <a:tbl>
              <a:tblPr/>
              <a:tblGrid>
                <a:gridCol w="1366920"/>
                <a:gridCol w="1512720"/>
                <a:gridCol w="1368720"/>
                <a:gridCol w="1439640"/>
                <a:gridCol w="1441440"/>
                <a:gridCol w="1440000"/>
              </a:tblGrid>
              <a:tr h="11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11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7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1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12" action="ppaction://hlinksldjump"/>
                        </a:rPr>
                        <a:t>1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13" action="ppaction://hlinksldjump"/>
                        </a:rPr>
                        <a:t>1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14" action="ppaction://hlinksldjump"/>
                        </a:rPr>
                        <a:t>1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15" action="ppaction://hlinksldjump"/>
                        </a:rPr>
                        <a:t>1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16" action="ppaction://hlinksldjump"/>
                        </a:rPr>
                        <a:t>1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17" action="ppaction://hlinksldjump"/>
                        </a:rPr>
                        <a:t>17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18" action="ppaction://hlinksldjump"/>
                        </a:rPr>
                        <a:t>1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11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19" action="ppaction://hlinksldjump"/>
                        </a:rPr>
                        <a:t>1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20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21" action="ppaction://hlinksldjump"/>
                        </a:rPr>
                        <a:t>2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22" action="ppaction://hlinksldjump"/>
                        </a:rPr>
                        <a:t>2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23" action="ppaction://hlinksldjump"/>
                        </a:rPr>
                        <a:t>2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24" action="ppaction://hlinksldjump"/>
                        </a:rPr>
                        <a:t>2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Заголовок 12"/>
          <p:cNvSpPr/>
          <p:nvPr/>
        </p:nvSpPr>
        <p:spPr>
          <a:xfrm>
            <a:off x="214200" y="571680"/>
            <a:ext cx="8587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спор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42920" y="164304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ізновид носія інформації.   —   Спортивний   снаряд для метанн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214200" y="37148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ис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8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fe5c5c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Рисунок 10" descr="59.jpg"/>
          <p:cNvPicPr/>
          <p:nvPr/>
        </p:nvPicPr>
        <p:blipFill>
          <a:blip r:embed="rId1"/>
          <a:stretch/>
        </p:blipFill>
        <p:spPr>
          <a:xfrm>
            <a:off x="1357200" y="3429000"/>
            <a:ext cx="6756480" cy="31575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6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0" descr="60.jpg"/>
          <p:cNvPicPr/>
          <p:nvPr/>
        </p:nvPicPr>
        <p:blipFill>
          <a:blip r:embed="rId1"/>
          <a:stretch/>
        </p:blipFill>
        <p:spPr>
          <a:xfrm>
            <a:off x="1344600" y="4510080"/>
            <a:ext cx="6942240" cy="22766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142920" y="1643040"/>
            <a:ext cx="8215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ілянка магнітного диска у вигляді двох концентричних кіл, що утворюються при розмітці диску. — Спеціально влаштована дистанція для бігу, плаванння, боулінг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286080" y="614376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оріж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8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fe5c5c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Заголовок 12"/>
          <p:cNvSpPr/>
          <p:nvPr/>
        </p:nvSpPr>
        <p:spPr>
          <a:xfrm>
            <a:off x="214200" y="571680"/>
            <a:ext cx="8587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спор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6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10" descr="61.jpg"/>
          <p:cNvPicPr/>
          <p:nvPr/>
        </p:nvPicPr>
        <p:blipFill>
          <a:blip r:embed="rId1"/>
          <a:stretch/>
        </p:blipFill>
        <p:spPr>
          <a:xfrm>
            <a:off x="1500120" y="2857680"/>
            <a:ext cx="6089760" cy="40003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4"/>
          <p:cNvSpPr/>
          <p:nvPr/>
        </p:nvSpPr>
        <p:spPr>
          <a:xfrm>
            <a:off x="142920" y="164304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нонім поняття "оператор в програмі". — Спортивний колекти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929120" y="314316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оманд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8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fe5c5c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Заголовок 12"/>
          <p:cNvSpPr/>
          <p:nvPr/>
        </p:nvSpPr>
        <p:spPr>
          <a:xfrm>
            <a:off x="214200" y="571680"/>
            <a:ext cx="8587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спор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6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142920" y="164304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лемент матричного принтера. — Вузька полоска тканини або паперу, що кріпиться на фініші дистанції на змаганням з біг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785880" y="457200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трі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8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fe5c5c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Рисунок 10" descr="62.jpg"/>
          <p:cNvPicPr/>
          <p:nvPr/>
        </p:nvPicPr>
        <p:blipFill>
          <a:blip r:embed="rId1"/>
          <a:stretch/>
        </p:blipFill>
        <p:spPr>
          <a:xfrm>
            <a:off x="2571840" y="3192480"/>
            <a:ext cx="4714920" cy="3665520"/>
          </a:xfrm>
          <a:prstGeom prst="rect">
            <a:avLst/>
          </a:prstGeom>
          <a:ln w="0">
            <a:noFill/>
          </a:ln>
        </p:spPr>
      </p:pic>
      <p:sp>
        <p:nvSpPr>
          <p:cNvPr id="201" name="Заголовок 12"/>
          <p:cNvSpPr/>
          <p:nvPr/>
        </p:nvSpPr>
        <p:spPr>
          <a:xfrm>
            <a:off x="214200" y="571680"/>
            <a:ext cx="8587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спор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6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1</cp:lastModifiedBy>
  <dcterms:modified xsi:type="dcterms:W3CDTF">2013-02-28T17:50:11Z</dcterms:modified>
  <cp:revision>1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18000000000001024140</vt:lpwstr>
  </property>
</Properties>
</file>