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558-1841-42A4-BF46-5C7B2030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6DA-F522-4007-9C66-2177F56D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CE3-8625-4193-991F-709795FC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91D-1C2C-41F6-AE6C-29A1620B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C8DA-BA2D-422D-9FE3-F16C68FD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554-1232-4AEA-986A-AC855D4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0278-7093-4F27-8162-BD7EE52B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C61B-2D53-4C3E-943A-CF623AD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5385-F579-4D6A-B34E-2521F600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C299-39AC-4E65-808E-2D77CF79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A643-C860-4B6C-B623-7D3BDD3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B56-D037-4AD1-8B85-7AED2BDB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D68C-92FC-469E-A7B9-A267F16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4AF-4906-4E9F-918B-CC5D33A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333B-B415-482D-8932-ACDDA5D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5427-1ACA-43D9-90C0-9E6D3A8F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0E8D-FE65-404B-AF0D-5600B1E6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82B-BA68-47E8-8052-DF70345C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D06-FE93-4DB3-8BC4-2430E726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532-3DAB-41FE-B315-0595DF4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D38-F7B4-4141-B7DF-7EDFA61B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E77-7C0D-4C24-94C8-2B919B4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321-224B-40A1-9068-6A85B5CA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9B1-CA17-4B48-A696-7B5F8822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1991-0985-4962-B48D-FF33736DB4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546-8159-4021-9F53-49DC0ACCD5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4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8.xml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slide" Target="slide12.xml"/><Relationship Id="rId9" Type="http://schemas.openxmlformats.org/officeDocument/2006/relationships/slide" Target="slide18.xml"/><Relationship Id="rId10" Type="http://schemas.openxmlformats.org/officeDocument/2006/relationships/slide" Target="slide25.xml"/><Relationship Id="rId11" Type="http://schemas.openxmlformats.org/officeDocument/2006/relationships/slide" Target="slide15.xml"/><Relationship Id="rId12" Type="http://schemas.openxmlformats.org/officeDocument/2006/relationships/slide" Target="slide22.xml"/><Relationship Id="rId13" Type="http://schemas.openxmlformats.org/officeDocument/2006/relationships/slide" Target="slide14.xml"/><Relationship Id="rId14" Type="http://schemas.openxmlformats.org/officeDocument/2006/relationships/slide" Target="slide26.xml"/><Relationship Id="rId15" Type="http://schemas.openxmlformats.org/officeDocument/2006/relationships/slide" Target="slide9.xml"/><Relationship Id="rId16" Type="http://schemas.openxmlformats.org/officeDocument/2006/relationships/slide" Target="slide23.xml"/><Relationship Id="rId17" Type="http://schemas.openxmlformats.org/officeDocument/2006/relationships/slide" Target="slide27.xml"/><Relationship Id="rId18" Type="http://schemas.openxmlformats.org/officeDocument/2006/relationships/slide" Target="slide10.xml"/><Relationship Id="rId19" Type="http://schemas.openxmlformats.org/officeDocument/2006/relationships/slide" Target="slide21.xml"/><Relationship Id="rId20" Type="http://schemas.openxmlformats.org/officeDocument/2006/relationships/slide" Target="slide11.xml"/><Relationship Id="rId21" Type="http://schemas.openxmlformats.org/officeDocument/2006/relationships/slide" Target="slide28.xml"/><Relationship Id="rId22" Type="http://schemas.openxmlformats.org/officeDocument/2006/relationships/slide" Target="slide17.xml"/><Relationship Id="rId23" Type="http://schemas.openxmlformats.org/officeDocument/2006/relationships/slide" Target="slide16.xml"/><Relationship Id="rId24" Type="http://schemas.openxmlformats.org/officeDocument/2006/relationships/slide" Target="slide29.xml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2786040" y="2643120"/>
            <a:ext cx="59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"/>
              </a:rPr>
              <a:t>Інтелектуальна гра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"/>
              <a:ea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43080" y="450072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"/>
              </a:rPr>
              <a:t>з інформати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"/>
              <a:ea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1584360" y="3286080"/>
            <a:ext cx="755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„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йрозумніший”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Picture 6" descr="BD21328_"/>
          <p:cNvPicPr/>
          <p:nvPr/>
        </p:nvPicPr>
        <p:blipFill>
          <a:blip r:embed="rId1"/>
          <a:stretch/>
        </p:blipFill>
        <p:spPr>
          <a:xfrm>
            <a:off x="1000080" y="5357880"/>
            <a:ext cx="7596360" cy="15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http://img1.liveinternet.ru/images/attach/c/2/65/851/65851715_1288201535_43287.png"/>
          <p:cNvPicPr/>
          <p:nvPr/>
        </p:nvPicPr>
        <p:blipFill>
          <a:blip r:embed="rId2"/>
          <a:stretch/>
        </p:blipFill>
        <p:spPr>
          <a:xfrm>
            <a:off x="0" y="0"/>
            <a:ext cx="4632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ілянка доріжки магнітного диску. — Ділянка на стадіоні для глядачів або для проведення  змагань з окремого виду спор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ек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10" descr="63.jpg"/>
          <p:cNvPicPr/>
          <p:nvPr/>
        </p:nvPicPr>
        <p:blipFill>
          <a:blip r:embed="rId1"/>
          <a:stretch/>
        </p:blipFill>
        <p:spPr>
          <a:xfrm>
            <a:off x="1785960" y="3857760"/>
            <a:ext cx="6492960" cy="2779560"/>
          </a:xfrm>
          <a:prstGeom prst="rect">
            <a:avLst/>
          </a:prstGeom>
          <a:ln w="0">
            <a:noFill/>
          </a:ln>
        </p:spPr>
      </p:pic>
      <p:sp>
        <p:nvSpPr>
          <p:cNvPr id="207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0" descr="64.jpg"/>
          <p:cNvPicPr/>
          <p:nvPr/>
        </p:nvPicPr>
        <p:blipFill>
          <a:blip r:embed="rId1"/>
          <a:stretch/>
        </p:blipFill>
        <p:spPr>
          <a:xfrm>
            <a:off x="1071720" y="4071960"/>
            <a:ext cx="7251480" cy="2786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 типології локальної мережі. — Один з пари предметів, що використовуються у  спортивній гімнастиц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14200" y="3429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іль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а для обслуговування периферійного пристрою. — Шофер на англійській мов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райв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10" descr="65.jpg"/>
          <p:cNvPicPr/>
          <p:nvPr/>
        </p:nvPicPr>
        <p:blipFill>
          <a:blip r:embed="rId1"/>
          <a:stretch/>
        </p:blipFill>
        <p:spPr>
          <a:xfrm>
            <a:off x="1928880" y="3214800"/>
            <a:ext cx="6438960" cy="3529080"/>
          </a:xfrm>
          <a:prstGeom prst="rect">
            <a:avLst/>
          </a:prstGeom>
          <a:ln w="0">
            <a:noFill/>
          </a:ln>
        </p:spPr>
      </p:pic>
      <p:sp>
        <p:nvSpPr>
          <p:cNvPr id="219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чка підключення зовнішніх пристроїв до шини комп’ютера. — Місце для стоянки та розвантаження суд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Рисунок 10" descr="66.jpg"/>
          <p:cNvPicPr/>
          <p:nvPr/>
        </p:nvPicPr>
        <p:blipFill>
          <a:blip r:embed="rId1"/>
          <a:stretch/>
        </p:blipFill>
        <p:spPr>
          <a:xfrm>
            <a:off x="1571760" y="4214880"/>
            <a:ext cx="6643440" cy="2330280"/>
          </a:xfrm>
          <a:prstGeom prst="rect">
            <a:avLst/>
          </a:prstGeom>
          <a:ln w="0">
            <a:noFill/>
          </a:ln>
        </p:spPr>
      </p:pic>
      <p:sp>
        <p:nvSpPr>
          <p:cNvPr id="225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називали пристрій в ЕОМ, який використовували для введення та виведення інформації. — Місце в порту для завантаження і розвантаження суд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3500280" y="35719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ермін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Рисунок 10" descr="67.jpg"/>
          <p:cNvPicPr/>
          <p:nvPr/>
        </p:nvPicPr>
        <p:blipFill>
          <a:blip r:embed="rId1"/>
          <a:stretch/>
        </p:blipFill>
        <p:spPr>
          <a:xfrm>
            <a:off x="1000080" y="4143240"/>
            <a:ext cx="7323120" cy="264816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рахування усіх папок (каталогів), у які вкладено файл. — Напрям, маршрут ру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14200" y="3714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Шл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10" descr="69.jpg"/>
          <p:cNvPicPr/>
          <p:nvPr/>
        </p:nvPicPr>
        <p:blipFill>
          <a:blip r:embed="rId1"/>
          <a:stretch/>
        </p:blipFill>
        <p:spPr>
          <a:xfrm>
            <a:off x="714240" y="4214880"/>
            <a:ext cx="767556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0" descr="70.jpg"/>
          <p:cNvPicPr/>
          <p:nvPr/>
        </p:nvPicPr>
        <p:blipFill>
          <a:blip r:embed="rId1"/>
          <a:stretch/>
        </p:blipFill>
        <p:spPr>
          <a:xfrm>
            <a:off x="1643040" y="4165560"/>
            <a:ext cx="6500880" cy="26924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42920" y="1643040"/>
            <a:ext cx="82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а ліній електричних з’єднань, які забезпечують передачу даних та керуючих сигналів між компонентами комп’ютера. — Деталь автомобіля, мотоцикла, велосипе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071960" y="4286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Ш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трій для зв’язку у комп’ютерній мережі. — Штучна споруда, призначена для руху через річку, яр, озеро та інші перешко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71880" y="3214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і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тран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1" descr="http://it.techexpert.ua/itsolutions/bildingnetwork/lanwan/PublishingImages/3.jpg"/>
          <p:cNvPicPr/>
          <p:nvPr/>
        </p:nvPicPr>
        <p:blipFill>
          <a:blip r:embed="rId1"/>
          <a:stretch/>
        </p:blipFill>
        <p:spPr>
          <a:xfrm>
            <a:off x="571680" y="3714840"/>
            <a:ext cx="3214440" cy="2922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http://www.loc.gov/exhibits/empire/images/p87_32x__00023_.jpg"/>
          <p:cNvPicPr/>
          <p:nvPr/>
        </p:nvPicPr>
        <p:blipFill>
          <a:blip r:embed="rId2"/>
          <a:stretch/>
        </p:blipFill>
        <p:spPr>
          <a:xfrm>
            <a:off x="4357800" y="3571920"/>
            <a:ext cx="4046400" cy="30924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6">
            <a:hlinkClick r:id="rId3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ізація даних на диску відбувається у вигляді … – Багаторічна рослина з твердим стовбу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143680" y="33577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ере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9" descr="47.jpg"/>
          <p:cNvPicPr/>
          <p:nvPr/>
        </p:nvPicPr>
        <p:blipFill>
          <a:blip r:embed="rId1"/>
          <a:stretch/>
        </p:blipFill>
        <p:spPr>
          <a:xfrm>
            <a:off x="1071720" y="3887640"/>
            <a:ext cx="7358040" cy="29703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0" descr="48.jpg"/>
          <p:cNvPicPr/>
          <p:nvPr/>
        </p:nvPicPr>
        <p:blipFill>
          <a:blip r:embed="rId1"/>
          <a:stretch/>
        </p:blipFill>
        <p:spPr>
          <a:xfrm>
            <a:off x="1285920" y="3343320"/>
            <a:ext cx="7207200" cy="3514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люта, в якій отримують зарплатню болгарські програмісти. – Велика хижа тварина родини кошач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357880" y="37861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6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>
            <a:lum bright="18000"/>
          </a:blip>
          <a:srcRect l="0" t="0" r="111" b="0"/>
          <a:stretch/>
        </p:blipFill>
        <p:spPr>
          <a:xfrm>
            <a:off x="611280" y="3000240"/>
            <a:ext cx="4174920" cy="34243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1187280" y="907920"/>
            <a:ext cx="6769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зва комп'ютера у мережі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5867280" y="3627360"/>
            <a:ext cx="44136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5292720" y="3627360"/>
            <a:ext cx="44136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6443640" y="3627360"/>
            <a:ext cx="44136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093080" y="3627360"/>
            <a:ext cx="44280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7736040" y="3625920"/>
            <a:ext cx="441000" cy="509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8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8294760" y="3627360"/>
            <a:ext cx="442800" cy="509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0" descr="49.jpg"/>
          <p:cNvPicPr/>
          <p:nvPr/>
        </p:nvPicPr>
        <p:blipFill>
          <a:blip r:embed="rId1"/>
          <a:stretch/>
        </p:blipFill>
        <p:spPr>
          <a:xfrm>
            <a:off x="1143000" y="3206880"/>
            <a:ext cx="6888240" cy="36511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новид паперу для друкування на принтері. – Орган повітряного живлення та газообміну росл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14680" y="335772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Ли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аргонна назва символу, що використовується в адресі електронної пошти. – Домашня тва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643200" y="350028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Рисунок 10" descr="51.jpg"/>
          <p:cNvPicPr/>
          <p:nvPr/>
        </p:nvPicPr>
        <p:blipFill>
          <a:blip r:embed="rId1"/>
          <a:stretch/>
        </p:blipFill>
        <p:spPr>
          <a:xfrm>
            <a:off x="1071720" y="4643280"/>
            <a:ext cx="3373200" cy="20019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2" descr="511.jpg"/>
          <p:cNvPicPr/>
          <p:nvPr/>
        </p:nvPicPr>
        <p:blipFill>
          <a:blip r:embed="rId2"/>
          <a:stretch/>
        </p:blipFill>
        <p:spPr>
          <a:xfrm>
            <a:off x="4786200" y="4643280"/>
            <a:ext cx="3373560" cy="1984680"/>
          </a:xfrm>
          <a:prstGeom prst="rect">
            <a:avLst/>
          </a:prstGeom>
          <a:ln w="0">
            <a:noFill/>
          </a:ln>
        </p:spPr>
      </p:pic>
      <p:sp>
        <p:nvSpPr>
          <p:cNvPr id="275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42920" y="164304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ина оператора повторення або веб-сторінки на мові НТ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– Організм людини в його зовнішніх, фізичних форм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10" descr="52.jpg"/>
          <p:cNvPicPr/>
          <p:nvPr/>
        </p:nvPicPr>
        <p:blipFill>
          <a:blip r:embed="rId1"/>
          <a:stretch/>
        </p:blipFill>
        <p:spPr>
          <a:xfrm>
            <a:off x="1071720" y="3666960"/>
            <a:ext cx="5286240" cy="31910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2" descr="521.jpg"/>
          <p:cNvPicPr/>
          <p:nvPr/>
        </p:nvPicPr>
        <p:blipFill>
          <a:blip r:embed="rId2"/>
          <a:stretch/>
        </p:blipFill>
        <p:spPr>
          <a:xfrm>
            <a:off x="6357960" y="3181320"/>
            <a:ext cx="1797120" cy="3676680"/>
          </a:xfrm>
          <a:prstGeom prst="rect">
            <a:avLst/>
          </a:prstGeom>
          <a:ln w="0">
            <a:noFill/>
          </a:ln>
        </p:spPr>
      </p:pic>
      <p:sp>
        <p:nvSpPr>
          <p:cNvPr id="281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000680" y="36432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285840" y="178596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коли так називають мікропроцесор. – Головний відділ центральної нервової системи всіх хребетних та великого числа  безхребетних твар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11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біолог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214880" y="428616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" descr="Файл:Chimp Brain in a jar.jpg"/>
          <p:cNvPicPr/>
          <p:nvPr/>
        </p:nvPicPr>
        <p:blipFill>
          <a:blip r:embed="rId1"/>
          <a:stretch/>
        </p:blipFill>
        <p:spPr>
          <a:xfrm>
            <a:off x="5929200" y="4071960"/>
            <a:ext cx="2014560" cy="2538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http://upload.wikimedia.org/wikipedia/commons/thumb/0/02/80486dx2-large.jpg/220px-80486dx2-large.jpg"/>
          <p:cNvPicPr/>
          <p:nvPr/>
        </p:nvPicPr>
        <p:blipFill>
          <a:blip r:embed="rId2"/>
          <a:stretch/>
        </p:blipFill>
        <p:spPr>
          <a:xfrm>
            <a:off x="500040" y="4059360"/>
            <a:ext cx="3371760" cy="25128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8575560" y="636264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</a:t>
            </a:r>
            <a:r>
              <a:rPr b="0" lang="uk-UA" sz="4800" spc="-1" strike="noStrike">
                <a:solidFill>
                  <a:srgbClr val="ccccff"/>
                </a:solidFill>
                <a:latin typeface="Arial"/>
              </a:rPr>
              <a:t>іриш </a:t>
            </a: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14200" y="174456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, що на логарифмічній линійці (на якій уміли рахувати ваші бабусі, дідусі і деякі батьки) точність обчислень складала 3 знаки після ко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858000" y="6087960"/>
            <a:ext cx="14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7" descr="17.jpg"/>
          <p:cNvPicPr/>
          <p:nvPr/>
        </p:nvPicPr>
        <p:blipFill>
          <a:blip r:embed="rId1"/>
          <a:stretch/>
        </p:blipFill>
        <p:spPr>
          <a:xfrm>
            <a:off x="214200" y="3978360"/>
            <a:ext cx="4857840" cy="270036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9280" y="1905120"/>
            <a:ext cx="825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те, що операційна систем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пускає існування в одній папці файлів з іменами список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писок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7215120" y="4643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Рисунок 7" descr="19.jpg"/>
          <p:cNvPicPr/>
          <p:nvPr/>
        </p:nvPicPr>
        <p:blipFill>
          <a:blip r:embed="rId1"/>
          <a:stretch/>
        </p:blipFill>
        <p:spPr>
          <a:xfrm>
            <a:off x="3071880" y="4143240"/>
            <a:ext cx="2786040" cy="254952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28600" y="1905120"/>
            <a:ext cx="812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те, що мову програмування  Паскаль створив Блез Паска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429680" y="5929200"/>
            <a:ext cx="157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Рисунок 7" descr="20.jpg"/>
          <p:cNvPicPr/>
          <p:nvPr/>
        </p:nvPicPr>
        <p:blipFill>
          <a:blip r:embed="rId1"/>
          <a:stretch/>
        </p:blipFill>
        <p:spPr>
          <a:xfrm>
            <a:off x="2143080" y="3841920"/>
            <a:ext cx="4786200" cy="301608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250920" y="1905120"/>
            <a:ext cx="81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існування моделей  персональних комп’ютерів, у яких  був відсутній жорсткий дис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143840" y="6087960"/>
            <a:ext cx="127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Рисунок 7" descr="18.jpg"/>
          <p:cNvPicPr/>
          <p:nvPr/>
        </p:nvPicPr>
        <p:blipFill>
          <a:blip r:embed="rId1"/>
          <a:stretch/>
        </p:blipFill>
        <p:spPr>
          <a:xfrm>
            <a:off x="2786040" y="3639960"/>
            <a:ext cx="3786120" cy="29908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52280" y="190512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иріте ви в те, що комп’ютерні віруси з’явилися в 5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ках ХХ столітт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286760" y="6000840"/>
            <a:ext cx="171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6" descr="21.jpg"/>
          <p:cNvPicPr/>
          <p:nvPr/>
        </p:nvPicPr>
        <p:blipFill>
          <a:blip r:embed="rId1"/>
          <a:stretch/>
        </p:blipFill>
        <p:spPr>
          <a:xfrm>
            <a:off x="3071880" y="2928960"/>
            <a:ext cx="2881080" cy="37861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12"/>
          <p:cNvSpPr/>
          <p:nvPr/>
        </p:nvSpPr>
        <p:spPr>
          <a:xfrm>
            <a:off x="35712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Віриш – не віри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52280" y="1905120"/>
            <a:ext cx="827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 вірите ви в те, що після виконання   дефрагментації, об’єм вільного місця на диску збільшить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286760" y="6000840"/>
            <a:ext cx="171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8" descr="22.jpg"/>
          <p:cNvPicPr/>
          <p:nvPr/>
        </p:nvPicPr>
        <p:blipFill>
          <a:blip r:embed="rId1"/>
          <a:stretch/>
        </p:blipFill>
        <p:spPr>
          <a:xfrm>
            <a:off x="2571840" y="3875040"/>
            <a:ext cx="4071960" cy="29829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6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347920" y="2602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00"/>
                </a:solidFill>
                <a:latin typeface="Comic Sans MS"/>
              </a:rPr>
              <a:t>Категорі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3880" y="1184400"/>
            <a:ext cx="7200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Пристрої введення інформаці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Пристрої для виведення інформаці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Апаратне забезпечення П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Програмне забезпеченн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Носії інформації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Графічний редактор Pai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Службові програми Win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Вірусологія П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Архівація дан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Робочий стіл Win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Робота з файлами та паками в Win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c2a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2afff"/>
                </a:solidFill>
                <a:latin typeface="Arial"/>
              </a:rPr>
              <a:t>Таємниц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5"/>
          <p:cNvSpPr txBox="1"/>
          <p:nvPr/>
        </p:nvSpPr>
        <p:spPr>
          <a:xfrm>
            <a:off x="785880" y="5634000"/>
            <a:ext cx="755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ітаємо переможців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9" name="Picture 13" descr="http://img1.liveinternet.ru/images/attach/c/2/65/851/65851715_1288201535_43287.png"/>
          <p:cNvPicPr/>
          <p:nvPr/>
        </p:nvPicPr>
        <p:blipFill>
          <a:blip r:embed="rId1"/>
          <a:stretch/>
        </p:blipFill>
        <p:spPr>
          <a:xfrm>
            <a:off x="0" y="214200"/>
            <a:ext cx="9145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14200" y="2155680"/>
          <a:ext cx="8642520" cy="4702320"/>
        </p:xfrm>
        <a:graphic>
          <a:graphicData uri="http://schemas.openxmlformats.org/drawingml/2006/table">
            <a:tbl>
              <a:tblPr/>
              <a:tblGrid>
                <a:gridCol w="1440000"/>
                <a:gridCol w="1441440"/>
                <a:gridCol w="1476360"/>
                <a:gridCol w="1403280"/>
                <a:gridCol w="1476360"/>
                <a:gridCol w="1405080"/>
              </a:tblGrid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57120" y="1071720"/>
          <a:ext cx="8569440" cy="4701960"/>
        </p:xfrm>
        <a:graphic>
          <a:graphicData uri="http://schemas.openxmlformats.org/drawingml/2006/table">
            <a:tbl>
              <a:tblPr/>
              <a:tblGrid>
                <a:gridCol w="1366920"/>
                <a:gridCol w="1512720"/>
                <a:gridCol w="1368720"/>
                <a:gridCol w="1439640"/>
                <a:gridCol w="1441440"/>
                <a:gridCol w="1440000"/>
              </a:tblGrid>
              <a:tr h="11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800" spc="-1" strike="noStrike" u="sng">
                          <a:solidFill>
                            <a:srgbClr val="9999ff"/>
                          </a:solidFill>
                          <a:uFillTx/>
                          <a:latin typeface="Times New Roman"/>
                          <a:ea typeface="Times New Roman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2920" y="16430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ізновид носія інформації.   —   Спортивний   снаряд для мета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14200" y="3714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ис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10" descr="59.jpg"/>
          <p:cNvPicPr/>
          <p:nvPr/>
        </p:nvPicPr>
        <p:blipFill>
          <a:blip r:embed="rId1"/>
          <a:stretch/>
        </p:blipFill>
        <p:spPr>
          <a:xfrm>
            <a:off x="1357200" y="3429000"/>
            <a:ext cx="6756480" cy="3157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0" descr="60.jpg"/>
          <p:cNvPicPr/>
          <p:nvPr/>
        </p:nvPicPr>
        <p:blipFill>
          <a:blip r:embed="rId1"/>
          <a:stretch/>
        </p:blipFill>
        <p:spPr>
          <a:xfrm>
            <a:off x="1344600" y="4510080"/>
            <a:ext cx="6942240" cy="2276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42920" y="1643040"/>
            <a:ext cx="82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ілянка магнітного диска у вигляді двох концентричних кіл, що утворюються при розмітці диску. — Спеціально влаштована дистанція для бігу, плаванння, боулі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86080" y="61437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оріж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0" descr="61.jpg"/>
          <p:cNvPicPr/>
          <p:nvPr/>
        </p:nvPicPr>
        <p:blipFill>
          <a:blip r:embed="rId1"/>
          <a:stretch/>
        </p:blipFill>
        <p:spPr>
          <a:xfrm>
            <a:off x="1500120" y="2857680"/>
            <a:ext cx="608976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42920" y="164304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нонім поняття "оператор в програмі". — Спортивний колек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929120" y="3143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манд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42920" y="164304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емент матричного принтера. — Вузька полоска тканини або паперу, що кріпиться на фініші дистанції на змаганням з бі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85880" y="45720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трі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>
            <a:off x="8429760" y="571680"/>
            <a:ext cx="714240" cy="6286320"/>
          </a:xfrm>
          <a:prstGeom prst="rect">
            <a:avLst/>
          </a:prstGeom>
          <a:solidFill>
            <a:srgbClr val="fe5c5c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0" descr="62.jpg"/>
          <p:cNvPicPr/>
          <p:nvPr/>
        </p:nvPicPr>
        <p:blipFill>
          <a:blip r:embed="rId1"/>
          <a:stretch/>
        </p:blipFill>
        <p:spPr>
          <a:xfrm>
            <a:off x="2571840" y="3192480"/>
            <a:ext cx="4714920" cy="3665520"/>
          </a:xfrm>
          <a:prstGeom prst="rect">
            <a:avLst/>
          </a:prstGeom>
          <a:ln w="0">
            <a:noFill/>
          </a:ln>
        </p:spPr>
      </p:pic>
      <p:sp>
        <p:nvSpPr>
          <p:cNvPr id="201" name="Заголовок 12"/>
          <p:cNvSpPr/>
          <p:nvPr/>
        </p:nvSpPr>
        <p:spPr>
          <a:xfrm>
            <a:off x="214200" y="571680"/>
            <a:ext cx="8587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ccff"/>
                </a:solidFill>
                <a:latin typeface="Arial"/>
              </a:rPr>
              <a:t>Інформатика та спор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6">
            <a:hlinkClick r:id="rId2" action="ppaction://hlinksldjump"/>
          </p:cNvPr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2-28T17:50:11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18000000000001024140</vt:lpwstr>
  </property>
</Properties>
</file>