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E07-A02A-4FF7-9B4C-A380F283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A85-7B5C-4B1D-81E9-20965CD3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6F4-F857-472E-BE9E-9048EB6D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2F8-58BB-4B4B-9EF7-B0B69D3D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BC8-52F7-45E2-8266-E42BF0B5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6C6-CBD3-4C33-B407-BCFC872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5B5-468C-44EF-871E-A61A1C7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704-AF20-49BB-8446-4EBFEC89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BC0-55AC-4E48-B0EE-3EE0E2BB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539-562A-45CA-992A-C9DE635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BB1-D2DB-4191-BCCA-EAA118B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3C6-6436-4819-A7D5-454B339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7DC-3077-490B-B31B-BFC6B1F9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№3 «КИТАЙСЬКИЙ ГОРОСКО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рібно, ввівши рік свого народження, д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натися який це рік за китайським гороскоп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40003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ЕКТ №4 “ПОЇЗДК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рахувати вартість  пального для поїз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5 “ШКІЛЬНА ЇДАЛЬН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трібно вибрати в меню страви і обчислити їх варт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9560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№6 «КОМУНАЛЬНІ ПЛАТЕЖ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числити суму оплати за комунальн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слуги за теперішніми тариф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3509" t="15502" r="56251" b="40207"/>
          <a:stretch/>
        </p:blipFill>
        <p:spPr>
          <a:xfrm>
            <a:off x="4643280" y="2781360"/>
            <a:ext cx="3586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ЕКТ №7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РТІСТЬ П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Підібрати ПК на потрібну суму і потрібної конфігур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43280" y="2548080"/>
            <a:ext cx="3346560" cy="430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8 “ВАРТІСТЬ ФОТ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Обчислити суму замовлених фото різних розмір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5185080" cy="359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ЕКТ №9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“ДВАНАДЦЯТЬ МІСЯЦІВ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номером місяця потрібно вивести на екран його українську та англійську назви і картинку пори року, </a:t>
            </a:r>
            <a:br>
              <a:rPr sz="2000"/>
            </a:b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 якої належить міся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0121000">
            <a:off x="1042920" y="2852640"/>
            <a:ext cx="2803680" cy="359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3143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ласти програму, яка за визначенням віку, що вводиться з клавіатури, дає певну характеристику про вік людини, за такою таблицею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ше ніж 15 років – дитяч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30 – молод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45 – середні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5-60 – зріл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ільше ніж 60 – похи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968480" cy="1652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6877080" y="429264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34920" y="1197000"/>
            <a:ext cx="511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ння недостатньо — ми повинні застосовувати й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ажання недостатньо — ми повинні діяти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рюс 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616600">
            <a:off x="539640" y="4005000"/>
            <a:ext cx="221148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згалуження  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актична робота №8 «Складання програм 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 розгалужння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324000" y="5148360"/>
            <a:ext cx="1800000" cy="170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9404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03640" y="3357720"/>
            <a:ext cx="28623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692280"/>
            <a:ext cx="7772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систематизувати та узагальнити знання та навички зі складання  програм із розгалуженн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020000" y="5048280"/>
            <a:ext cx="190476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182800">
            <a:off x="468360" y="4220640"/>
            <a:ext cx="2065320" cy="206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464000">
            <a:off x="1692000" y="4581000"/>
            <a:ext cx="2065320" cy="206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718200">
            <a:off x="3850920" y="407664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лаканина нічого не в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жіть мені код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 Лінус Торвальд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8178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нтерактивний метод «Ак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ріум” (Створення тестової програм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53080" cy="324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524720" y="5319720"/>
            <a:ext cx="1619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2519640" cy="188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6084720" y="4437000"/>
            <a:ext cx="1905120" cy="180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84360" y="476280"/>
            <a:ext cx="72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НА РОБОТА №8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ладання програм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розгалуженням"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543240" y="2133720"/>
            <a:ext cx="47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истематизувати та узагальн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нання та навички зі склад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грам із розгалуже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1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ГАДАННЯ НА РОМАШЦ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3815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№2 «КОНТРОЛЬ ВАГ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3888000" cy="31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р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і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но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розрахувати ідеальну вагу людини, враховуючи вік та 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7:49:39Z</dcterms:created>
  <dc:creator>teacher</dc:creator>
  <dc:description/>
  <dc:language>en-US</dc:language>
  <cp:lastModifiedBy>Computer</cp:lastModifiedBy>
  <dcterms:modified xsi:type="dcterms:W3CDTF">2012-11-25T20:18:10Z</dcterms:modified>
  <cp:revision>12</cp:revision>
  <dc:subject/>
  <dc:title>Розгалуження  на Delphi.  Практична робота №8 «Складання програм із розгалужнням» Мета: систематизувати та узагальнити знання та навички зі складання  програм із розгалуженням</dc:title>
</cp:coreProperties>
</file>