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462-4DD1-455B-897D-2A62D69D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4FA-8414-45ED-8AB1-4DC207D4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81F-02C5-4F43-AB19-6644A683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440-0177-4DE4-BBC5-A63AF8AF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DEF-D868-4690-BFEB-8F3F9292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AD1-81E2-4197-AE93-55F752F7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865-4A79-45EA-9E43-F59C158C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856-E7B5-4834-A859-A6A81D9B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904-A35C-4F2A-A11F-DE5D65A0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88D-D0D3-4383-B498-DCF929D3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FCC-C992-40D7-82FD-5CC4933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4E4-C07D-4356-B392-79A309C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6A5E-8BE6-452E-B7FB-574FE1A5F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 №3 «КИТАЙСЬКИЙ ГОРОСКОП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трібно, ввівши рік свого народження, д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натися який це рік за китайським гороскоп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700360" y="3429000"/>
            <a:ext cx="40003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ОЕКТ №4 “ПОЇЗДК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зрахувати вартість  пального для поїз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8098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ЕКТ №5 “ШКІЛЬНА ЇДАЛЬНЯ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отрібно вибрати в меню страви і обчислити їх варт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39560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№6 «КОМУНАЛЬНІ ПЛАТЕЖ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числити суму оплати за комунальн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ослуги за теперішніми тариф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13509" t="15502" r="56251" b="40207"/>
          <a:stretch/>
        </p:blipFill>
        <p:spPr>
          <a:xfrm>
            <a:off x="4643280" y="2781360"/>
            <a:ext cx="3586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ОЕКТ №7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АРТІСТЬ П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4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Підібрати ПК на потрібну суму і потрібної конфігур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43280" y="2548080"/>
            <a:ext cx="3346560" cy="430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http://vispyanskiy.name/wp-content/themes/minyx2Lite/pix/dzurka.png"/>
          <p:cNvPicPr/>
          <p:nvPr/>
        </p:nvPicPr>
        <p:blipFill>
          <a:blip r:embed="rId2"/>
          <a:stretch/>
        </p:blipFill>
        <p:spPr>
          <a:xfrm>
            <a:off x="7238880" y="5048280"/>
            <a:ext cx="1905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ЕКТ №8 “ВАРТІСТЬ ФОТО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Обчислити суму замовлених фото різних розмір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5185080" cy="359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http://vispyanskiy.name/wp-content/themes/minyx2Lite/pix/dzurka.png"/>
          <p:cNvPicPr/>
          <p:nvPr/>
        </p:nvPicPr>
        <p:blipFill>
          <a:blip r:embed="rId2"/>
          <a:stretch/>
        </p:blipFill>
        <p:spPr>
          <a:xfrm>
            <a:off x="7238880" y="5048280"/>
            <a:ext cx="1905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РОЕКТ №9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“ДВАНАДЦЯТЬ МІСЯЦІВ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номером місяця потрібно вивести на екран його українську та англійську назви і картинку пори року, </a:t>
            </a:r>
            <a:br>
              <a:rPr sz="2000"/>
            </a:b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до якої належить місяц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http://vispyanskiy.name/wp-content/themes/minyx2Lite/pix/dzurka.png"/>
          <p:cNvPicPr/>
          <p:nvPr/>
        </p:nvPicPr>
        <p:blipFill>
          <a:blip r:embed="rId1"/>
          <a:stretch/>
        </p:blipFill>
        <p:spPr>
          <a:xfrm>
            <a:off x="7238880" y="5048280"/>
            <a:ext cx="1905120" cy="1809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20121000">
            <a:off x="1042920" y="2852640"/>
            <a:ext cx="2803680" cy="3594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3143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ласти програму, яка за визначенням віку, що вводиться з клавіатури, дає певну характеристику про вік людини, за такою таблицею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ше ніж 15 років – дитяч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-30 – молод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-45 – середні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5-60 – зріл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ільше ніж 60 – похи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968480" cy="1652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http://vispyanskiy.name/wp-content/themes/minyx2Lite/pix/dzurka.png"/>
          <p:cNvPicPr/>
          <p:nvPr/>
        </p:nvPicPr>
        <p:blipFill>
          <a:blip r:embed="rId2"/>
          <a:stretch/>
        </p:blipFill>
        <p:spPr>
          <a:xfrm>
            <a:off x="6877080" y="4292640"/>
            <a:ext cx="1905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689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34920" y="1197000"/>
            <a:ext cx="5113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ння недостатньо — ми повинні застосовувати й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ажання недостатньо — ми повинні діяти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рюс 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0616600">
            <a:off x="539640" y="4005000"/>
            <a:ext cx="221148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згалуження  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актична робота №8 «Складання програм 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 розгалужнням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ttp://vispyanskiy.name/wp-content/themes/minyx2Lite/pix/dzurka.png"/>
          <p:cNvPicPr/>
          <p:nvPr/>
        </p:nvPicPr>
        <p:blipFill>
          <a:blip r:embed="rId1"/>
          <a:stretch/>
        </p:blipFill>
        <p:spPr>
          <a:xfrm>
            <a:off x="324000" y="5148360"/>
            <a:ext cx="1800000" cy="170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2894040" cy="71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003640" y="3357720"/>
            <a:ext cx="28623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55640" y="692280"/>
            <a:ext cx="77724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систематизувати та узагальнити знання та навички зі складання  програм із розгалуженн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http://vispyanskiy.name/wp-content/themes/minyx2Lite/pix/dzurka.png"/>
          <p:cNvPicPr/>
          <p:nvPr/>
        </p:nvPicPr>
        <p:blipFill>
          <a:blip r:embed="rId1"/>
          <a:stretch/>
        </p:blipFill>
        <p:spPr>
          <a:xfrm>
            <a:off x="7020000" y="5048280"/>
            <a:ext cx="1904760" cy="1809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182800">
            <a:off x="468360" y="4220640"/>
            <a:ext cx="2065320" cy="206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1464000">
            <a:off x="1692000" y="4581000"/>
            <a:ext cx="2065320" cy="206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 rot="718200">
            <a:off x="3850920" y="4076640"/>
            <a:ext cx="20653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лаканина нічого не ва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ажіть мені код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— Лінус Торвальд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http://vispyanskiy.name/wp-content/themes/minyx2Lite/pix/dzurka.png"/>
          <p:cNvPicPr/>
          <p:nvPr/>
        </p:nvPicPr>
        <p:blipFill>
          <a:blip r:embed="rId1"/>
          <a:stretch/>
        </p:blipFill>
        <p:spPr>
          <a:xfrm>
            <a:off x="7238880" y="5048280"/>
            <a:ext cx="1905120" cy="180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38178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Інтерактивний метод «Акв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аріум” (Створення тестової програми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4753080" cy="3244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http://vispyanskiy.name/wp-content/themes/minyx2Lite/pix/dzurka.png"/>
          <p:cNvPicPr/>
          <p:nvPr/>
        </p:nvPicPr>
        <p:blipFill>
          <a:blip r:embed="rId2"/>
          <a:stretch/>
        </p:blipFill>
        <p:spPr>
          <a:xfrm>
            <a:off x="7524720" y="5319720"/>
            <a:ext cx="16192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00000" y="3357720"/>
            <a:ext cx="2519640" cy="188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ttp://vispyanskiy.name/wp-content/themes/minyx2Lite/pix/dzurka.png"/>
          <p:cNvPicPr/>
          <p:nvPr/>
        </p:nvPicPr>
        <p:blipFill>
          <a:blip r:embed="rId2"/>
          <a:stretch/>
        </p:blipFill>
        <p:spPr>
          <a:xfrm>
            <a:off x="6084720" y="4437000"/>
            <a:ext cx="1905120" cy="180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84360" y="476280"/>
            <a:ext cx="720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ЧНА РОБОТА №8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ладання програм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розгалуженням"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543240" y="2133720"/>
            <a:ext cx="47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систематизувати та узагальн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нання та навички зі склад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програм із розгалуженн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ЕКТ №1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ГАДАННЯ НА РОМАШЦ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3815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 №2 «КОНТРОЛЬ ВАГ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27280" y="3141720"/>
            <a:ext cx="3888000" cy="3162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тр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і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но 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розрахувати ідеальну вагу людини, враховуючи вік та 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7:49:39Z</dcterms:created>
  <dc:creator>teacher</dc:creator>
  <dc:description/>
  <dc:language>en-US</dc:language>
  <cp:lastModifiedBy>Computer</cp:lastModifiedBy>
  <dcterms:modified xsi:type="dcterms:W3CDTF">2012-11-25T20:18:10Z</dcterms:modified>
  <cp:revision>12</cp:revision>
  <dc:subject/>
  <dc:title>Розгалуження  на Delphi.  Практична робота №8 «Складання програм із розгалужнням» Мета: систематизувати та узагальнити знання та навички зі складання  програм із розгалуженням</dc:title>
</cp:coreProperties>
</file>