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F0B-EE68-4653-852E-C0BEAE1D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B84-190E-47F1-880E-8313759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868-9288-4979-BB01-764DD7D5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0DB-8110-45B5-B555-87F69B59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BFF-A765-46A9-8B14-D69E3930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207-9508-441B-B44C-F5141B18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E79-F501-43CE-B961-591BA07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B85-B8E0-4F0A-8126-B248A415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F43-B81D-4206-BC4B-8D7C387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4C5-6A69-45C6-A0D1-B82C1D6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572-C80C-4D61-A244-6D8BEB8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53B-1D4F-496D-8884-6994B1C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7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27E3-D7BC-4F03-89C7-676E6B185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Администратор\Рабочий стол\Рисунок1.jpg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84807"/>
                </a:solidFill>
                <a:latin typeface="Comic Sans MS"/>
              </a:rPr>
              <a:t>Шлях до майбутнього з поглядом на мину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48000" y="3789360"/>
            <a:ext cx="579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Виконав студ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фізико-математичного факультету групи м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92e21"/>
                </a:solidFill>
                <a:latin typeface="Calibri"/>
              </a:rPr>
              <a:t>Бучок Юрій Ігор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596360" y="5877000"/>
            <a:ext cx="936360" cy="43164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836" h="21600">
                <a:moveTo>
                  <a:pt x="0" y="0"/>
                </a:moveTo>
                <a:lnTo>
                  <a:pt x="46836" y="0"/>
                </a:lnTo>
                <a:lnTo>
                  <a:pt x="46836" y="21600"/>
                </a:lnTo>
                <a:lnTo>
                  <a:pt x="0" y="21600"/>
                </a:lnTo>
                <a:close/>
              </a:path>
              <a:path fill="lightenLess" w="46836" h="21600">
                <a:moveTo>
                  <a:pt x="0" y="0"/>
                </a:moveTo>
                <a:lnTo>
                  <a:pt x="46836" y="0"/>
                </a:lnTo>
                <a:lnTo>
                  <a:pt x="45436" y="1400"/>
                </a:lnTo>
                <a:lnTo>
                  <a:pt x="1400" y="1400"/>
                </a:lnTo>
                <a:close/>
              </a:path>
              <a:path fill="darken" w="46836" h="21600">
                <a:moveTo>
                  <a:pt x="46836" y="0"/>
                </a:moveTo>
                <a:lnTo>
                  <a:pt x="46836" y="21600"/>
                </a:lnTo>
                <a:lnTo>
                  <a:pt x="45436" y="20200"/>
                </a:lnTo>
                <a:lnTo>
                  <a:pt x="45436" y="1400"/>
                </a:lnTo>
                <a:close/>
              </a:path>
              <a:path fill="darkenLess" w="46836" h="21600">
                <a:moveTo>
                  <a:pt x="4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36" y="20200"/>
                </a:lnTo>
                <a:close/>
              </a:path>
              <a:path fill="lighten" w="4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836" h="21600">
                <a:moveTo>
                  <a:pt x="16412" y="3794"/>
                </a:moveTo>
                <a:lnTo>
                  <a:pt x="30424" y="10800"/>
                </a:lnTo>
                <a:lnTo>
                  <a:pt x="1641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050920" y="2349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omic Sans MS"/>
              </a:rPr>
              <a:t>Мину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гнутая вниз стрелка 4"/>
          <p:cNvSpPr/>
          <p:nvPr/>
        </p:nvSpPr>
        <p:spPr>
          <a:xfrm>
            <a:off x="5580000" y="3068640"/>
            <a:ext cx="2232000" cy="1081080"/>
          </a:xfrm>
          <a:custGeom>
            <a:avLst/>
            <a:gdLst>
              <a:gd name="textAreaLeft" fmla="*/ 456480 w 2232000"/>
              <a:gd name="textAreaRight" fmla="*/ 1640160 w 223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-3464884"/>
                <a:lnTo>
                  <a:pt x="21319" y="5400"/>
                </a:lnTo>
                <a:lnTo>
                  <a:pt x="18985" y="0"/>
                </a:lnTo>
                <a:lnTo>
                  <a:pt x="16088" y="5400"/>
                </a:lnTo>
                <a:lnTo>
                  <a:pt x="17396" y="5400"/>
                </a:lnTo>
                <a:arcTo wR="8839" hR="21600" stAng="1935116" swAng="3254736"/>
                <a:lnTo>
                  <a:pt x="10146" y="21362"/>
                </a:lnTo>
                <a:arcTo wR="8839" hR="21600" stAng="5610148" swAng="5189852"/>
                <a:close/>
              </a:path>
              <a:path fill="darkenLess"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210148"/>
                <a:lnTo>
                  <a:pt x="10146" y="21362"/>
                </a:lnTo>
                <a:arcTo wR="8839" hR="21600" stAng="5610148" swAng="5189852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Выгнутая вниз стрелка 5"/>
          <p:cNvSpPr/>
          <p:nvPr/>
        </p:nvSpPr>
        <p:spPr>
          <a:xfrm flipH="1">
            <a:off x="1979640" y="3068640"/>
            <a:ext cx="2232000" cy="1081080"/>
          </a:xfrm>
          <a:custGeom>
            <a:avLst/>
            <a:gdLst>
              <a:gd name="textAreaLeft" fmla="*/ 456480 w 2232000"/>
              <a:gd name="textAreaRight" fmla="*/ 1640160 w 223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-3464884"/>
                <a:lnTo>
                  <a:pt x="21319" y="5400"/>
                </a:lnTo>
                <a:lnTo>
                  <a:pt x="18985" y="0"/>
                </a:lnTo>
                <a:lnTo>
                  <a:pt x="16088" y="5400"/>
                </a:lnTo>
                <a:lnTo>
                  <a:pt x="17396" y="5400"/>
                </a:lnTo>
                <a:arcTo wR="8839" hR="21600" stAng="1935116" swAng="3254736"/>
                <a:lnTo>
                  <a:pt x="10146" y="21362"/>
                </a:lnTo>
                <a:arcTo wR="8839" hR="21600" stAng="5610148" swAng="5189852"/>
                <a:close/>
              </a:path>
              <a:path fill="darkenLess" w="21600" h="21600">
                <a:moveTo>
                  <a:pt x="0" y="0"/>
                </a:moveTo>
                <a:arcTo wR="8839" hR="21600" stAng="10800000" swAng="-5400000"/>
                <a:lnTo>
                  <a:pt x="11454" y="21600"/>
                </a:lnTo>
                <a:arcTo wR="8839" hR="21600" stAng="5400000" swAng="210148"/>
                <a:lnTo>
                  <a:pt x="10146" y="21362"/>
                </a:lnTo>
                <a:arcTo wR="8839" hR="21600" stAng="5610148" swAng="5189852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верх 6"/>
          <p:cNvSpPr/>
          <p:nvPr/>
        </p:nvSpPr>
        <p:spPr>
          <a:xfrm flipV="1">
            <a:off x="4716360" y="3068640"/>
            <a:ext cx="503280" cy="1512720"/>
          </a:xfrm>
          <a:prstGeom prst="up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1332000" y="249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omic Sans MS"/>
              </a:rPr>
              <a:t>В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372360" y="2276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Comic Sans MS"/>
              </a:rPr>
              <a:t>Комбайнов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995640" y="45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040"/>
                </a:solidFill>
                <a:latin typeface="Comic Sans MS"/>
              </a:rPr>
              <a:t>Текст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іівч.jpg"/>
          <p:cNvPicPr/>
          <p:nvPr/>
        </p:nvPicPr>
        <p:blipFill>
          <a:blip r:embed="rId2"/>
          <a:stretch/>
        </p:blipFill>
        <p:spPr>
          <a:xfrm>
            <a:off x="3924360" y="5010120"/>
            <a:ext cx="2467080" cy="165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1800360" cy="1576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1862280" cy="134460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68436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6021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484360" y="69228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46c0a"/>
                </a:solidFill>
                <a:latin typeface="Comic Sans MS"/>
              </a:rPr>
              <a:t>Сьогод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4"/>
          <p:cNvSpPr/>
          <p:nvPr/>
        </p:nvSpPr>
        <p:spPr>
          <a:xfrm rot="2197200">
            <a:off x="2447640" y="1473120"/>
            <a:ext cx="631800" cy="12956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5"/>
          <p:cNvSpPr/>
          <p:nvPr/>
        </p:nvSpPr>
        <p:spPr>
          <a:xfrm>
            <a:off x="4284720" y="2133720"/>
            <a:ext cx="630360" cy="1295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7"/>
          <p:cNvSpPr/>
          <p:nvPr/>
        </p:nvSpPr>
        <p:spPr>
          <a:xfrm rot="19491000">
            <a:off x="5680080" y="1476000"/>
            <a:ext cx="630360" cy="1295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9640" y="2708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Закриття підприєм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348000" y="37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Безробі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5724360" y="2637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53735"/>
                </a:solidFill>
                <a:latin typeface="Comic Sans MS"/>
              </a:rPr>
              <a:t>Еміг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2" descr="пп.jpeg"/>
          <p:cNvPicPr/>
          <p:nvPr/>
        </p:nvPicPr>
        <p:blipFill>
          <a:blip r:embed="rId1"/>
          <a:stretch/>
        </p:blipFill>
        <p:spPr>
          <a:xfrm>
            <a:off x="3492360" y="4076640"/>
            <a:ext cx="2372040" cy="19242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орпо.jpeg"/>
          <p:cNvPicPr/>
          <p:nvPr/>
        </p:nvPicPr>
        <p:blipFill>
          <a:blip r:embed="rId2"/>
          <a:stretch/>
        </p:blipFill>
        <p:spPr>
          <a:xfrm>
            <a:off x="82692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4" descr="р.jpeg"/>
          <p:cNvPicPr/>
          <p:nvPr/>
        </p:nvPicPr>
        <p:blipFill>
          <a:blip r:embed="rId3"/>
          <a:stretch/>
        </p:blipFill>
        <p:spPr>
          <a:xfrm>
            <a:off x="6156360" y="3213000"/>
            <a:ext cx="2371680" cy="178596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95280" y="6000840"/>
            <a:ext cx="936720" cy="452520"/>
          </a:xfrm>
          <a:custGeom>
            <a:avLst/>
            <a:gdLst>
              <a:gd name="textAreaLeft" fmla="*/ 29160 w 936720"/>
              <a:gd name="textAreaRight" fmla="*/ 907560 w 9367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94" h="21600">
                <a:moveTo>
                  <a:pt x="0" y="0"/>
                </a:moveTo>
                <a:lnTo>
                  <a:pt x="44694" y="0"/>
                </a:lnTo>
                <a:lnTo>
                  <a:pt x="44694" y="21600"/>
                </a:lnTo>
                <a:lnTo>
                  <a:pt x="0" y="21600"/>
                </a:lnTo>
                <a:close/>
              </a:path>
              <a:path fill="lightenLess" w="44694" h="21600">
                <a:moveTo>
                  <a:pt x="0" y="0"/>
                </a:moveTo>
                <a:lnTo>
                  <a:pt x="44694" y="0"/>
                </a:lnTo>
                <a:lnTo>
                  <a:pt x="43294" y="1400"/>
                </a:lnTo>
                <a:lnTo>
                  <a:pt x="1400" y="1400"/>
                </a:lnTo>
                <a:close/>
              </a:path>
              <a:path fill="darken" w="44694" h="21600">
                <a:moveTo>
                  <a:pt x="44694" y="0"/>
                </a:moveTo>
                <a:lnTo>
                  <a:pt x="44694" y="21600"/>
                </a:lnTo>
                <a:lnTo>
                  <a:pt x="43294" y="20200"/>
                </a:lnTo>
                <a:lnTo>
                  <a:pt x="43294" y="1400"/>
                </a:lnTo>
                <a:close/>
              </a:path>
              <a:path fill="darkenLess" w="44694" h="21600">
                <a:moveTo>
                  <a:pt x="44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4" y="20200"/>
                </a:lnTo>
                <a:close/>
              </a:path>
              <a:path fill="lighten" w="44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4" h="21600">
                <a:moveTo>
                  <a:pt x="15340" y="10800"/>
                </a:moveTo>
                <a:lnTo>
                  <a:pt x="29353" y="3794"/>
                </a:lnTo>
                <a:lnTo>
                  <a:pt x="2935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01080" y="6227640"/>
            <a:ext cx="718920" cy="370080"/>
          </a:xfrm>
          <a:custGeom>
            <a:avLst/>
            <a:gdLst>
              <a:gd name="textAreaLeft" fmla="*/ 23760 w 718920"/>
              <a:gd name="textAreaRight" fmla="*/ 695160 w 71892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41941" h="21600">
                <a:moveTo>
                  <a:pt x="0" y="0"/>
                </a:moveTo>
                <a:lnTo>
                  <a:pt x="41941" y="0"/>
                </a:lnTo>
                <a:lnTo>
                  <a:pt x="41941" y="21600"/>
                </a:lnTo>
                <a:lnTo>
                  <a:pt x="0" y="21600"/>
                </a:lnTo>
                <a:close/>
              </a:path>
              <a:path fill="lightenLess" w="41941" h="21600">
                <a:moveTo>
                  <a:pt x="0" y="0"/>
                </a:moveTo>
                <a:lnTo>
                  <a:pt x="41941" y="0"/>
                </a:lnTo>
                <a:lnTo>
                  <a:pt x="40541" y="1400"/>
                </a:lnTo>
                <a:lnTo>
                  <a:pt x="1400" y="1400"/>
                </a:lnTo>
                <a:close/>
              </a:path>
              <a:path fill="darken" w="41941" h="21600">
                <a:moveTo>
                  <a:pt x="41941" y="0"/>
                </a:moveTo>
                <a:lnTo>
                  <a:pt x="41941" y="21600"/>
                </a:lnTo>
                <a:lnTo>
                  <a:pt x="40541" y="20200"/>
                </a:lnTo>
                <a:lnTo>
                  <a:pt x="40541" y="1400"/>
                </a:lnTo>
                <a:close/>
              </a:path>
              <a:path fill="darkenLess" w="41941" h="21600">
                <a:moveTo>
                  <a:pt x="41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1" y="20200"/>
                </a:lnTo>
                <a:close/>
              </a:path>
              <a:path fill="lighten" w="41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1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п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317080" y="5661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правляющая кнопка: назад 2">
            <a:hlinkClick r:id="" action="ppaction://hlinkshowjump?jump=previousslide"/>
          </p:cNvPr>
          <p:cNvSpPr/>
          <p:nvPr/>
        </p:nvSpPr>
        <p:spPr>
          <a:xfrm>
            <a:off x="-10800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иь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c000"/>
                </a:solidFill>
                <a:latin typeface="Comic Sans MS"/>
              </a:rPr>
              <a:t>Що робит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156360" y="198900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c000"/>
                </a:solidFill>
                <a:latin typeface="Comic Sans MS"/>
              </a:rPr>
              <a:t>Куди і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179280" y="595008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1708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124000" y="1413000"/>
            <a:ext cx="5040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84807"/>
                </a:solidFill>
                <a:latin typeface="Comic Sans MS"/>
              </a:rPr>
              <a:t>Йти у </a:t>
            </a:r>
            <a:r>
              <a:rPr b="1" lang="uk-UA" sz="5400" spc="-1" strike="noStrike">
                <a:solidFill>
                  <a:srgbClr val="632523"/>
                </a:solidFill>
                <a:latin typeface="Comic Sans MS"/>
              </a:rPr>
              <a:t>МАЙБУТН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углом 8"/>
          <p:cNvSpPr/>
          <p:nvPr/>
        </p:nvSpPr>
        <p:spPr>
          <a:xfrm rot="5400000">
            <a:off x="6552000" y="2456640"/>
            <a:ext cx="1366920" cy="1152360"/>
          </a:xfrm>
          <a:custGeom>
            <a:avLst/>
            <a:gdLst/>
            <a:ahLst/>
            <a:rect l="l" t="t" r="r" b="b"/>
            <a:pathLst>
              <a:path w="1366838" h="1152525">
                <a:moveTo>
                  <a:pt x="0" y="1152525"/>
                </a:moveTo>
                <a:lnTo>
                  <a:pt x="0" y="648295"/>
                </a:lnTo>
                <a:cubicBezTo>
                  <a:pt x="0" y="369816"/>
                  <a:pt x="225751" y="144065"/>
                  <a:pt x="504230" y="144065"/>
                </a:cubicBezTo>
                <a:lnTo>
                  <a:pt x="1078707" y="144066"/>
                </a:lnTo>
                <a:lnTo>
                  <a:pt x="1078707" y="0"/>
                </a:lnTo>
                <a:lnTo>
                  <a:pt x="1366838" y="288131"/>
                </a:lnTo>
                <a:lnTo>
                  <a:pt x="1078707" y="576263"/>
                </a:lnTo>
                <a:lnTo>
                  <a:pt x="1078707" y="432197"/>
                </a:lnTo>
                <a:lnTo>
                  <a:pt x="504230" y="432197"/>
                </a:lnTo>
                <a:cubicBezTo>
                  <a:pt x="384882" y="432197"/>
                  <a:pt x="288132" y="528947"/>
                  <a:pt x="288132" y="648295"/>
                </a:cubicBezTo>
                <a:cubicBezTo>
                  <a:pt x="288132" y="816372"/>
                  <a:pt x="288131" y="984448"/>
                  <a:pt x="288131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углом 9"/>
          <p:cNvSpPr/>
          <p:nvPr/>
        </p:nvSpPr>
        <p:spPr>
          <a:xfrm flipH="1" rot="16200000">
            <a:off x="1366560" y="2529720"/>
            <a:ext cx="1368360" cy="1150920"/>
          </a:xfrm>
          <a:custGeom>
            <a:avLst/>
            <a:gdLst/>
            <a:ahLst/>
            <a:rect l="l" t="t" r="r" b="b"/>
            <a:pathLst>
              <a:path w="1368425" h="1150938">
                <a:moveTo>
                  <a:pt x="0" y="1150938"/>
                </a:moveTo>
                <a:lnTo>
                  <a:pt x="0" y="647403"/>
                </a:lnTo>
                <a:cubicBezTo>
                  <a:pt x="0" y="369308"/>
                  <a:pt x="225440" y="143868"/>
                  <a:pt x="503535" y="143868"/>
                </a:cubicBezTo>
                <a:lnTo>
                  <a:pt x="1080691" y="143867"/>
                </a:lnTo>
                <a:lnTo>
                  <a:pt x="1080691" y="0"/>
                </a:lnTo>
                <a:lnTo>
                  <a:pt x="1368425" y="287735"/>
                </a:lnTo>
                <a:lnTo>
                  <a:pt x="1080691" y="575469"/>
                </a:lnTo>
                <a:lnTo>
                  <a:pt x="1080691" y="431602"/>
                </a:lnTo>
                <a:lnTo>
                  <a:pt x="503535" y="431602"/>
                </a:lnTo>
                <a:cubicBezTo>
                  <a:pt x="384351" y="431602"/>
                  <a:pt x="287734" y="528219"/>
                  <a:pt x="287734" y="647403"/>
                </a:cubicBezTo>
                <a:cubicBezTo>
                  <a:pt x="287734" y="815248"/>
                  <a:pt x="287735" y="983093"/>
                  <a:pt x="287735" y="1150938"/>
                </a:cubicBezTo>
                <a:lnTo>
                  <a:pt x="0" y="115093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10"/>
          <p:cNvSpPr/>
          <p:nvPr/>
        </p:nvSpPr>
        <p:spPr>
          <a:xfrm>
            <a:off x="4211640" y="2852640"/>
            <a:ext cx="936720" cy="13683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3059280" y="422100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Відкриття підприємства майбутнь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179280" y="3789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Нові робочі місц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830920" y="3716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omic Sans MS"/>
              </a:rPr>
              <a:t>Повернення дод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4" descr="попо.jpeg"/>
          <p:cNvPicPr/>
          <p:nvPr/>
        </p:nvPicPr>
        <p:blipFill>
          <a:blip r:embed="rId1"/>
          <a:stretch/>
        </p:blipFill>
        <p:spPr>
          <a:xfrm>
            <a:off x="684360" y="4149720"/>
            <a:ext cx="2071440" cy="115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дрн"/>
          <p:cNvPicPr/>
          <p:nvPr/>
        </p:nvPicPr>
        <p:blipFill>
          <a:blip r:embed="rId2"/>
          <a:stretch/>
        </p:blipFill>
        <p:spPr>
          <a:xfrm>
            <a:off x="3564000" y="4941720"/>
            <a:ext cx="2016000" cy="1530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6" descr="т им.jpeg"/>
          <p:cNvPicPr/>
          <p:nvPr/>
        </p:nvPicPr>
        <p:blipFill>
          <a:blip r:embed="rId3"/>
          <a:stretch/>
        </p:blipFill>
        <p:spPr>
          <a:xfrm>
            <a:off x="6291360" y="4149720"/>
            <a:ext cx="2403360" cy="1800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88360" y="638172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179280" y="6237360"/>
            <a:ext cx="720720" cy="323640"/>
          </a:xfrm>
          <a:custGeom>
            <a:avLst/>
            <a:gdLst>
              <a:gd name="textAreaLeft" fmla="*/ 20880 w 720720"/>
              <a:gd name="textAreaRight" fmla="*/ 699840 w 7207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48072" h="21600">
                <a:moveTo>
                  <a:pt x="0" y="0"/>
                </a:moveTo>
                <a:lnTo>
                  <a:pt x="48072" y="0"/>
                </a:lnTo>
                <a:lnTo>
                  <a:pt x="48072" y="21600"/>
                </a:lnTo>
                <a:lnTo>
                  <a:pt x="0" y="21600"/>
                </a:lnTo>
                <a:close/>
              </a:path>
              <a:path fill="lightenLess" w="48072" h="21600">
                <a:moveTo>
                  <a:pt x="0" y="0"/>
                </a:moveTo>
                <a:lnTo>
                  <a:pt x="48072" y="0"/>
                </a:lnTo>
                <a:lnTo>
                  <a:pt x="46672" y="1400"/>
                </a:lnTo>
                <a:lnTo>
                  <a:pt x="1400" y="1400"/>
                </a:lnTo>
                <a:close/>
              </a:path>
              <a:path fill="darken" w="48072" h="21600">
                <a:moveTo>
                  <a:pt x="48072" y="0"/>
                </a:moveTo>
                <a:lnTo>
                  <a:pt x="48072" y="21600"/>
                </a:lnTo>
                <a:lnTo>
                  <a:pt x="46672" y="20200"/>
                </a:lnTo>
                <a:lnTo>
                  <a:pt x="46672" y="1400"/>
                </a:lnTo>
                <a:close/>
              </a:path>
              <a:path fill="darkenLess" w="48072" h="21600">
                <a:moveTo>
                  <a:pt x="4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2" y="20200"/>
                </a:lnTo>
                <a:close/>
              </a:path>
              <a:path fill="lighten" w="4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2" h="21600">
                <a:moveTo>
                  <a:pt x="17030" y="10800"/>
                </a:moveTo>
                <a:lnTo>
                  <a:pt x="31042" y="3794"/>
                </a:lnTo>
                <a:lnTo>
                  <a:pt x="3104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539640" y="771480"/>
            <a:ext cx="8332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46c0a"/>
                </a:solidFill>
                <a:latin typeface="Times New Roman"/>
              </a:rPr>
              <a:t>Ознаки підприємств, необхідні для успіху в майбутньо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2205000"/>
            <a:ext cx="727416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1)Прагаення до змін, підприємстзо майбутнього здатне змінюватися швид­ко й успіш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2)Інновації, що перевершують уяву споживачів. Підприємство майбутнього перевершує очікування все більш вимогливих споживач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3)Глобальна інтеграція. Підприємство майбутнього інтегрується з метою ви­користання можливостей сучасної економі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4)Радикалізм. Підприємство майбутнього радикально перетворює свою бізнес-модель, усуваючи основу для конкурен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32523"/>
                </a:solidFill>
                <a:latin typeface="Comic Sans MS"/>
              </a:rPr>
              <a:t>5)Соціальна відповідальність, що виходять за рамки звичайного благодій­ниц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826920" y="623736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10800"/>
                </a:moveTo>
                <a:lnTo>
                  <a:pt x="27044" y="3794"/>
                </a:lnTo>
                <a:lnTo>
                  <a:pt x="2704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3:25:17Z</dcterms:created>
  <dc:creator>dobraya</dc:creator>
  <dc:description/>
  <dc:language>en-US</dc:language>
  <cp:lastModifiedBy>user1</cp:lastModifiedBy>
  <dcterms:modified xsi:type="dcterms:W3CDTF">2013-02-01T08:15:17Z</dcterms:modified>
  <cp:revision>16</cp:revision>
  <dc:subject/>
  <dc:title>Слайд 1</dc:title>
</cp:coreProperties>
</file>