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21C-7F8F-483D-9CEA-922A6B1C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27C-DD55-4158-AC34-5B4C278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398-FB18-45F4-A066-57154A98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4A9-1377-4AAA-88DF-2A5600DF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30F-DBB3-4098-ACB9-66F11E6F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BA3-3D8C-4FFF-ADE9-032E0831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02C-86CB-412C-A83E-2364E253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398-F285-438E-B676-46B4153A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65B-533D-40F4-B1D8-9D992915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F99-7A44-45D0-8005-D3F39A9C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861-E113-44B6-B6DE-A9125E7A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470-8138-4DFE-B293-AC70A399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d7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FD70-DEE4-423A-A0F7-62BC78923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Администратор\Рабочий стол\Рисунок1.jpg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84807"/>
                </a:solidFill>
                <a:latin typeface="Comic Sans MS"/>
              </a:rPr>
              <a:t>Шлях до майбутнього з поглядом на мину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48000" y="3789360"/>
            <a:ext cx="5796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92e21"/>
                </a:solidFill>
                <a:latin typeface="Calibri"/>
              </a:rPr>
              <a:t>Виконав студ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92e21"/>
                </a:solidFill>
                <a:latin typeface="Calibri"/>
              </a:rPr>
              <a:t>фізико-математичного факультету групи м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92e21"/>
                </a:solidFill>
                <a:latin typeface="Calibri"/>
              </a:rPr>
              <a:t>Бучок Юрій Ігоро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596360" y="5877000"/>
            <a:ext cx="936360" cy="43164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836" h="21600">
                <a:moveTo>
                  <a:pt x="0" y="0"/>
                </a:moveTo>
                <a:lnTo>
                  <a:pt x="46836" y="0"/>
                </a:lnTo>
                <a:lnTo>
                  <a:pt x="46836" y="21600"/>
                </a:lnTo>
                <a:lnTo>
                  <a:pt x="0" y="21600"/>
                </a:lnTo>
                <a:close/>
              </a:path>
              <a:path fill="lightenLess" w="46836" h="21600">
                <a:moveTo>
                  <a:pt x="0" y="0"/>
                </a:moveTo>
                <a:lnTo>
                  <a:pt x="46836" y="0"/>
                </a:lnTo>
                <a:lnTo>
                  <a:pt x="45436" y="1400"/>
                </a:lnTo>
                <a:lnTo>
                  <a:pt x="1400" y="1400"/>
                </a:lnTo>
                <a:close/>
              </a:path>
              <a:path fill="darken" w="46836" h="21600">
                <a:moveTo>
                  <a:pt x="46836" y="0"/>
                </a:moveTo>
                <a:lnTo>
                  <a:pt x="46836" y="21600"/>
                </a:lnTo>
                <a:lnTo>
                  <a:pt x="45436" y="20200"/>
                </a:lnTo>
                <a:lnTo>
                  <a:pt x="45436" y="1400"/>
                </a:lnTo>
                <a:close/>
              </a:path>
              <a:path fill="darkenLess" w="46836" h="21600">
                <a:moveTo>
                  <a:pt x="46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36" y="20200"/>
                </a:lnTo>
                <a:close/>
              </a:path>
              <a:path fill="lighten" w="46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836" h="21600">
                <a:moveTo>
                  <a:pt x="16412" y="3794"/>
                </a:moveTo>
                <a:lnTo>
                  <a:pt x="30424" y="10800"/>
                </a:lnTo>
                <a:lnTo>
                  <a:pt x="1641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2050920" y="2349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omic Sans MS"/>
              </a:rPr>
              <a:t>Мину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Выгнутая вниз стрелка 4"/>
          <p:cNvSpPr/>
          <p:nvPr/>
        </p:nvSpPr>
        <p:spPr>
          <a:xfrm>
            <a:off x="5580000" y="3068640"/>
            <a:ext cx="2232000" cy="1081080"/>
          </a:xfrm>
          <a:custGeom>
            <a:avLst/>
            <a:gdLst>
              <a:gd name="textAreaLeft" fmla="*/ 456480 w 2232000"/>
              <a:gd name="textAreaRight" fmla="*/ 1640160 w 223200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9" hR="21600" stAng="10800000" swAng="-5400000"/>
                <a:lnTo>
                  <a:pt x="11454" y="21600"/>
                </a:lnTo>
                <a:arcTo wR="8839" hR="21600" stAng="5400000" swAng="-3464884"/>
                <a:lnTo>
                  <a:pt x="21319" y="5400"/>
                </a:lnTo>
                <a:lnTo>
                  <a:pt x="18985" y="0"/>
                </a:lnTo>
                <a:lnTo>
                  <a:pt x="16088" y="5400"/>
                </a:lnTo>
                <a:lnTo>
                  <a:pt x="17396" y="5400"/>
                </a:lnTo>
                <a:arcTo wR="8839" hR="21600" stAng="1935116" swAng="3254736"/>
                <a:lnTo>
                  <a:pt x="10146" y="21362"/>
                </a:lnTo>
                <a:arcTo wR="8839" hR="21600" stAng="5610148" swAng="5189852"/>
                <a:close/>
              </a:path>
              <a:path fill="darkenLess" w="21600" h="21600">
                <a:moveTo>
                  <a:pt x="0" y="0"/>
                </a:moveTo>
                <a:arcTo wR="8839" hR="21600" stAng="10800000" swAng="-5400000"/>
                <a:lnTo>
                  <a:pt x="11454" y="21600"/>
                </a:lnTo>
                <a:arcTo wR="8839" hR="21600" stAng="5400000" swAng="210148"/>
                <a:lnTo>
                  <a:pt x="10146" y="21362"/>
                </a:lnTo>
                <a:arcTo wR="8839" hR="21600" stAng="5610148" swAng="5189852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Выгнутая вниз стрелка 5"/>
          <p:cNvSpPr/>
          <p:nvPr/>
        </p:nvSpPr>
        <p:spPr>
          <a:xfrm flipH="1">
            <a:off x="1979640" y="3068640"/>
            <a:ext cx="2232000" cy="1081080"/>
          </a:xfrm>
          <a:custGeom>
            <a:avLst/>
            <a:gdLst>
              <a:gd name="textAreaLeft" fmla="*/ 456480 w 2232000"/>
              <a:gd name="textAreaRight" fmla="*/ 1640160 w 223200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9" hR="21600" stAng="10800000" swAng="-5400000"/>
                <a:lnTo>
                  <a:pt x="11454" y="21600"/>
                </a:lnTo>
                <a:arcTo wR="8839" hR="21600" stAng="5400000" swAng="-3464884"/>
                <a:lnTo>
                  <a:pt x="21319" y="5400"/>
                </a:lnTo>
                <a:lnTo>
                  <a:pt x="18985" y="0"/>
                </a:lnTo>
                <a:lnTo>
                  <a:pt x="16088" y="5400"/>
                </a:lnTo>
                <a:lnTo>
                  <a:pt x="17396" y="5400"/>
                </a:lnTo>
                <a:arcTo wR="8839" hR="21600" stAng="1935116" swAng="3254736"/>
                <a:lnTo>
                  <a:pt x="10146" y="21362"/>
                </a:lnTo>
                <a:arcTo wR="8839" hR="21600" stAng="5610148" swAng="5189852"/>
                <a:close/>
              </a:path>
              <a:path fill="darkenLess" w="21600" h="21600">
                <a:moveTo>
                  <a:pt x="0" y="0"/>
                </a:moveTo>
                <a:arcTo wR="8839" hR="21600" stAng="10800000" swAng="-5400000"/>
                <a:lnTo>
                  <a:pt x="11454" y="21600"/>
                </a:lnTo>
                <a:arcTo wR="8839" hR="21600" stAng="5400000" swAng="210148"/>
                <a:lnTo>
                  <a:pt x="10146" y="21362"/>
                </a:lnTo>
                <a:arcTo wR="8839" hR="21600" stAng="5610148" swAng="5189852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верх 6"/>
          <p:cNvSpPr/>
          <p:nvPr/>
        </p:nvSpPr>
        <p:spPr>
          <a:xfrm flipV="1">
            <a:off x="4716360" y="3068640"/>
            <a:ext cx="503280" cy="1512720"/>
          </a:xfrm>
          <a:prstGeom prst="up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332000" y="2492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omic Sans MS"/>
              </a:rPr>
              <a:t>В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372360" y="227664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Comic Sans MS"/>
              </a:rPr>
              <a:t>Комбайнови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995640" y="45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omic Sans MS"/>
              </a:rPr>
              <a:t>Текст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іівч.jpg"/>
          <p:cNvPicPr/>
          <p:nvPr/>
        </p:nvPicPr>
        <p:blipFill>
          <a:blip r:embed="rId2"/>
          <a:stretch/>
        </p:blipFill>
        <p:spPr>
          <a:xfrm>
            <a:off x="3924360" y="5010120"/>
            <a:ext cx="2467080" cy="165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1258920" y="981000"/>
            <a:ext cx="1800360" cy="1576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1862280" cy="134460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68436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956720" y="6021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484360" y="69228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46c0a"/>
                </a:solidFill>
                <a:latin typeface="Comic Sans MS"/>
              </a:rPr>
              <a:t>Сьогоде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4"/>
          <p:cNvSpPr/>
          <p:nvPr/>
        </p:nvSpPr>
        <p:spPr>
          <a:xfrm rot="2197200">
            <a:off x="2447640" y="1473120"/>
            <a:ext cx="631800" cy="129564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5"/>
          <p:cNvSpPr/>
          <p:nvPr/>
        </p:nvSpPr>
        <p:spPr>
          <a:xfrm>
            <a:off x="4284720" y="2133720"/>
            <a:ext cx="630360" cy="1295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7"/>
          <p:cNvSpPr/>
          <p:nvPr/>
        </p:nvSpPr>
        <p:spPr>
          <a:xfrm rot="19491000">
            <a:off x="5680080" y="1476000"/>
            <a:ext cx="630360" cy="1295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39640" y="27082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53735"/>
                </a:solidFill>
                <a:latin typeface="Comic Sans MS"/>
              </a:rPr>
              <a:t>Закриття підприєм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348000" y="3716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53735"/>
                </a:solidFill>
                <a:latin typeface="Comic Sans MS"/>
              </a:rPr>
              <a:t>Безробі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5724360" y="2637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53735"/>
                </a:solidFill>
                <a:latin typeface="Comic Sans MS"/>
              </a:rPr>
              <a:t>Емігра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2" descr="пп.jpeg"/>
          <p:cNvPicPr/>
          <p:nvPr/>
        </p:nvPicPr>
        <p:blipFill>
          <a:blip r:embed="rId1"/>
          <a:stretch/>
        </p:blipFill>
        <p:spPr>
          <a:xfrm>
            <a:off x="3492360" y="4076640"/>
            <a:ext cx="2372040" cy="19242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орпо.jpeg"/>
          <p:cNvPicPr/>
          <p:nvPr/>
        </p:nvPicPr>
        <p:blipFill>
          <a:blip r:embed="rId2"/>
          <a:stretch/>
        </p:blipFill>
        <p:spPr>
          <a:xfrm>
            <a:off x="826920" y="3429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4" descr="р.jpeg"/>
          <p:cNvPicPr/>
          <p:nvPr/>
        </p:nvPicPr>
        <p:blipFill>
          <a:blip r:embed="rId3"/>
          <a:stretch/>
        </p:blipFill>
        <p:spPr>
          <a:xfrm>
            <a:off x="6156360" y="3213000"/>
            <a:ext cx="2371680" cy="178596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395280" y="6000840"/>
            <a:ext cx="936720" cy="452520"/>
          </a:xfrm>
          <a:custGeom>
            <a:avLst/>
            <a:gdLst>
              <a:gd name="textAreaLeft" fmla="*/ 29160 w 936720"/>
              <a:gd name="textAreaRight" fmla="*/ 907560 w 93672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4694" h="21600">
                <a:moveTo>
                  <a:pt x="0" y="0"/>
                </a:moveTo>
                <a:lnTo>
                  <a:pt x="44694" y="0"/>
                </a:lnTo>
                <a:lnTo>
                  <a:pt x="44694" y="21600"/>
                </a:lnTo>
                <a:lnTo>
                  <a:pt x="0" y="21600"/>
                </a:lnTo>
                <a:close/>
              </a:path>
              <a:path fill="lightenLess" w="44694" h="21600">
                <a:moveTo>
                  <a:pt x="0" y="0"/>
                </a:moveTo>
                <a:lnTo>
                  <a:pt x="44694" y="0"/>
                </a:lnTo>
                <a:lnTo>
                  <a:pt x="43294" y="1400"/>
                </a:lnTo>
                <a:lnTo>
                  <a:pt x="1400" y="1400"/>
                </a:lnTo>
                <a:close/>
              </a:path>
              <a:path fill="darken" w="44694" h="21600">
                <a:moveTo>
                  <a:pt x="44694" y="0"/>
                </a:moveTo>
                <a:lnTo>
                  <a:pt x="44694" y="21600"/>
                </a:lnTo>
                <a:lnTo>
                  <a:pt x="43294" y="20200"/>
                </a:lnTo>
                <a:lnTo>
                  <a:pt x="43294" y="1400"/>
                </a:lnTo>
                <a:close/>
              </a:path>
              <a:path fill="darkenLess" w="44694" h="21600">
                <a:moveTo>
                  <a:pt x="446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94" y="20200"/>
                </a:lnTo>
                <a:close/>
              </a:path>
              <a:path fill="lighten" w="446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94" h="21600">
                <a:moveTo>
                  <a:pt x="15340" y="10800"/>
                </a:moveTo>
                <a:lnTo>
                  <a:pt x="29353" y="3794"/>
                </a:lnTo>
                <a:lnTo>
                  <a:pt x="2935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01080" y="6227640"/>
            <a:ext cx="718920" cy="370080"/>
          </a:xfrm>
          <a:custGeom>
            <a:avLst/>
            <a:gdLst>
              <a:gd name="textAreaLeft" fmla="*/ 23760 w 718920"/>
              <a:gd name="textAreaRight" fmla="*/ 695160 w 71892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41941" h="21600">
                <a:moveTo>
                  <a:pt x="0" y="0"/>
                </a:moveTo>
                <a:lnTo>
                  <a:pt x="41941" y="0"/>
                </a:lnTo>
                <a:lnTo>
                  <a:pt x="41941" y="21600"/>
                </a:lnTo>
                <a:lnTo>
                  <a:pt x="0" y="21600"/>
                </a:lnTo>
                <a:close/>
              </a:path>
              <a:path fill="lightenLess" w="41941" h="21600">
                <a:moveTo>
                  <a:pt x="0" y="0"/>
                </a:moveTo>
                <a:lnTo>
                  <a:pt x="41941" y="0"/>
                </a:lnTo>
                <a:lnTo>
                  <a:pt x="40541" y="1400"/>
                </a:lnTo>
                <a:lnTo>
                  <a:pt x="1400" y="1400"/>
                </a:lnTo>
                <a:close/>
              </a:path>
              <a:path fill="darken" w="41941" h="21600">
                <a:moveTo>
                  <a:pt x="41941" y="0"/>
                </a:moveTo>
                <a:lnTo>
                  <a:pt x="41941" y="21600"/>
                </a:lnTo>
                <a:lnTo>
                  <a:pt x="40541" y="20200"/>
                </a:lnTo>
                <a:lnTo>
                  <a:pt x="40541" y="1400"/>
                </a:lnTo>
                <a:close/>
              </a:path>
              <a:path fill="darkenLess" w="41941" h="21600">
                <a:moveTo>
                  <a:pt x="41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1" y="20200"/>
                </a:lnTo>
                <a:close/>
              </a:path>
              <a:path fill="lighten" w="41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1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п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317080" y="566100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-10800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иь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c000"/>
                </a:solidFill>
                <a:latin typeface="Comic Sans MS"/>
              </a:rPr>
              <a:t>Що робит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6156360" y="198900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c000"/>
                </a:solidFill>
                <a:latin typeface="Comic Sans MS"/>
              </a:rPr>
              <a:t>Куди і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179280" y="595008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31708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124000" y="1413000"/>
            <a:ext cx="5040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84807"/>
                </a:solidFill>
                <a:latin typeface="Comic Sans MS"/>
              </a:rPr>
              <a:t>Йти у </a:t>
            </a:r>
            <a:r>
              <a:rPr b="1" lang="uk-UA" sz="5400" spc="-1" strike="noStrike">
                <a:solidFill>
                  <a:srgbClr val="632523"/>
                </a:solidFill>
                <a:latin typeface="Comic Sans MS"/>
              </a:rPr>
              <a:t>МАЙБУТН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углом 8"/>
          <p:cNvSpPr/>
          <p:nvPr/>
        </p:nvSpPr>
        <p:spPr>
          <a:xfrm rot="5400000">
            <a:off x="6552000" y="2456640"/>
            <a:ext cx="1366920" cy="1152360"/>
          </a:xfrm>
          <a:custGeom>
            <a:avLst/>
            <a:gdLst/>
            <a:ahLst/>
            <a:rect l="l" t="t" r="r" b="b"/>
            <a:pathLst>
              <a:path w="1366838" h="1152525">
                <a:moveTo>
                  <a:pt x="0" y="1152525"/>
                </a:moveTo>
                <a:lnTo>
                  <a:pt x="0" y="648295"/>
                </a:lnTo>
                <a:cubicBezTo>
                  <a:pt x="0" y="369816"/>
                  <a:pt x="225751" y="144065"/>
                  <a:pt x="504230" y="144065"/>
                </a:cubicBezTo>
                <a:lnTo>
                  <a:pt x="1078707" y="144066"/>
                </a:lnTo>
                <a:lnTo>
                  <a:pt x="1078707" y="0"/>
                </a:lnTo>
                <a:lnTo>
                  <a:pt x="1366838" y="288131"/>
                </a:lnTo>
                <a:lnTo>
                  <a:pt x="1078707" y="576263"/>
                </a:lnTo>
                <a:lnTo>
                  <a:pt x="1078707" y="432197"/>
                </a:lnTo>
                <a:lnTo>
                  <a:pt x="504230" y="432197"/>
                </a:lnTo>
                <a:cubicBezTo>
                  <a:pt x="384882" y="432197"/>
                  <a:pt x="288132" y="528947"/>
                  <a:pt x="288132" y="648295"/>
                </a:cubicBezTo>
                <a:cubicBezTo>
                  <a:pt x="288132" y="816372"/>
                  <a:pt x="288131" y="984448"/>
                  <a:pt x="288131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углом 9"/>
          <p:cNvSpPr/>
          <p:nvPr/>
        </p:nvSpPr>
        <p:spPr>
          <a:xfrm flipH="1" rot="16200000">
            <a:off x="1366560" y="2529720"/>
            <a:ext cx="1368360" cy="1150920"/>
          </a:xfrm>
          <a:custGeom>
            <a:avLst/>
            <a:gdLst/>
            <a:ahLst/>
            <a:rect l="l" t="t" r="r" b="b"/>
            <a:pathLst>
              <a:path w="1368425" h="1150938">
                <a:moveTo>
                  <a:pt x="0" y="1150938"/>
                </a:moveTo>
                <a:lnTo>
                  <a:pt x="0" y="647403"/>
                </a:lnTo>
                <a:cubicBezTo>
                  <a:pt x="0" y="369308"/>
                  <a:pt x="225440" y="143868"/>
                  <a:pt x="503535" y="143868"/>
                </a:cubicBezTo>
                <a:lnTo>
                  <a:pt x="1080691" y="143867"/>
                </a:lnTo>
                <a:lnTo>
                  <a:pt x="1080691" y="0"/>
                </a:lnTo>
                <a:lnTo>
                  <a:pt x="1368425" y="287735"/>
                </a:lnTo>
                <a:lnTo>
                  <a:pt x="1080691" y="575469"/>
                </a:lnTo>
                <a:lnTo>
                  <a:pt x="1080691" y="431602"/>
                </a:lnTo>
                <a:lnTo>
                  <a:pt x="503535" y="431602"/>
                </a:lnTo>
                <a:cubicBezTo>
                  <a:pt x="384351" y="431602"/>
                  <a:pt x="287734" y="528219"/>
                  <a:pt x="287734" y="647403"/>
                </a:cubicBezTo>
                <a:cubicBezTo>
                  <a:pt x="287734" y="815248"/>
                  <a:pt x="287735" y="983093"/>
                  <a:pt x="287735" y="1150938"/>
                </a:cubicBezTo>
                <a:lnTo>
                  <a:pt x="0" y="115093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10"/>
          <p:cNvSpPr/>
          <p:nvPr/>
        </p:nvSpPr>
        <p:spPr>
          <a:xfrm>
            <a:off x="4211640" y="2852640"/>
            <a:ext cx="936720" cy="13683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3059280" y="422100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Відкриття підприємства майбутнь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179280" y="3789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Нові робочі місц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830920" y="3716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Повернення дод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4" descr="попо.jpeg"/>
          <p:cNvPicPr/>
          <p:nvPr/>
        </p:nvPicPr>
        <p:blipFill>
          <a:blip r:embed="rId1"/>
          <a:stretch/>
        </p:blipFill>
        <p:spPr>
          <a:xfrm>
            <a:off x="684360" y="4149720"/>
            <a:ext cx="207144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дрн"/>
          <p:cNvPicPr/>
          <p:nvPr/>
        </p:nvPicPr>
        <p:blipFill>
          <a:blip r:embed="rId2"/>
          <a:stretch/>
        </p:blipFill>
        <p:spPr>
          <a:xfrm>
            <a:off x="3564000" y="4941720"/>
            <a:ext cx="2016000" cy="1530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6" descr="т им.jpeg"/>
          <p:cNvPicPr/>
          <p:nvPr/>
        </p:nvPicPr>
        <p:blipFill>
          <a:blip r:embed="rId3"/>
          <a:stretch/>
        </p:blipFill>
        <p:spPr>
          <a:xfrm>
            <a:off x="6291360" y="4149720"/>
            <a:ext cx="2403360" cy="1800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388360" y="638172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179280" y="6237360"/>
            <a:ext cx="720720" cy="323640"/>
          </a:xfrm>
          <a:custGeom>
            <a:avLst/>
            <a:gdLst>
              <a:gd name="textAreaLeft" fmla="*/ 20880 w 720720"/>
              <a:gd name="textAreaRight" fmla="*/ 699840 w 7207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48072" h="21600">
                <a:moveTo>
                  <a:pt x="0" y="0"/>
                </a:moveTo>
                <a:lnTo>
                  <a:pt x="48072" y="0"/>
                </a:lnTo>
                <a:lnTo>
                  <a:pt x="48072" y="21600"/>
                </a:lnTo>
                <a:lnTo>
                  <a:pt x="0" y="21600"/>
                </a:lnTo>
                <a:close/>
              </a:path>
              <a:path fill="lightenLess" w="48072" h="21600">
                <a:moveTo>
                  <a:pt x="0" y="0"/>
                </a:moveTo>
                <a:lnTo>
                  <a:pt x="48072" y="0"/>
                </a:lnTo>
                <a:lnTo>
                  <a:pt x="46672" y="1400"/>
                </a:lnTo>
                <a:lnTo>
                  <a:pt x="1400" y="1400"/>
                </a:lnTo>
                <a:close/>
              </a:path>
              <a:path fill="darken" w="48072" h="21600">
                <a:moveTo>
                  <a:pt x="48072" y="0"/>
                </a:moveTo>
                <a:lnTo>
                  <a:pt x="48072" y="21600"/>
                </a:lnTo>
                <a:lnTo>
                  <a:pt x="46672" y="20200"/>
                </a:lnTo>
                <a:lnTo>
                  <a:pt x="46672" y="1400"/>
                </a:lnTo>
                <a:close/>
              </a:path>
              <a:path fill="darkenLess" w="48072" h="21600">
                <a:moveTo>
                  <a:pt x="4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2" y="20200"/>
                </a:lnTo>
                <a:close/>
              </a:path>
              <a:path fill="lighten" w="4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2" h="21600">
                <a:moveTo>
                  <a:pt x="17030" y="10800"/>
                </a:moveTo>
                <a:lnTo>
                  <a:pt x="31042" y="3794"/>
                </a:lnTo>
                <a:lnTo>
                  <a:pt x="3104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539640" y="771480"/>
            <a:ext cx="83329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e46c0a"/>
                </a:solidFill>
                <a:latin typeface="Times New Roman"/>
              </a:rPr>
              <a:t>Ознаки підприємств, необхідні для успіху в майбутньо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42920" y="2205000"/>
            <a:ext cx="7274160" cy="35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1)Прагаення до змін, підприємстзо майбутнього здатне змінюватися швид­ко й успіш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2)Інновації, що перевершують уяву споживачів. Підприємство майбутнього перевершує очікування все більш вимогливих споживач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3)Глобальна інтеграція. Підприємство майбутнього інтегрується з метою ви­користання можливостей сучасної економі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4)Радикалізм. Підприємство майбутнього радикально перетворює свою бізнес-модель, усуваючи основу для конкурен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5)Соціальна відповідальність, що виходять за рамки звичайного благодій­ниц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826920" y="623736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10800"/>
                </a:moveTo>
                <a:lnTo>
                  <a:pt x="27044" y="3794"/>
                </a:lnTo>
                <a:lnTo>
                  <a:pt x="2704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3:25:17Z</dcterms:created>
  <dc:creator>dobraya</dc:creator>
  <dc:description/>
  <dc:language>en-US</dc:language>
  <cp:lastModifiedBy>user1</cp:lastModifiedBy>
  <dcterms:modified xsi:type="dcterms:W3CDTF">2013-02-01T08:15:17Z</dcterms:modified>
  <cp:revision>16</cp:revision>
  <dc:subject/>
  <dc:title>Слайд 1</dc:title>
</cp:coreProperties>
</file>