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gif" ContentType="image/gif"/>
  <Override PartName="/ppt/media/image15.png" ContentType="image/png"/>
  <Override PartName="/ppt/media/image9.png" ContentType="image/png"/>
  <Override PartName="/ppt/media/image8.gif" ContentType="image/gif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6.gif" ContentType="image/gif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gif" ContentType="image/gif"/>
  <Override PartName="/ppt/media/image24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59C5-32CE-43D8-B303-F6F15ABB9DC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4F01-0AC3-4FED-B380-3F532FC97BF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DF79-5539-4954-8C03-7C3909AC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99B5-BC87-4043-8829-460EC3CE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E1F-9FA2-4FDB-B086-BBB5195C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A49-CD53-4762-AB12-F169C4CD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5BE5-058E-4E57-A181-76C575E3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F437-1FD4-43B2-83FA-B31200AC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557-635E-48CC-A796-9A353751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D962-6805-493A-99CA-5AC8B39B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235D-9DC1-48D5-902A-79D60A38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CF8F-E495-41BE-8968-90742B0F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F38C-976D-49FE-85FE-1AD55DB2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6B77-8C55-4139-AB07-C4166B85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7243-41B8-4048-A80E-27ABA65D71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D:\&#1056;&#1086;&#1073;&#1086;&#1090;&#1072;\&#1030;&#1053;&#1058;&#1045;&#1051;\Portfolio\documents_projekt\&#1074;&#1110;&#1076;&#1077;&#1086;\video_dwm.wmv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ifsgifsgifsgratuits.free.fr/images/gif-gratuit/gif-foot/gif-anime-foot-4-gratuit.gif" TargetMode="External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51280" y="3284280"/>
            <a:ext cx="5113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авто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тудент групи 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Домбровський Володимир Михайло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5" descr=""/>
          <p:cNvPicPr/>
          <p:nvPr/>
        </p:nvPicPr>
        <p:blipFill>
          <a:blip r:embed="rId2"/>
          <a:stretch/>
        </p:blipFill>
        <p:spPr>
          <a:xfrm>
            <a:off x="517680" y="1238400"/>
            <a:ext cx="8735760" cy="21571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7" descr=""/>
          <p:cNvPicPr/>
          <p:nvPr/>
        </p:nvPicPr>
        <p:blipFill>
          <a:blip r:embed="rId3"/>
          <a:stretch/>
        </p:blipFill>
        <p:spPr>
          <a:xfrm>
            <a:off x="2693880" y="158760"/>
            <a:ext cx="3249720" cy="1541520"/>
          </a:xfrm>
          <a:prstGeom prst="rect">
            <a:avLst/>
          </a:prstGeom>
          <a:ln w="0">
            <a:noFill/>
          </a:ln>
        </p:spPr>
      </p:pic>
      <p:sp>
        <p:nvSpPr>
          <p:cNvPr id="51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8101080" y="5964120"/>
            <a:ext cx="574560" cy="43200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22" h="21600">
                <a:moveTo>
                  <a:pt x="0" y="0"/>
                </a:moveTo>
                <a:lnTo>
                  <a:pt x="28722" y="0"/>
                </a:lnTo>
                <a:lnTo>
                  <a:pt x="28722" y="21600"/>
                </a:lnTo>
                <a:lnTo>
                  <a:pt x="0" y="21600"/>
                </a:lnTo>
                <a:close/>
              </a:path>
              <a:path fill="lightenLess" w="28722" h="21600">
                <a:moveTo>
                  <a:pt x="0" y="0"/>
                </a:moveTo>
                <a:lnTo>
                  <a:pt x="28722" y="0"/>
                </a:lnTo>
                <a:lnTo>
                  <a:pt x="27322" y="1400"/>
                </a:lnTo>
                <a:lnTo>
                  <a:pt x="1400" y="1400"/>
                </a:lnTo>
                <a:close/>
              </a:path>
              <a:path fill="darken" w="28722" h="21600">
                <a:moveTo>
                  <a:pt x="28722" y="0"/>
                </a:moveTo>
                <a:lnTo>
                  <a:pt x="28722" y="21600"/>
                </a:lnTo>
                <a:lnTo>
                  <a:pt x="27322" y="20200"/>
                </a:lnTo>
                <a:lnTo>
                  <a:pt x="27322" y="1400"/>
                </a:lnTo>
                <a:close/>
              </a:path>
              <a:path fill="darkenLess" w="28722" h="21600">
                <a:moveTo>
                  <a:pt x="28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22" y="20200"/>
                </a:lnTo>
                <a:close/>
              </a:path>
              <a:path fill="lighten" w="28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22" h="21600">
                <a:moveTo>
                  <a:pt x="7355" y="3794"/>
                </a:moveTo>
                <a:lnTo>
                  <a:pt x="21368" y="10800"/>
                </a:lnTo>
                <a:lnTo>
                  <a:pt x="735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50" autoRev="1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" dur="250" autoRev="1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250" autoRev="1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50" autoRev="1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" dur="250" autoRev="1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" dur="250" autoRev="1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058240" y="609300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Управляющая кнопка: фильм 8">
            <a:hlinkClick r:id="rId1"/>
          </p:cNvPr>
          <p:cNvSpPr/>
          <p:nvPr/>
        </p:nvSpPr>
        <p:spPr>
          <a:xfrm>
            <a:off x="7310520" y="2565360"/>
            <a:ext cx="1008000" cy="863640"/>
          </a:xfrm>
          <a:custGeom>
            <a:avLst/>
            <a:gdLst>
              <a:gd name="textAreaLeft" fmla="*/ 55800 w 1008000"/>
              <a:gd name="textAreaRight" fmla="*/ 952200 w 1008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5598" y="7301"/>
                </a:moveTo>
                <a:lnTo>
                  <a:pt x="6512" y="7301"/>
                </a:lnTo>
                <a:lnTo>
                  <a:pt x="6895" y="7667"/>
                </a:lnTo>
                <a:lnTo>
                  <a:pt x="16103" y="7667"/>
                </a:lnTo>
                <a:lnTo>
                  <a:pt x="16660" y="8224"/>
                </a:lnTo>
                <a:lnTo>
                  <a:pt x="16660" y="8772"/>
                </a:lnTo>
                <a:lnTo>
                  <a:pt x="18506" y="8772"/>
                </a:lnTo>
                <a:lnTo>
                  <a:pt x="18871" y="8224"/>
                </a:lnTo>
                <a:lnTo>
                  <a:pt x="19611" y="8224"/>
                </a:lnTo>
                <a:lnTo>
                  <a:pt x="19611" y="13376"/>
                </a:lnTo>
                <a:lnTo>
                  <a:pt x="18871" y="13376"/>
                </a:lnTo>
                <a:lnTo>
                  <a:pt x="18506" y="12828"/>
                </a:lnTo>
                <a:lnTo>
                  <a:pt x="16660" y="12828"/>
                </a:lnTo>
                <a:lnTo>
                  <a:pt x="16660" y="14107"/>
                </a:lnTo>
                <a:lnTo>
                  <a:pt x="7078" y="14107"/>
                </a:lnTo>
                <a:lnTo>
                  <a:pt x="7078" y="9877"/>
                </a:lnTo>
                <a:lnTo>
                  <a:pt x="6895" y="9877"/>
                </a:lnTo>
                <a:lnTo>
                  <a:pt x="6512" y="10243"/>
                </a:lnTo>
                <a:lnTo>
                  <a:pt x="5598" y="10243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Диаграмма 10" descr=""/>
          <p:cNvPicPr/>
          <p:nvPr/>
        </p:nvPicPr>
        <p:blipFill>
          <a:blip r:embed="rId3"/>
          <a:stretch/>
        </p:blipFill>
        <p:spPr>
          <a:xfrm>
            <a:off x="249120" y="1987560"/>
            <a:ext cx="5980320" cy="46814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3" descr=""/>
          <p:cNvPicPr/>
          <p:nvPr/>
        </p:nvPicPr>
        <p:blipFill>
          <a:blip r:embed="rId4"/>
          <a:stretch/>
        </p:blipFill>
        <p:spPr>
          <a:xfrm>
            <a:off x="225360" y="328680"/>
            <a:ext cx="8693280" cy="1066680"/>
          </a:xfrm>
          <a:prstGeom prst="rect">
            <a:avLst/>
          </a:prstGeom>
          <a:ln w="0">
            <a:noFill/>
          </a:ln>
        </p:spPr>
      </p:pic>
      <p:sp>
        <p:nvSpPr>
          <p:cNvPr id="56" name="Стрелка вниз 15"/>
          <p:cNvSpPr/>
          <p:nvPr/>
        </p:nvSpPr>
        <p:spPr>
          <a:xfrm rot="2463000">
            <a:off x="4265280" y="1257480"/>
            <a:ext cx="1081080" cy="1223640"/>
          </a:xfrm>
          <a:prstGeom prst="downArrow">
            <a:avLst>
              <a:gd name="adj1" fmla="val 50000"/>
              <a:gd name="adj2" fmla="val 4998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6862680" y="34290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Обережно, камінн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gifsgifsgifsgratuits.free.fr/images/gif-gratuit/gif-foot/gif-anime-foot-4-gratui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080" y="1052640"/>
            <a:ext cx="2114280" cy="3235320"/>
          </a:xfrm>
          <a:prstGeom prst="rect">
            <a:avLst/>
          </a:prstGeom>
          <a:ln w="0">
            <a:noFill/>
          </a:ln>
        </p:spPr>
      </p:pic>
      <p:sp>
        <p:nvSpPr>
          <p:cNvPr id="59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357120" y="6041880"/>
            <a:ext cx="647640" cy="390600"/>
          </a:xfrm>
          <a:custGeom>
            <a:avLst/>
            <a:gdLst>
              <a:gd name="textAreaLeft" fmla="*/ 25200 w 647640"/>
              <a:gd name="textAreaRight" fmla="*/ 622440 w 647640"/>
              <a:gd name="textAreaTop" fmla="*/ 25200 h 390600"/>
              <a:gd name="textAreaBottom" fmla="*/ 365400 h 390600"/>
            </a:gdLst>
            <a:ahLst/>
            <a:rect l="textAreaLeft" t="textAreaTop" r="textAreaRight" b="textAreaBottom"/>
            <a:pathLst>
              <a:path w="35801" h="21600">
                <a:moveTo>
                  <a:pt x="0" y="0"/>
                </a:moveTo>
                <a:lnTo>
                  <a:pt x="35801" y="0"/>
                </a:lnTo>
                <a:lnTo>
                  <a:pt x="35801" y="21600"/>
                </a:lnTo>
                <a:lnTo>
                  <a:pt x="0" y="21600"/>
                </a:lnTo>
                <a:close/>
              </a:path>
              <a:path fill="lightenLess" w="35801" h="21600">
                <a:moveTo>
                  <a:pt x="0" y="0"/>
                </a:moveTo>
                <a:lnTo>
                  <a:pt x="35801" y="0"/>
                </a:lnTo>
                <a:lnTo>
                  <a:pt x="34401" y="1400"/>
                </a:lnTo>
                <a:lnTo>
                  <a:pt x="1400" y="1400"/>
                </a:lnTo>
                <a:close/>
              </a:path>
              <a:path fill="darken" w="35801" h="21600">
                <a:moveTo>
                  <a:pt x="35801" y="0"/>
                </a:moveTo>
                <a:lnTo>
                  <a:pt x="35801" y="21600"/>
                </a:lnTo>
                <a:lnTo>
                  <a:pt x="34401" y="20200"/>
                </a:lnTo>
                <a:lnTo>
                  <a:pt x="34401" y="1400"/>
                </a:lnTo>
                <a:close/>
              </a:path>
              <a:path fill="darkenLess" w="35801" h="21600">
                <a:moveTo>
                  <a:pt x="35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01" y="20200"/>
                </a:lnTo>
                <a:close/>
              </a:path>
              <a:path fill="lighten" w="35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01" h="21600">
                <a:moveTo>
                  <a:pt x="10894" y="10800"/>
                </a:moveTo>
                <a:lnTo>
                  <a:pt x="24907" y="3794"/>
                </a:lnTo>
                <a:lnTo>
                  <a:pt x="24907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Прямоугольник 9" descr=""/>
          <p:cNvPicPr/>
          <p:nvPr/>
        </p:nvPicPr>
        <p:blipFill>
          <a:blip r:embed="rId3"/>
          <a:stretch/>
        </p:blipFill>
        <p:spPr>
          <a:xfrm>
            <a:off x="298440" y="189000"/>
            <a:ext cx="2011320" cy="1195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1"/>
          <p:cNvSpPr/>
          <p:nvPr/>
        </p:nvSpPr>
        <p:spPr>
          <a:xfrm>
            <a:off x="2255760" y="722160"/>
            <a:ext cx="6780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обудова спортивного майданчика із штучним футбольним полем з подальшим розширенням до спортивно-розважального комплекс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Прямоугольник 15" descr=""/>
          <p:cNvPicPr/>
          <p:nvPr/>
        </p:nvPicPr>
        <p:blipFill>
          <a:blip r:embed="rId4"/>
          <a:stretch/>
        </p:blipFill>
        <p:spPr>
          <a:xfrm>
            <a:off x="1249200" y="3902040"/>
            <a:ext cx="223236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Схема 16" descr=""/>
          <p:cNvPicPr/>
          <p:nvPr/>
        </p:nvPicPr>
        <p:blipFill>
          <a:blip r:embed="rId5"/>
          <a:stretch/>
        </p:blipFill>
        <p:spPr>
          <a:xfrm>
            <a:off x="2938320" y="2419200"/>
            <a:ext cx="6150240" cy="4206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Управляющая кнопка: назад 3">
            <a:hlinkClick r:id="" action="ppaction://hlinkshowjump?jump=previousslide"/>
          </p:cNvPr>
          <p:cNvSpPr/>
          <p:nvPr/>
        </p:nvSpPr>
        <p:spPr>
          <a:xfrm>
            <a:off x="357120" y="6021360"/>
            <a:ext cx="542880" cy="432000"/>
          </a:xfrm>
          <a:custGeom>
            <a:avLst/>
            <a:gdLst>
              <a:gd name="textAreaLeft" fmla="*/ 27720 w 542880"/>
              <a:gd name="textAreaRight" fmla="*/ 515160 w 5428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7139" h="21600">
                <a:moveTo>
                  <a:pt x="0" y="0"/>
                </a:moveTo>
                <a:lnTo>
                  <a:pt x="27139" y="0"/>
                </a:lnTo>
                <a:lnTo>
                  <a:pt x="27139" y="21600"/>
                </a:lnTo>
                <a:lnTo>
                  <a:pt x="0" y="21600"/>
                </a:lnTo>
                <a:close/>
              </a:path>
              <a:path fill="lightenLess" w="27139" h="21600">
                <a:moveTo>
                  <a:pt x="0" y="0"/>
                </a:moveTo>
                <a:lnTo>
                  <a:pt x="27139" y="0"/>
                </a:lnTo>
                <a:lnTo>
                  <a:pt x="25739" y="1400"/>
                </a:lnTo>
                <a:lnTo>
                  <a:pt x="1400" y="1400"/>
                </a:lnTo>
                <a:close/>
              </a:path>
              <a:path fill="darken" w="27139" h="21600">
                <a:moveTo>
                  <a:pt x="27139" y="0"/>
                </a:moveTo>
                <a:lnTo>
                  <a:pt x="27139" y="21600"/>
                </a:lnTo>
                <a:lnTo>
                  <a:pt x="25739" y="20200"/>
                </a:lnTo>
                <a:lnTo>
                  <a:pt x="25739" y="1400"/>
                </a:lnTo>
                <a:close/>
              </a:path>
              <a:path fill="darkenLess" w="27139" h="21600">
                <a:moveTo>
                  <a:pt x="27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39" y="20200"/>
                </a:lnTo>
                <a:close/>
              </a:path>
              <a:path fill="lighten" w="27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139" h="21600">
                <a:moveTo>
                  <a:pt x="6563" y="10800"/>
                </a:moveTo>
                <a:lnTo>
                  <a:pt x="20576" y="3794"/>
                </a:lnTo>
                <a:lnTo>
                  <a:pt x="2057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366040" y="602136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grantto.narod.ru/photo11.gif"/>
          <p:cNvPicPr/>
          <p:nvPr/>
        </p:nvPicPr>
        <p:blipFill>
          <a:blip r:embed="rId1"/>
          <a:stretch/>
        </p:blipFill>
        <p:spPr>
          <a:xfrm>
            <a:off x="7305840" y="20520"/>
            <a:ext cx="1670040" cy="37674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1" descr=""/>
          <p:cNvPicPr/>
          <p:nvPr/>
        </p:nvPicPr>
        <p:blipFill>
          <a:blip r:embed="rId2"/>
          <a:stretch/>
        </p:blipFill>
        <p:spPr>
          <a:xfrm>
            <a:off x="1359000" y="128520"/>
            <a:ext cx="6230880" cy="10112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3"/>
          <a:stretch/>
        </p:blipFill>
        <p:spPr>
          <a:xfrm>
            <a:off x="139680" y="762120"/>
            <a:ext cx="1517760" cy="11397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"/>
          <p:cNvPicPr/>
          <p:nvPr/>
        </p:nvPicPr>
        <p:blipFill>
          <a:blip r:embed="rId4"/>
          <a:stretch/>
        </p:blipFill>
        <p:spPr>
          <a:xfrm>
            <a:off x="5651640" y="1090440"/>
            <a:ext cx="1498320" cy="14814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5"/>
          <a:stretch/>
        </p:blipFill>
        <p:spPr>
          <a:xfrm>
            <a:off x="450720" y="2163600"/>
            <a:ext cx="1640160" cy="11462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6"/>
          <a:stretch/>
        </p:blipFill>
        <p:spPr>
          <a:xfrm>
            <a:off x="2389320" y="3176640"/>
            <a:ext cx="1785960" cy="11872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"/>
          <p:cNvPicPr/>
          <p:nvPr/>
        </p:nvPicPr>
        <p:blipFill>
          <a:blip r:embed="rId7"/>
          <a:stretch/>
        </p:blipFill>
        <p:spPr>
          <a:xfrm>
            <a:off x="5772240" y="4194000"/>
            <a:ext cx="1377720" cy="1378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10"/>
          <p:cNvSpPr/>
          <p:nvPr/>
        </p:nvSpPr>
        <p:spPr>
          <a:xfrm>
            <a:off x="1500120" y="996840"/>
            <a:ext cx="48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1) створення групи для координації проек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11" descr=""/>
          <p:cNvPicPr/>
          <p:nvPr/>
        </p:nvPicPr>
        <p:blipFill>
          <a:blip r:embed="rId8"/>
          <a:stretch/>
        </p:blipFill>
        <p:spPr>
          <a:xfrm>
            <a:off x="1170000" y="5261040"/>
            <a:ext cx="1908000" cy="1292040"/>
          </a:xfrm>
          <a:prstGeom prst="rect">
            <a:avLst/>
          </a:prstGeom>
          <a:ln w="0">
            <a:noFill/>
          </a:ln>
        </p:spPr>
      </p:pic>
      <p:sp>
        <p:nvSpPr>
          <p:cNvPr id="75" name="TextBox 12"/>
          <p:cNvSpPr/>
          <p:nvPr/>
        </p:nvSpPr>
        <p:spPr>
          <a:xfrm>
            <a:off x="139680" y="1811160"/>
            <a:ext cx="55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2) пошук інвесторів та збір коштів для розширення матеріальної бази проек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2124000" y="2575080"/>
            <a:ext cx="52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3) розробка інженерного проекту місцевост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4067280" y="3359160"/>
            <a:ext cx="37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4) очищення відібраної місцевості для майбутнього майданч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119160" y="4365720"/>
            <a:ext cx="659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5) безпосередні роботи із вкладення газону, огорожі та футбольної атрибу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3051000" y="5583240"/>
            <a:ext cx="47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6) проведення благодійних матчів та відкритих тренувань місцевих кома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8" descr=""/>
          <p:cNvPicPr/>
          <p:nvPr/>
        </p:nvPicPr>
        <p:blipFill>
          <a:blip r:embed="rId1"/>
          <a:stretch/>
        </p:blipFill>
        <p:spPr>
          <a:xfrm rot="19773000">
            <a:off x="4950000" y="3769920"/>
            <a:ext cx="949320" cy="89532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углом вверх 17"/>
          <p:cNvSpPr/>
          <p:nvPr/>
        </p:nvSpPr>
        <p:spPr>
          <a:xfrm>
            <a:off x="3371760" y="3527280"/>
            <a:ext cx="3144960" cy="2016360"/>
          </a:xfrm>
          <a:custGeom>
            <a:avLst/>
            <a:gdLst/>
            <a:ahLst/>
            <a:rect l="l" t="t" r="r" b="b"/>
            <a:pathLst>
              <a:path w="3144838" h="2016125">
                <a:moveTo>
                  <a:pt x="0" y="1761468"/>
                </a:moveTo>
                <a:lnTo>
                  <a:pt x="2762853" y="1761468"/>
                </a:lnTo>
                <a:lnTo>
                  <a:pt x="2762853" y="456531"/>
                </a:lnTo>
                <a:lnTo>
                  <a:pt x="2635525" y="456531"/>
                </a:lnTo>
                <a:lnTo>
                  <a:pt x="2890181" y="0"/>
                </a:lnTo>
                <a:lnTo>
                  <a:pt x="3144838" y="456531"/>
                </a:lnTo>
                <a:lnTo>
                  <a:pt x="3017510" y="456531"/>
                </a:lnTo>
                <a:lnTo>
                  <a:pt x="3017510" y="2016125"/>
                </a:lnTo>
                <a:lnTo>
                  <a:pt x="0" y="2016125"/>
                </a:lnTo>
                <a:lnTo>
                  <a:pt x="0" y="1761468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трелка вниз 12"/>
          <p:cNvSpPr/>
          <p:nvPr/>
        </p:nvSpPr>
        <p:spPr>
          <a:xfrm>
            <a:off x="2225520" y="3110040"/>
            <a:ext cx="401760" cy="939600"/>
          </a:xfrm>
          <a:prstGeom prst="down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Картинка 133 из 36027"/>
          <p:cNvPicPr/>
          <p:nvPr/>
        </p:nvPicPr>
        <p:blipFill>
          <a:blip r:embed="rId2"/>
          <a:stretch/>
        </p:blipFill>
        <p:spPr>
          <a:xfrm>
            <a:off x="7201080" y="96840"/>
            <a:ext cx="1728720" cy="1942920"/>
          </a:xfrm>
          <a:prstGeom prst="rect">
            <a:avLst/>
          </a:prstGeom>
          <a:ln w="0">
            <a:noFill/>
          </a:ln>
        </p:spPr>
      </p:pic>
      <p:sp>
        <p:nvSpPr>
          <p:cNvPr id="84" name="Управляющая кнопка: назад 1">
            <a:hlinkClick r:id="" action="ppaction://hlinkshowjump?jump=previousslide"/>
          </p:cNvPr>
          <p:cNvSpPr/>
          <p:nvPr/>
        </p:nvSpPr>
        <p:spPr>
          <a:xfrm>
            <a:off x="357120" y="6093000"/>
            <a:ext cx="614520" cy="431640"/>
          </a:xfrm>
          <a:custGeom>
            <a:avLst/>
            <a:gdLst>
              <a:gd name="textAreaLeft" fmla="*/ 27720 w 614520"/>
              <a:gd name="textAreaRight" fmla="*/ 586800 w 6145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0744" h="21600">
                <a:moveTo>
                  <a:pt x="0" y="0"/>
                </a:moveTo>
                <a:lnTo>
                  <a:pt x="30744" y="0"/>
                </a:lnTo>
                <a:lnTo>
                  <a:pt x="30744" y="21600"/>
                </a:lnTo>
                <a:lnTo>
                  <a:pt x="0" y="21600"/>
                </a:lnTo>
                <a:close/>
              </a:path>
              <a:path fill="lightenLess" w="30744" h="21600">
                <a:moveTo>
                  <a:pt x="0" y="0"/>
                </a:moveTo>
                <a:lnTo>
                  <a:pt x="30744" y="0"/>
                </a:lnTo>
                <a:lnTo>
                  <a:pt x="29344" y="1400"/>
                </a:lnTo>
                <a:lnTo>
                  <a:pt x="1400" y="1400"/>
                </a:lnTo>
                <a:close/>
              </a:path>
              <a:path fill="darken" w="30744" h="21600">
                <a:moveTo>
                  <a:pt x="30744" y="0"/>
                </a:moveTo>
                <a:lnTo>
                  <a:pt x="30744" y="21600"/>
                </a:lnTo>
                <a:lnTo>
                  <a:pt x="29344" y="20200"/>
                </a:lnTo>
                <a:lnTo>
                  <a:pt x="29344" y="1400"/>
                </a:lnTo>
                <a:close/>
              </a:path>
              <a:path fill="darkenLess" w="30744" h="21600">
                <a:moveTo>
                  <a:pt x="30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44" y="20200"/>
                </a:lnTo>
                <a:close/>
              </a:path>
              <a:path fill="lighten" w="30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44" h="21600">
                <a:moveTo>
                  <a:pt x="8366" y="10800"/>
                </a:moveTo>
                <a:lnTo>
                  <a:pt x="22378" y="3794"/>
                </a:lnTo>
                <a:lnTo>
                  <a:pt x="2237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956720" y="613260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5" descr=""/>
          <p:cNvPicPr/>
          <p:nvPr/>
        </p:nvPicPr>
        <p:blipFill>
          <a:blip r:embed="rId3"/>
          <a:stretch/>
        </p:blipFill>
        <p:spPr>
          <a:xfrm>
            <a:off x="4443480" y="1852560"/>
            <a:ext cx="3865320" cy="17258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"/>
          <p:cNvPicPr/>
          <p:nvPr/>
        </p:nvPicPr>
        <p:blipFill>
          <a:blip r:embed="rId4"/>
          <a:stretch/>
        </p:blipFill>
        <p:spPr>
          <a:xfrm>
            <a:off x="291960" y="1243080"/>
            <a:ext cx="274320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9" descr=""/>
          <p:cNvPicPr/>
          <p:nvPr/>
        </p:nvPicPr>
        <p:blipFill>
          <a:blip r:embed="rId5"/>
          <a:stretch/>
        </p:blipFill>
        <p:spPr>
          <a:xfrm>
            <a:off x="798480" y="19080"/>
            <a:ext cx="6162840" cy="1359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3" descr=""/>
          <p:cNvPicPr/>
          <p:nvPr/>
        </p:nvPicPr>
        <p:blipFill>
          <a:blip r:embed="rId6"/>
          <a:stretch/>
        </p:blipFill>
        <p:spPr>
          <a:xfrm>
            <a:off x="2054160" y="40114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317240" y="1628640"/>
            <a:ext cx="662796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iso.interatletika.com.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k-sport.com.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footboom.com.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Картинка 173 из 36223"/>
          <p:cNvPicPr/>
          <p:nvPr/>
        </p:nvPicPr>
        <p:blipFill>
          <a:blip r:embed="rId1"/>
          <a:stretch/>
        </p:blipFill>
        <p:spPr>
          <a:xfrm>
            <a:off x="4365720" y="3728880"/>
            <a:ext cx="1863720" cy="2521080"/>
          </a:xfrm>
          <a:prstGeom prst="rect">
            <a:avLst/>
          </a:prstGeom>
          <a:ln w="0">
            <a:noFill/>
          </a:ln>
        </p:spPr>
      </p:pic>
      <p:sp>
        <p:nvSpPr>
          <p:cNvPr id="92" name="Управляющая кнопка: в начало 3">
            <a:hlinkClick r:id="" action="ppaction://hlinkshowjump?jump=firstslide"/>
          </p:cNvPr>
          <p:cNvSpPr/>
          <p:nvPr/>
        </p:nvSpPr>
        <p:spPr>
          <a:xfrm>
            <a:off x="549360" y="6045120"/>
            <a:ext cx="576000" cy="408240"/>
          </a:xfrm>
          <a:custGeom>
            <a:avLst/>
            <a:gdLst>
              <a:gd name="textAreaLeft" fmla="*/ 26280 w 576000"/>
              <a:gd name="textAreaRight" fmla="*/ 549720 w 576000"/>
              <a:gd name="textAreaTop" fmla="*/ 26280 h 408240"/>
              <a:gd name="textAreaBottom" fmla="*/ 381960 h 408240"/>
            </a:gdLst>
            <a:ahLst/>
            <a:rect l="textAreaLeft" t="textAreaTop" r="textAreaRight" b="textAreaBottom"/>
            <a:pathLst>
              <a:path w="30468" h="21600">
                <a:moveTo>
                  <a:pt x="0" y="0"/>
                </a:moveTo>
                <a:lnTo>
                  <a:pt x="30468" y="0"/>
                </a:lnTo>
                <a:lnTo>
                  <a:pt x="30468" y="21600"/>
                </a:lnTo>
                <a:lnTo>
                  <a:pt x="0" y="21600"/>
                </a:lnTo>
                <a:close/>
              </a:path>
              <a:path fill="lightenLess" w="30468" h="21600">
                <a:moveTo>
                  <a:pt x="0" y="0"/>
                </a:moveTo>
                <a:lnTo>
                  <a:pt x="30468" y="0"/>
                </a:lnTo>
                <a:lnTo>
                  <a:pt x="29068" y="1400"/>
                </a:lnTo>
                <a:lnTo>
                  <a:pt x="1400" y="1400"/>
                </a:lnTo>
                <a:close/>
              </a:path>
              <a:path fill="darken" w="30468" h="21600">
                <a:moveTo>
                  <a:pt x="30468" y="0"/>
                </a:moveTo>
                <a:lnTo>
                  <a:pt x="30468" y="21600"/>
                </a:lnTo>
                <a:lnTo>
                  <a:pt x="29068" y="20200"/>
                </a:lnTo>
                <a:lnTo>
                  <a:pt x="29068" y="1400"/>
                </a:lnTo>
                <a:close/>
              </a:path>
              <a:path fill="darkenLess" w="30468" h="21600">
                <a:moveTo>
                  <a:pt x="30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8" y="20200"/>
                </a:lnTo>
                <a:close/>
              </a:path>
              <a:path fill="lighten" w="30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8" h="21600">
                <a:moveTo>
                  <a:pt x="11735" y="10800"/>
                </a:moveTo>
                <a:lnTo>
                  <a:pt x="22241" y="3794"/>
                </a:lnTo>
                <a:lnTo>
                  <a:pt x="22241" y="17806"/>
                </a:lnTo>
                <a:close/>
              </a:path>
              <a:path fill="darken" w="30468" h="21600">
                <a:moveTo>
                  <a:pt x="8228" y="3794"/>
                </a:moveTo>
                <a:lnTo>
                  <a:pt x="9890" y="3794"/>
                </a:lnTo>
                <a:lnTo>
                  <a:pt x="9890" y="17806"/>
                </a:lnTo>
                <a:lnTo>
                  <a:pt x="8228" y="17806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Прямоугольник 5" descr=""/>
          <p:cNvPicPr/>
          <p:nvPr/>
        </p:nvPicPr>
        <p:blipFill>
          <a:blip r:embed="rId2"/>
          <a:stretch/>
        </p:blipFill>
        <p:spPr>
          <a:xfrm>
            <a:off x="450720" y="255600"/>
            <a:ext cx="8352000" cy="1305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10:41:33Z</dcterms:created>
  <dc:creator>XTreme</dc:creator>
  <dc:description/>
  <dc:language>en-US</dc:language>
  <cp:lastModifiedBy>Вова</cp:lastModifiedBy>
  <dcterms:modified xsi:type="dcterms:W3CDTF">2013-02-01T05:46:55Z</dcterms:modified>
  <cp:revision>41</cp:revision>
  <dc:subject/>
  <dc:title>Футбол</dc:title>
</cp:coreProperties>
</file>