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95F6-9D7C-4ABB-BB23-8649438C100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C86E-771C-495C-B2E7-5DD269F80E96}" type="slidenum">
              <a:rPr b="0" lang="ru-RU" sz="1200" spc="-1" strike="noStrike">
                <a:solidFill>
                  <a:srgbClr val="8383a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FE83-AE79-4210-BF30-340693508AB7}" type="slidenum">
              <a:rPr b="0" lang="ru-RU" sz="1200" spc="-1" strike="noStrike">
                <a:solidFill>
                  <a:srgbClr val="8383a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8A4-7804-47C9-BEB9-4225BF4F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601-CB4B-41AA-A703-064A20D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8A3-450D-4C6F-B873-468420F7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522-EA83-436B-A83A-77E6E49E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1C9-403C-4F90-9564-37B8952E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EDC-B3D6-4CFA-9AFE-353FD546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DF1-423B-449D-99A3-591179C6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0A7-47D5-4F8A-AAB5-8FCDD658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66C-B2DA-4C33-AAEB-646E573B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D74-7A3E-4E1F-ABEB-8A15671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1CF-B756-4A1C-94DB-3ED71EF3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AC5-31AB-4CFD-93D4-CF060869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E7CC-9F0E-48D3-8C3A-9ABA1DE6BAA4}" type="slidenum">
              <a:rPr b="0" lang="uk-UA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  </a:t>
            </a: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Федачківський В. Д.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142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брика “ейнштейнів”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107" name="Picture 7" descr="Einsteina"/>
          <p:cNvPicPr/>
          <p:nvPr/>
        </p:nvPicPr>
        <p:blipFill>
          <a:blip r:embed="rId1"/>
          <a:stretch/>
        </p:blipFill>
        <p:spPr>
          <a:xfrm>
            <a:off x="3317760" y="3141720"/>
            <a:ext cx="2810160" cy="331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176"/>
                </a:solidFill>
                <a:latin typeface="Times New Roman"/>
              </a:rPr>
              <a:t>Фізика - не застаріла наука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55" name="Picture 7" descr="r1"/>
          <p:cNvPicPr/>
          <p:nvPr/>
        </p:nvPicPr>
        <p:blipFill>
          <a:blip r:embed="rId1"/>
          <a:stretch/>
        </p:blipFill>
        <p:spPr>
          <a:xfrm>
            <a:off x="324000" y="1052640"/>
            <a:ext cx="4330440" cy="3698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331370_html_m16cc31ea"/>
          <p:cNvPicPr/>
          <p:nvPr/>
        </p:nvPicPr>
        <p:blipFill>
          <a:blip r:embed="rId2"/>
          <a:stretch/>
        </p:blipFill>
        <p:spPr>
          <a:xfrm>
            <a:off x="4680000" y="3943440"/>
            <a:ext cx="4356000" cy="2509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4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608720" cy="2775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Dt4_102"/>
          <p:cNvPicPr/>
          <p:nvPr/>
        </p:nvPicPr>
        <p:blipFill>
          <a:blip r:embed="rId4"/>
          <a:stretch/>
        </p:blipFill>
        <p:spPr>
          <a:xfrm>
            <a:off x="4859280" y="1197000"/>
            <a:ext cx="415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4176"/>
                </a:solidFill>
                <a:latin typeface="Times New Roman"/>
              </a:rPr>
              <a:t>Висновки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85920" y="155736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</a:rPr>
              <a:t>Активізація пізнавальної діяльності учні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</a:rPr>
              <a:t>Ознайомлення учнів з передовими засобами пізнанн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</a:rPr>
              <a:t>Підготовка учнів до свідомого вибору майбутньої професії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</a:rPr>
              <a:t>Реклама, піар фізмат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1332000" y="1916280"/>
            <a:ext cx="71992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якую за уваг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ОСНОВНА ПРОБЛЕМА</a:t>
            </a:r>
            <a:br>
              <a:rPr sz="4000"/>
            </a:br>
            <a:r>
              <a:rPr b="0" lang="uk-UA" sz="3200" spc="-1" strike="noStrike">
                <a:solidFill>
                  <a:srgbClr val="404176"/>
                </a:solidFill>
                <a:latin typeface="Times New Roman"/>
              </a:rPr>
              <a:t>на вирішення якої спрямований проект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1" name="Содержимое 4"/>
          <p:cNvSpPr/>
          <p:nvPr/>
        </p:nvSpPr>
        <p:spPr>
          <a:xfrm>
            <a:off x="714240" y="177336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меншення кількості студентів, що навчаються за спеціальністю “фізика” на фізико-математичному факультеті ТНПУ ім. В. Гнатюк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2" name="Содержимое 4"/>
          <p:cNvSpPr/>
          <p:nvPr/>
        </p:nvSpPr>
        <p:spPr>
          <a:xfrm>
            <a:off x="0" y="3429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0" lang="uk-UA" sz="28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Статистик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    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ержавне замовлення (чол.)              Набір студентів (чол.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011 рік</a:t>
            </a:r>
            <a:r>
              <a:rPr b="0" lang="uk-UA" sz="2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                         15                                                     9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012 рік</a:t>
            </a:r>
            <a:r>
              <a:rPr b="0" lang="uk-UA" sz="2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                         20                                                    15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9966"/>
                </a:solidFill>
                <a:latin typeface="Arial"/>
              </a:rPr>
              <a:t>Як проблему зараз вирішують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114" name="Picture 19" descr="getImage"/>
          <p:cNvPicPr/>
          <p:nvPr/>
        </p:nvPicPr>
        <p:blipFill>
          <a:blip r:embed="rId1"/>
          <a:stretch/>
        </p:blipFill>
        <p:spPr>
          <a:xfrm>
            <a:off x="250920" y="249228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zablozkyi_300-293"/>
          <p:cNvPicPr/>
          <p:nvPr/>
        </p:nvPicPr>
        <p:blipFill>
          <a:blip r:embed="rId2"/>
          <a:stretch/>
        </p:blipFill>
        <p:spPr>
          <a:xfrm>
            <a:off x="5985000" y="2924280"/>
            <a:ext cx="3159000" cy="32353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7"/>
          <p:cNvSpPr/>
          <p:nvPr/>
        </p:nvSpPr>
        <p:spPr>
          <a:xfrm>
            <a:off x="3059280" y="2421000"/>
            <a:ext cx="2520720" cy="1150920"/>
          </a:xfrm>
          <a:prstGeom prst="wedgeRoundRectCallout">
            <a:avLst>
              <a:gd name="adj1" fmla="val -67819"/>
              <a:gd name="adj2" fmla="val 72481"/>
              <a:gd name="adj3" fmla="val 16667"/>
            </a:avLst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7" name="Содержимое 4"/>
          <p:cNvSpPr/>
          <p:nvPr/>
        </p:nvSpPr>
        <p:spPr>
          <a:xfrm>
            <a:off x="2843280" y="2349360"/>
            <a:ext cx="2778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івєт! Маєш може студентів, які на державне не пройшли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8" name="AutoShape 29"/>
          <p:cNvSpPr/>
          <p:nvPr/>
        </p:nvSpPr>
        <p:spPr>
          <a:xfrm flipH="1">
            <a:off x="4859280" y="3860640"/>
            <a:ext cx="1944720" cy="576360"/>
          </a:xfrm>
          <a:prstGeom prst="wedgeRectCallout">
            <a:avLst>
              <a:gd name="adj1" fmla="val -78328"/>
              <a:gd name="adj2" fmla="val 4503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19" name="Содержимое 4"/>
          <p:cNvSpPr/>
          <p:nvPr/>
        </p:nvSpPr>
        <p:spPr>
          <a:xfrm>
            <a:off x="4716360" y="3716280"/>
            <a:ext cx="277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 маю, а шо?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0" name="Содержимое 4"/>
          <p:cNvSpPr/>
          <p:nvPr/>
        </p:nvSpPr>
        <p:spPr>
          <a:xfrm>
            <a:off x="250920" y="6094440"/>
            <a:ext cx="345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сістий Павло Васильович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1" name="Содержимое 4"/>
          <p:cNvSpPr/>
          <p:nvPr/>
        </p:nvSpPr>
        <p:spPr>
          <a:xfrm>
            <a:off x="5435640" y="6093000"/>
            <a:ext cx="431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кан географічного факультету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2" name="Содержимое 4"/>
          <p:cNvSpPr/>
          <p:nvPr/>
        </p:nvSpPr>
        <p:spPr>
          <a:xfrm>
            <a:off x="2771640" y="2494080"/>
            <a:ext cx="277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й нам пару студентів на фізику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3" name="Содержимое 4"/>
          <p:cNvSpPr/>
          <p:nvPr/>
        </p:nvSpPr>
        <p:spPr>
          <a:xfrm>
            <a:off x="4500720" y="3645000"/>
            <a:ext cx="277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ільки заради тебе Павлуша!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Імовірні причини виникнення проблеми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268280"/>
            <a:ext cx="8496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Фізика значною частиною учнів сприймається як застаріла наука у звязку із використанням у ЗОШ фізично і морально застарілого обладнанн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Фізика в очах учнів виглядає не привабливою, не перспективною наукою в плані карєрних можливостей професії фізи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Зміщення інтересів учнів з вивчення фізики на вивчення інформатик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826920" y="35002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гурток</a:t>
            </a:r>
            <a:br>
              <a:rPr sz="4400"/>
            </a:br>
            <a:br>
              <a:rPr sz="4400"/>
            </a:br>
            <a:r>
              <a:rPr b="0" lang="uk-UA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брика “ейнштейнів”</a:t>
            </a:r>
            <a:endParaRPr b="0" lang="en-US" sz="6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7" name="Содержимое 4"/>
          <p:cNvSpPr/>
          <p:nvPr/>
        </p:nvSpPr>
        <p:spPr>
          <a:xfrm>
            <a:off x="826920" y="476280"/>
            <a:ext cx="7772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9966"/>
                </a:solidFill>
                <a:latin typeface="Arial"/>
              </a:rPr>
              <a:t>Як проблему ми пропонуємо вирішит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Заголовок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ЯКИМ ЧИНОМ ПРОЕКТ ЗМІНИТЬ УЯВЛЕННЯ УЧНІВ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29" name="Содержимое 2"/>
          <p:cNvSpPr/>
          <p:nvPr/>
        </p:nvSpPr>
        <p:spPr>
          <a:xfrm>
            <a:off x="468360" y="1785960"/>
            <a:ext cx="816912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Робота учнів на гуртку з сучасним фізичним обладнанням (цифровими давачами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Використання компютерних методів обробки експериментальних даних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Виконання учнями за домашніх умов із використанням НІТ експериментів більш складного рівня ніж  ті, що пропонуються в ЗОШ і навіть у ВНЗ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04176"/>
                </a:solidFill>
                <a:latin typeface="Times New Roman"/>
              </a:rPr>
              <a:t>ЩО ЦЕ ДАСТЬ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468360" y="1484280"/>
            <a:ext cx="816912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Виконання фізматом держзамовлення за спеціальністю “фізика”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Реклама, піар фізмату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47405"/>
                </a:solidFill>
                <a:latin typeface="Times New Roman"/>
                <a:ea typeface="Times New Roman"/>
              </a:rPr>
              <a:t>Ознайомлення учнів з сучасним фізичним обладнанням та сучасними експериментальними методами. Активізація пізнавальної діяльності учнів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9"/>
          <p:cNvSpPr/>
          <p:nvPr/>
        </p:nvSpPr>
        <p:spPr>
          <a:xfrm>
            <a:off x="1258920" y="765000"/>
            <a:ext cx="6265800" cy="457200"/>
          </a:xfrm>
          <a:prstGeom prst="flowChartAlternateProcess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6699"/>
                </a:solidFill>
                <a:latin typeface="Times New Roman"/>
              </a:rPr>
              <a:t>Напрями діяльності гуртк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250920" y="1773360"/>
            <a:ext cx="3816360" cy="6825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Times New Roman"/>
              </a:rPr>
              <a:t>Проведення експерименті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Times New Roman"/>
              </a:rPr>
              <a:t>із використанням НІ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5102280" y="1773360"/>
            <a:ext cx="3646440" cy="6508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Times New Roman"/>
              </a:rPr>
              <a:t>Комп’ютерна обробка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Times New Roman"/>
              </a:rPr>
              <a:t>експериментальних даних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512640" y="2852640"/>
            <a:ext cx="139536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Times New Roman"/>
              </a:rPr>
              <a:t>на гуртку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Oval 17"/>
          <p:cNvSpPr/>
          <p:nvPr/>
        </p:nvSpPr>
        <p:spPr>
          <a:xfrm>
            <a:off x="2552760" y="2852640"/>
            <a:ext cx="1371600" cy="720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6699"/>
                </a:solidFill>
                <a:latin typeface="Times New Roman"/>
              </a:rPr>
              <a:t>вдом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79280" y="4221000"/>
            <a:ext cx="2314800" cy="223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икористання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цифрових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авачів на основі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аналогово-цифрових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перетворювачів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H="1">
            <a:off x="2484000" y="1247760"/>
            <a:ext cx="1295640" cy="38088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5076720" y="1197000"/>
            <a:ext cx="1447920" cy="38088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 flipH="1">
            <a:off x="1332000" y="2476440"/>
            <a:ext cx="838080" cy="30492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2484360" y="2492280"/>
            <a:ext cx="457200" cy="38124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" name="Line 37"/>
          <p:cNvSpPr/>
          <p:nvPr/>
        </p:nvSpPr>
        <p:spPr>
          <a:xfrm>
            <a:off x="3492360" y="3573360"/>
            <a:ext cx="432000" cy="50328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3" name="Line 38"/>
          <p:cNvSpPr/>
          <p:nvPr/>
        </p:nvSpPr>
        <p:spPr>
          <a:xfrm>
            <a:off x="1619280" y="3500280"/>
            <a:ext cx="1793880" cy="53820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7308720" y="2421000"/>
            <a:ext cx="576360" cy="151272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" name="Line 39"/>
          <p:cNvSpPr/>
          <p:nvPr/>
        </p:nvSpPr>
        <p:spPr>
          <a:xfrm flipH="1">
            <a:off x="6156000" y="2421000"/>
            <a:ext cx="576360" cy="158436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2843280" y="4221000"/>
            <a:ext cx="1800000" cy="223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дзнімання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експериментів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на відео т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фотознімк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1332000" y="3645000"/>
            <a:ext cx="0" cy="431640"/>
          </a:xfrm>
          <a:prstGeom prst="line">
            <a:avLst/>
          </a:prstGeom>
          <a:ln w="28440">
            <a:solidFill>
              <a:srgbClr val="4041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5003640" y="4149720"/>
            <a:ext cx="180036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Обробка даних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експерименту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методом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апроксимації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7093080" y="4076640"/>
            <a:ext cx="180000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Обробк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омп’ютерними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засобам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део та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фотознімків з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дзнятими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ослідами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9"/>
          <p:cNvSpPr/>
          <p:nvPr/>
        </p:nvSpPr>
        <p:spPr>
          <a:xfrm>
            <a:off x="1692360" y="1486080"/>
            <a:ext cx="6300720" cy="52560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1" name="Заголовок 4"/>
          <p:cNvSpPr/>
          <p:nvPr/>
        </p:nvSpPr>
        <p:spPr>
          <a:xfrm>
            <a:off x="119232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04176"/>
                </a:solidFill>
                <a:latin typeface="Times New Roman"/>
              </a:rPr>
              <a:t>Фізика – не наука ручки та паперу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6200" y="1353960"/>
          <a:ext cx="3097440" cy="2724480"/>
        </p:xfrm>
        <a:graphic>
          <a:graphicData uri="http://schemas.openxmlformats.org/drawingml/2006/table">
            <a:tbl>
              <a:tblPr/>
              <a:tblGrid>
                <a:gridCol w="619200"/>
                <a:gridCol w="619200"/>
                <a:gridCol w="620640"/>
                <a:gridCol w="619200"/>
                <a:gridCol w="61920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ліду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, A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, B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, </a:t>
                      </a: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м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R&gt;, </a:t>
                      </a: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м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8720">
                      <a:solidFill>
                        <a:srgbClr val="8383ad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872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3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9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153" name="Рисунок 1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916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9:41:12Z</dcterms:created>
  <dc:creator>Ольга</dc:creator>
  <dc:description/>
  <dc:language>en-US</dc:language>
  <cp:lastModifiedBy>admin</cp:lastModifiedBy>
  <dcterms:modified xsi:type="dcterms:W3CDTF">2013-01-31T12:56:48Z</dcterms:modified>
  <cp:revision>124</cp:revision>
  <dc:subject/>
  <dc:title>О.В.Гончар</dc:title>
</cp:coreProperties>
</file>